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00063-1C4E-427F-8566-3979DEFE5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6F396-19A8-4D26-9108-7A8263D5A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B9AB1-2BF1-41AA-8572-93A9A40A2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778B8-3805-40F6-B2AC-27C967206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ED378-D03B-4C9B-965E-462959888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072D1-E6B6-4CA6-B8A3-FD5B8483E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2C26A-E80F-484C-AC7A-C456744D1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941AD-451B-406D-8BB6-378A776F2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6BD7E-9C84-4088-ACF4-CDD4D83B6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B51A0-F59D-4F1B-9146-181DC9265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2A918-5439-4023-BF0D-D315C0180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1CF13-408A-4E43-AC19-1A4C43376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45B4E-75F3-4057-912F-4C411B469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690840" indent="-26568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06272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48788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191304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6FB73-C8E4-40F5-B7E1-C9D8CE2800C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480"/>
            <a:ext cx="6553080" cy="3810240"/>
          </a:xfrm>
          <a:prstGeom prst="rect">
            <a:avLst/>
          </a:prstGeom>
          <a:noFill/>
          <a:ln w="0">
            <a:noFill/>
          </a:ln>
        </p:spPr>
        <p:txBody>
          <a:bodyPr lIns="90000" rIns="90000" tIns="46800" bIns="46800" anchor="t">
            <a:no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ive specific examples to support your arguments.</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velop your thoughts and elaborate in your paragraphs.  Ask yourself, “Would I be convinced?”</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late to the reader by putting yourself in his or her shoes.</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e persuasive words…….</a:t>
            </a:r>
            <a:endParaRPr b="0" lang="en-US" sz="28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3000"/>
          </a:bodyPr>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7-08-02T17:16:24Z</dcterms:modified>
  <cp:revision>27</cp:revision>
  <dc:subject/>
  <dc:title>Persuasive Writing</dc:title>
</cp:coreProperties>
</file>