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3354-FA5D-458F-807A-A89300EAF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-8.22 (B) Interpret important events and ideas gathered from visu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2 (G) Recognize and analyze story plot, setting, and problem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0 (D) Describe mental images the text evo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56D-C7CB-4B0B-ADA3-B8CDE22C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FE0-1316-4C66-B4FE-C74EC1F0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AE0-5E66-49C0-8585-8F3E601B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4D5-E346-456E-9FF5-AD807CB0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E02-A5B3-4227-BAA1-AFF1E7E2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ADA-E2D5-4FC3-92E0-65CF8ACB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8A2-B603-47CE-A992-C2D43A2B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D85-D38C-49CE-9B1A-F49FDF2B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DCF-0EBF-4F56-9245-99B7F863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D9F-C770-4BDC-8F9C-F7D2EC80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303-96F1-430D-B229-F256E19B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2FC-6732-42E8-AB7B-DF136DDE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88A0-6454-4D72-938A-AACF011D6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ljlab</cp:lastModifiedBy>
  <dcterms:modified xsi:type="dcterms:W3CDTF">2007-08-02T18:23:59Z</dcterms:modified>
  <cp:revision>18</cp:revision>
  <dc:subject/>
  <dc:title>Context Clues</dc:title>
</cp:coreProperties>
</file>