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E92F3-5B2F-44C9-8447-6A57F663EDEC}" type="slidenum"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6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italize and punctuate correctly to clarify and enhance mean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804C-F0A7-44A0-B269-27CE631D3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B397-C266-475E-99D7-4CD25DEC0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C1E3-219A-49D1-AED5-719EF8D59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7375-E393-413B-B514-07FE6AD0C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8258-94DF-428C-BDF7-F3A60A4BA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9B6C-111A-41EF-B809-F325F4BB9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EB26-187F-4889-BA55-312CD9BD1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AB5C-0039-497D-B037-0A4444E2C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5753-B2C1-4C3F-9ABE-7C77D5101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C67E-210F-409E-976B-250EC3BA1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86A4-A79C-4B6B-9A48-31914F544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27DC-A70D-4034-822C-B7683C484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A1D3A-57E5-4195-A627-050F5D173E62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riting a Business Letter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business letter may be sent to request information, to make a complaint, or to inform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is written in formal languag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has a heading, inside address, greeting, body, closing, and signatur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4572000"/>
            <a:ext cx="118908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1752480" y="685800"/>
            <a:ext cx="5562360" cy="5486400"/>
            <a:chOff x="1752480" y="685800"/>
            <a:chExt cx="5562360" cy="5486400"/>
          </a:xfrm>
        </p:grpSpPr>
        <p:sp>
          <p:nvSpPr>
            <p:cNvPr id="52" name=""/>
            <p:cNvSpPr/>
            <p:nvPr/>
          </p:nvSpPr>
          <p:spPr>
            <a:xfrm>
              <a:off x="1752480" y="685800"/>
              <a:ext cx="5562360" cy="5486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906560" y="930240"/>
              <a:ext cx="5253480" cy="509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bebeb"/>
                  </a:solidFill>
                  <a:latin typeface="Monotype Corsiva"/>
                </a:rPr>
                <a:t>	</a:t>
              </a:r>
              <a:r>
                <a:rPr b="0" lang="en-US" sz="2400" spc="-1" strike="noStrike">
                  <a:solidFill>
                    <a:srgbClr val="ebebeb"/>
                  </a:solidFill>
                  <a:latin typeface="Monotype Corsiv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123 Sunset Lan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Bryan, TX 78572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July 20, 20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400"/>
              </a:b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Texas A&amp;M Univers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3000 University D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College Station, TX 7857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Dear Sir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This is an example of a business letter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Sincerely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Joh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6172200" y="4114800"/>
            <a:ext cx="9144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800600" y="2362320"/>
            <a:ext cx="228600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657600" y="3429000"/>
            <a:ext cx="144792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33720" y="1066680"/>
            <a:ext cx="266688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828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76520" y="37260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33360" y="1141200"/>
            <a:ext cx="2895480" cy="75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Heading/writer’s </a:t>
            </a:r>
            <a:br>
              <a:rPr sz="2400"/>
            </a:b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address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57600" y="4952880"/>
            <a:ext cx="152388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733920" y="48754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spcBef>
                <a:spcPts val="3750"/>
              </a:spcBef>
              <a:spcAft>
                <a:spcPts val="37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Clos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76920" y="15238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4343400" y="2666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971440" y="36576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5486400" y="43434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257800" y="52578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335124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spcBef>
                <a:spcPts val="3750"/>
              </a:spcBef>
              <a:spcAft>
                <a:spcPts val="37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Gree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72200" y="396108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spcBef>
                <a:spcPts val="3750"/>
              </a:spcBef>
              <a:spcAft>
                <a:spcPts val="37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Body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00600" y="228456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spcBef>
                <a:spcPts val="3750"/>
              </a:spcBef>
              <a:spcAft>
                <a:spcPts val="37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Inside Address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Remember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names of companies, streets, cities, and sta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both letters of the official postal abbreviation for a state. For example, Texas is abbreviated “TX”. Do not use a period after the state abbrevi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 a comma or a colon after the greeting of a letter. Use a comma after the clos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400800" y="304920"/>
            <a:ext cx="206856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5:23:29Z</dcterms:created>
  <dc:creator>Gina Balducci</dc:creator>
  <dc:description/>
  <dc:language>en-US</dc:language>
  <cp:lastModifiedBy>ljlab</cp:lastModifiedBy>
  <dcterms:modified xsi:type="dcterms:W3CDTF">2007-08-02T18:49:10Z</dcterms:modified>
  <cp:revision>17</cp:revision>
  <dc:subject/>
  <dc:title>Writing a Business Letter</dc:title>
</cp:coreProperties>
</file>