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31A9-0FF5-4E77-97D6-6B8357B54B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B21-C445-4F17-86EF-E02A0079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895B-EED7-4B58-9C23-E3B743C4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6BC4-72A1-449D-99A0-2544273F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BA8-7FFB-4942-9B7C-0A9DD4CA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F967-034F-4AE7-AF51-7B26B1BD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C58-196E-4C7C-9DB1-66133D9C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4B1-57D7-4289-A035-0FFE64DA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D7E-085C-417C-9DFA-A36CFFF6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473-6830-4F58-BF0B-41BFB991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D1FB-5364-44E4-AAE9-F4E4345E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62F-22B9-4A13-8E30-3878992C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72F-AED3-43CA-99A3-86E7EC47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5D79-C3A3-414C-9511-34908DE5CB3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3920" y="20574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2035080"/>
            <a:ext cx="3736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7-08-02T18:13:14Z</dcterms:modified>
  <cp:revision>34</cp:revision>
  <dc:subject/>
  <dc:title>Comparing Apples to Oranges</dc:title>
</cp:coreProperties>
</file>