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0D867-170B-4A6C-952A-F53DE662DE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F3E0A-44CB-45F4-A65E-10EC6A6856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D215D-8F1C-40EC-BA1B-97BAD2AC0C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BB269-3052-43EC-AD46-F65483FC36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08745-4113-49B1-8D09-92A4313A82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5C623-CE5B-44A4-B567-3A99ED8B83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A15C8-F03F-45FF-BDEA-12C0F7F8DB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DB0FA-4AFB-4DA8-896C-3BFEFD906C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7439A-3769-4257-AC27-17AFF66E1F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56563-6647-469B-9F71-060B3F56CB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14C05-231D-4D65-9D7B-FD7450CE75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B6C51-130E-4F0E-9330-9F5DE45CEB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E5C4A-3EF5-4C29-AD2A-4AF658DCCD6C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imeter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7732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he perimeter (P) of any closed figure is the distance around the figure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o find the perimeter of a rectangle, add the measures of its four sides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length, 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width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         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ff9966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9966"/>
                </a:solidFill>
                <a:latin typeface="Times New Roman"/>
              </a:rPr>
              <a:t>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w                                         w 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486400" y="4343400"/>
            <a:ext cx="2720880" cy="150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A1A46-5867-4D01-8798-8EAFAC83D9DD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29Z</dcterms:modified>
  <cp:revision>206</cp:revision>
  <dc:subject/>
  <dc:title>VTPP 423 - PHYSIOLOGY</dc:title>
</cp:coreProperties>
</file>