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E66-7315-4349-B8F3-F1DDA803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244-0A48-49D3-88F4-23AB5744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9E2-FC2D-414B-8081-067B08B7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AF4-5549-4C59-B382-248BEE4E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4F4-1170-4687-AE29-68CFB8A7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2E5B-1F7A-4193-9811-B313C016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FE2D-6541-472A-B82E-869A2C1B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D84-27FA-455F-9C9B-26541AAB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E62-1FEB-4AEA-92F0-39CEFA2D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509-16FA-4E34-A23B-9BA00FDB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D6B-F485-406A-9969-A935C6A2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5FA-540D-4FD0-95B7-1209EFE2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6227-FEF2-4487-87E5-B3C435D14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oft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7-08-02T18:50:35Z</dcterms:modified>
  <cp:revision>10</cp:revision>
  <dc:subject/>
  <dc:title>Adverbs Adverbs modify verbs, adjectives, or other adverbs.</dc:title>
</cp:coreProperties>
</file>