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B41E-BEEC-4127-AA2F-92E07E43F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87B6-A3F6-4416-9EAB-324BB132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5174-38D9-4F8D-8C38-1B3E3598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376-CB7D-43EA-9D32-557CD0EF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5D62-CDD6-4395-B136-77878F0D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A63-191B-4CAB-95A4-FCD016D5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51B6-5685-4BF7-8EDF-FE263789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3B98-1A48-40DE-B286-8A22C301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6D56-B76A-4DE6-9EFC-1DA7FD9E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F02-A603-434F-AD22-A5640B9B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A5B9-7369-4B97-957F-E0638FAE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5B42-8FF6-4C4E-8799-5AA892D4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CD81-012B-4619-8F9B-B22FC75F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53BC-216F-4B01-910B-BA2A8068D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 sent word to Sully that he must leave the city becau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lice were after h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worried that Sully would fall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ang war was brew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’s parents were ill and needed h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85840" y="29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84400" y="3573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87280" y="417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10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ne of the following words might best be used in Summer’s report to describe New York Cit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en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90520" y="5143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85840" y="3368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4400" y="3954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87280" y="45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59000" y="2792520"/>
            <a:ext cx="2791080" cy="1257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075200" y="48322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in character in the story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7280" y="43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92320" y="2583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190520" y="3184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84400" y="3782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2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ne of the following characters suffered a tragic los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y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87280" y="47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192320" y="2965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18728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184400" y="417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3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nd her friends told Sully and Liberius that the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ed to build a sub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information for a re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to visit the Statue of Liber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d for the health depart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85840" y="2962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184400" y="35701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187280" y="417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4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 used to be a gang member but went to work for Liberius becau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rot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owed Liberius mon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d not like cheating peo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scared of Liberi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18584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184400" y="3567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187280" y="418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5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NOT a useful context clue for determining the time period described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rse-drawn fire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mberp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ence of the Statue of Lib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e English tea in china c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84400" y="5138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185840" y="3362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184400" y="395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187280" y="455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nd her friends chose to travel back in time to learn more abou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pu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derground Railr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Quaker relig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t Coast shipping ro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90520" y="47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18584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184400" y="3567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187280" y="4175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7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 lived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hat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York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mfortable town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90520" y="43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185840" y="25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184400" y="31845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187280" y="3782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8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 and Josiah traveled to New York C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in freedom by crossing into Can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a Broadway sh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ork for Liberi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live with her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9052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185840" y="25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184400" y="3191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187280" y="378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0:06:45Z</dcterms:modified>
  <cp:revision>52</cp:revision>
  <dc:subject/>
  <dc:title>PowerPoint Presentation</dc:title>
</cp:coreProperties>
</file>