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51304-2697-4FBE-AEC3-B19654B5708A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A36B-BEE3-49E5-807D-539C53F02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4FE2-4936-4E01-A574-EFA2230C7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85E1-3E67-4999-B0C0-707F03F63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E886-2F07-4457-9B28-7732311FB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4E5D-6C9B-4A42-A42F-61CC7ADA9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2276-5886-432F-9273-97E96D6C2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7DF2-6B7E-4AB7-ACFC-F1DB4C642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B30A-505A-4B58-B83E-0A3A95A59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EA34-949F-44BD-8F9C-C01697B42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593A-781F-4FD4-AF91-73BFAD18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766D-1F56-44B4-B82B-E81315C0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4BA1-12A5-4FC1-B8B0-245D360E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B8A19-EA8D-41E8-A080-936CB09475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486400" y="2057400"/>
            <a:ext cx="26798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6560" indent="-466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6560" indent="-466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6560" indent="-466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ljlab</cp:lastModifiedBy>
  <dcterms:modified xsi:type="dcterms:W3CDTF">2007-08-02T17:42:57Z</dcterms:modified>
  <cp:revision>16</cp:revision>
  <dc:subject/>
  <dc:title>Informative Essay</dc:title>
</cp:coreProperties>
</file>