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E684-988C-4537-BF14-E7F013734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A6E-B5E8-4E3C-A064-3C0F5A19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963-A622-4EC2-995E-B0EB9F43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8539-ABE5-4BB8-A1C1-F5BC42A8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839-7597-4859-A8EC-BFA4889B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633-A69E-4FF5-A9AA-E84069F6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BAE-BA1F-47D0-96E7-454EC68D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B91-A199-43F7-89DC-3B941DF8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D635-B055-46B4-8536-27AA5288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6AF9-7242-45D0-8E2D-530E27A0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0E01-3B66-4375-9C73-7A5FA27E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425-F312-4951-A762-C3EDCB6F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9F8-5155-400E-94E8-BF740FD3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9BBA-29CC-48C7-B918-8C04B2690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39:57Z</dcterms:modified>
  <cp:revision>11</cp:revision>
  <dc:subject/>
  <dc:title>Volume &amp; Weight Conversions</dc:title>
</cp:coreProperties>
</file>