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EE053-97F3-4693-BB5D-10B7D8FF5411}" type="slidenum"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ing the appropriate form for own purpose for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F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ing the appropriate form for own purpose for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6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pitalize and punctuate correctly to clarify and enhance mean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73D1-5E11-4B02-910D-5A59A176C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B3C8-EE23-4B1F-9E92-AC4CFE442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A025-0F98-43E8-9297-06AC0DFEC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F084-B2C0-4608-898D-83B4AD165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ECD5-92FB-4100-8E1F-93CD98B35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6618-F10B-4FC5-AF74-E821CA7A1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7A93-31D1-49FF-AC14-F7966043D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9D16-0C11-4883-83FA-21D687FC6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56B0-22D4-4D06-826C-48CE49C16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1052-5B55-40D9-8CB5-E987F05FD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BB99-18EC-4526-B181-FE56697FC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1535-8382-4CBA-AA7B-A33B180EB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47587-0F14-4F14-ACC9-F9057BBE9E52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Writing a Business Letter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 business letter may be sent to request information, to make a complaint, or to inform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t is written in formal language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t has a heading, inside address, greeting, body, closing, and signature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858000" y="4572000"/>
            <a:ext cx="1189080" cy="19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1752480" y="685800"/>
            <a:ext cx="5562360" cy="5486400"/>
            <a:chOff x="1752480" y="685800"/>
            <a:chExt cx="5562360" cy="5486400"/>
          </a:xfrm>
        </p:grpSpPr>
        <p:sp>
          <p:nvSpPr>
            <p:cNvPr id="52" name=""/>
            <p:cNvSpPr/>
            <p:nvPr/>
          </p:nvSpPr>
          <p:spPr>
            <a:xfrm>
              <a:off x="1752480" y="685800"/>
              <a:ext cx="5562360" cy="5486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906560" y="930240"/>
              <a:ext cx="5253480" cy="509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bebeb"/>
                  </a:solidFill>
                  <a:latin typeface="Monotype Corsiva"/>
                </a:rPr>
                <a:t>	</a:t>
              </a:r>
              <a:r>
                <a:rPr b="0" lang="en-US" sz="2400" spc="-1" strike="noStrike">
                  <a:solidFill>
                    <a:srgbClr val="ebebeb"/>
                  </a:solidFill>
                  <a:latin typeface="Monotype Corsiv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Monotype Corsiva"/>
                </a:rPr>
                <a:t>123 Sunset Lane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Monotype Corsiva"/>
                </a:rPr>
                <a:t>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Monotype Corsiv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Monotype Corsiv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Monotype Corsiva"/>
                </a:rPr>
                <a:t>Bryan, TX 78572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Monotype Corsiv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Monotype Corsiv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Monotype Corsiv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Monotype Corsiva"/>
                </a:rPr>
                <a:t>July 20, 20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2400"/>
              </a:br>
              <a:r>
                <a:rPr b="0" lang="en-US" sz="2000" spc="-1" strike="noStrike">
                  <a:solidFill>
                    <a:srgbClr val="000000"/>
                  </a:solidFill>
                  <a:latin typeface="Monotype Corsiva"/>
                </a:rPr>
                <a:t>Texas A&amp;M Univers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Monotype Corsiva"/>
                </a:rPr>
                <a:t>3000 University D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Monotype Corsiva"/>
                </a:rPr>
                <a:t>College Station, TX 7857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Monotype Corsiva"/>
                </a:rPr>
                <a:t>Dear Sir,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Monotype Corsiva"/>
                </a:rPr>
                <a:t>This is an example of a business letter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Monotype Corsiva"/>
                </a:rPr>
                <a:t>Sincerely,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Monotype Corsiva"/>
                </a:rPr>
                <a:t>Joh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6172200" y="4114800"/>
            <a:ext cx="91440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800600" y="2362320"/>
            <a:ext cx="228600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657600" y="3429000"/>
            <a:ext cx="144792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33720" y="1066680"/>
            <a:ext cx="266688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1828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676520" y="372600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33360" y="1141200"/>
            <a:ext cx="2895480" cy="75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Heading/writer’s </a:t>
            </a:r>
            <a:br>
              <a:rPr sz="2400"/>
            </a:b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address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657600" y="4952880"/>
            <a:ext cx="152388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733920" y="48754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spcBef>
                <a:spcPts val="3750"/>
              </a:spcBef>
              <a:spcAft>
                <a:spcPts val="37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Closing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876920" y="15238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4343400" y="26668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2971440" y="365760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5486400" y="434340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257800" y="525780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657600" y="335124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spcBef>
                <a:spcPts val="3750"/>
              </a:spcBef>
              <a:spcAft>
                <a:spcPts val="37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Greeting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72200" y="396108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spcBef>
                <a:spcPts val="3750"/>
              </a:spcBef>
              <a:spcAft>
                <a:spcPts val="37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Body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800600" y="228456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spcBef>
                <a:spcPts val="3750"/>
              </a:spcBef>
              <a:spcAft>
                <a:spcPts val="37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Inside Address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Remember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pitalize names of companies, streets, cities, and stat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pitalize both letters of the official postal abbreviation for a state. For example, Texas is abbreviated “TX”. Do not use a period after the state abbreviatio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Use a comma or a colon after the greeting of a letter. Use a comma after the clos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400800" y="304920"/>
            <a:ext cx="2068560" cy="162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05:23:29Z</dcterms:created>
  <dc:creator>Gina Balducci</dc:creator>
  <dc:description/>
  <dc:language>en-US</dc:language>
  <cp:lastModifiedBy>ljlab</cp:lastModifiedBy>
  <dcterms:modified xsi:type="dcterms:W3CDTF">2007-08-02T18:49:10Z</dcterms:modified>
  <cp:revision>17</cp:revision>
  <dc:subject/>
  <dc:title>Writing a Business Letter</dc:title>
</cp:coreProperties>
</file>