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11AF-05FC-43F3-9B12-CA1055AE1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549-1E1E-4CD5-8CB3-1314AC1F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3CE-2AC7-4C56-BC73-1CCFF48D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8DA-AC3E-47C3-8971-57188B3F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C3B-DAFA-4115-A841-456E96EE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C6FC-04A8-48EB-8B2E-52F52731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5F2-10DE-43B1-AE46-269717FA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B3F-DF22-442F-AB12-C6EF3628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8F0-6A5B-4C72-B38F-B7C7965C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2F7-6132-448E-82EC-835B0189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880-86E4-433C-8BD6-2F2475AA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B06-55E8-4DFC-8EEA-5A339152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E39-EFAD-4713-B3B5-2C836E02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19DA-CFB7-4069-9D79-95E4F2C1B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sent word to Sully that he must leave the city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lice were after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that Sully would fall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ang war was brew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’s parents were ill and needed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85840" y="29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8440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words might best be used in Summer’s report to describe New York Ci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90520" y="5143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85840" y="336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4400" y="395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7280" y="45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252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5200" y="48322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haracter in the story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728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92320" y="25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90520" y="3184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3782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characters suffered a tragic los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y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87280" y="47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92320" y="2965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18728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184400" y="417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told Sully and Liberius that the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ed to build a sub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information for a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to visit the Statue of Lib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for the health depar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85840" y="2962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84400" y="35701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 used to be a gang member but went to work for Liberius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r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owed Liberius mon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 not like cheating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scared of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187280" y="418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useful context clue for determining the time period described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-drawn fire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mber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ence of the Statue of Lib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e English tea in china c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4400" y="5138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185840" y="3362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184400" y="395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872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chose to travel back in time to learn more abou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u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derground Railr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aker reli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t Coast shipping ro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90520" y="47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187280" y="4175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lived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hat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fortable town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9052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85840" y="25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84400" y="3184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187280" y="3782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 and Josiah traveled to New York 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in freedom by crossing in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a Broadway sh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ork for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live with her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9052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85840" y="25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184400" y="3191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87280" y="378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06:45Z</dcterms:modified>
  <cp:revision>52</cp:revision>
  <dc:subject/>
  <dc:title>PowerPoint Presentation</dc:title>
</cp:coreProperties>
</file>