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1E65-81CA-458F-9354-9AF1DC757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substitute for, the full text of the TEK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ution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ge 15-18: ($0.75/hr) x (8 hr/day) x (7 days/ wk) x (52 wks/ yr) x 3 yrs = $6,5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 18-20: ($20/ day) x (365 days/ yr) x (2 yr) = $14,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 20-24: ($44/ day) x (365 days/ yr) x (5 yrs) = $80,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tal: 6,552 + 14,600 + 64,240 =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$94,9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B)  Select and use appropriate units, tools, or formulas to measure and to solve problems involving length, area, time, temperature, volume, and weigh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A) Identify and 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A) Add, subtract, multiply and divide fractions and decimals to find answ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F) Select and use appropriate operations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3 (A) Identify and 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A) Select and use appropriate operations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B) Add, subtract, multiply and divide rational numb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Identify and apply math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ution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150 x 0.62 =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3 l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B)  Measure and solve problems involving length, area, time, temperature, volume, and weigh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A) Identify and 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A) Add, subtract, multiply and divide fractions and decimals to find answ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F) Select and use appropriate operations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3 (A) Identify and 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A) – Select and use appropriate operations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B) – Add, subtract, multiply and divide rational numb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 (B) – Find solutions to problems involving perc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– Identify and apply math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ution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18– 9 = 9 years passed since the concert; 1832 – 9 =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8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B)  Measure and solve problems involving length, area, time, temperature, volume, and weigh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A) Identify an 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F) Select and use appropriate operations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3 (A) Identify an 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A) Select and use appropriate operations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B) Add and subtract rational numb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Identify and apply math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ution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nnie: 3.5*12+15= 57in t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T: 57+1= 58 in ta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e:58+3= 61 in t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lly: (61+ 8)/12= 5.75 fe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75*12=9 in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 feet, 9 in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B) Use addition and subtraction in problems with fractions and decim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A) Identify and apply math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F) Select and use appropriate operations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3 (A) Identify and apply math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A) Select and use appropriate operations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B) Add and subtract rational numb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Identify and apply math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ution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96 = 6 x a x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=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6 = 6 x a^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6/6 = a^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qrt(16) = a = 4 fe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imeter = 4 x 4 =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 fe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B)  Measure and solve problems involving length, area, time, temperature, volume, and weigh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A) Identify and 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8 (C) Use geometric concepts and properties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9 Estimate measurements and solve problems involving length, area, and vol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3 (A) Identify and 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A) – Select and use appropriate operations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B) – Add and subtract rational numb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B) – Use geometric concepts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8 (A) – Find surface area and vol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8 (B) – Use formulas to solve problems with vol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– Identify and apply math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8AA9-0B2D-4BB8-B2F6-E0E235B21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C248-BC23-497E-ABB1-39CDE1683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7F0B-E8E1-4A9E-B91C-C501DF0B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023D-3AE9-4EB1-9B42-E27891BB5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FD54-81E2-4F01-807E-3FB244192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A1D5-9AD6-4111-9F0B-50EC4320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EFBF-9B65-43DC-839C-CDC9B750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22DC-4701-4CB1-A539-C96723DD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C6B2-4B04-4537-B965-92514434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C19C-7CA6-42A7-886C-AED5BAAC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1EC2-EED1-4421-B708-1D4C87A6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A98A-8BEA-4E1E-9EF2-4DCAFC7A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F277-DEB2-411B-9FF4-2FC4D89B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63E2-552C-4136-BA10-C1F31A4A3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" TargetMode="External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Appendices/Per%20Problems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file:///Appendices/DecToPer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file:///Appendices/Geometry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3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3962520"/>
            <a:ext cx="815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Integrated Middle School Curriculu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nership for Environmental Education and Rural Healt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xas A&amp;M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9900"/>
                </a:solidFill>
                <a:uFillTx/>
                <a:latin typeface="Arial"/>
                <a:hlinkClick r:id="rId3"/>
              </a:rPr>
              <a:t>peer.tamu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30080" y="1776240"/>
            <a:ext cx="6631200" cy="210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cc99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Dark Poison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800000"/>
                  </a:gs>
                  <a:gs pos="100000">
                    <a:srgbClr val="cc99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the correct operations when given a word probl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 with rates and percentag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ine the relationships between perimeter and volum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1680" y="649116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DPm-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60840" y="1330200"/>
            <a:ext cx="520524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Liberius turned 15, he worked as a deckhand for $0.75/hr, 8 hours a day, and 7 days a week.  When he became 18, he was captain of a barge and made an average of $20/day, working 7 days a week.  At 20, he formed his own shipping company and makes $44/day, also working 7 days a week.  If Liberius just turned 25, how much has he earned over the past 10 yea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55480" y="1463760"/>
            <a:ext cx="2830680" cy="427824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28520" y="401760"/>
            <a:ext cx="88138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llars and C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DP-4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65520" y="6168960"/>
            <a:ext cx="52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00"/>
                </a:solidFill>
                <a:uFillTx/>
                <a:latin typeface="Times New Roman"/>
                <a:hlinkClick r:id="rId3"/>
              </a:rPr>
              <a:t>Click he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or help with using 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86400" y="1519200"/>
            <a:ext cx="41367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ly weighs 150 lbs.  If K.T. weighs 62% of Sully’s weight, how much does she weig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8520" y="401760"/>
            <a:ext cx="88138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Weighty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DP-4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88880" y="1635120"/>
            <a:ext cx="3665520" cy="3697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387680" y="6238800"/>
            <a:ext cx="475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00"/>
                </a:solidFill>
                <a:uFillTx/>
                <a:latin typeface="Times New Roman"/>
                <a:hlinkClick r:id="rId3"/>
              </a:rPr>
              <a:t>Click he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or help with percent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57360" y="1432080"/>
            <a:ext cx="792468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tory is set in the summer of 1832.  Sully remembers seeing a summer Castle Garden concert when he was 9 years old.  If Sully is currently 18 years old and his birthday is in April, in what year did he see the conce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209600" y="3879720"/>
            <a:ext cx="3886200" cy="220824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873760" y="3876840"/>
            <a:ext cx="1862280" cy="226368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93760" y="401760"/>
            <a:ext cx="8648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Castle Garden Conc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DP-4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31800" y="1558800"/>
            <a:ext cx="441792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lly is taller than all of the BP gang, but only 8 inches taller than Jace.  KT is only 0.25 feet shorter than Jace, but 1 inch taller than Connie.  Summer is 15 inches shorter than Connie, and she is 3.5 feet tall in her wheelchair.  How tall is Sully in feet and inch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3760" y="401760"/>
            <a:ext cx="8648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’s the tallest of them a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DPm-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464080" y="1625760"/>
            <a:ext cx="321480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60440" y="1558800"/>
            <a:ext cx="45799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afe house that hid the young mother and Little Josiah has a square perimeter.  The height of the room is 6 feet tall and has a volume 96 f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 What is the perimeter of the 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3760" y="401760"/>
            <a:ext cx="8648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ight Pl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DPm-1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472000" y="1635120"/>
            <a:ext cx="3194280" cy="28954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31640" y="5497560"/>
            <a:ext cx="54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00"/>
                </a:solidFill>
                <a:uFillTx/>
                <a:latin typeface="Times New Roman"/>
                <a:hlinkClick r:id="rId3"/>
              </a:rPr>
              <a:t>Click he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or help with volu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86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7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9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ff9900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ff9900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3T23:03:35Z</dcterms:created>
  <dc:creator>ljlab</dc:creator>
  <dc:description/>
  <dc:language>en-US</dc:language>
  <cp:lastModifiedBy>College of Veterinary Medicine</cp:lastModifiedBy>
  <dcterms:modified xsi:type="dcterms:W3CDTF">2007-11-19T20:04:35Z</dcterms:modified>
  <cp:revision>132</cp:revision>
  <dc:subject/>
  <dc:title>Dark Poison</dc:title>
</cp:coreProperties>
</file>