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0384-FC9A-41C8-82B5-B10E4F42626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9D9-FC54-4316-B318-06C1D736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2A6-518E-4E8A-85FD-5D0E1636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0A7-20C9-43FA-B999-DBA74A56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154-D543-4381-BA3A-E3754804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427-8218-455D-AF1A-6555B885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B9D-9C18-4C88-AA88-B00B4C74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D14-4ECF-46FB-B592-DDAEA786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137-9AA3-46ED-AF88-8D1D7939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737-8BD5-469E-9BBE-6EC8423A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95E-0A56-48B2-A3E0-D4B7BB3B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A57-85F9-4725-9A24-DC48D757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436-8158-4FB8-95CF-8A7A8906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12FD-EB0C-4EAC-9631-ABCFD9975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67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7-08-02T17:42:57Z</dcterms:modified>
  <cp:revision>16</cp:revision>
  <dc:subject/>
  <dc:title>Informative Essay</dc:title>
</cp:coreProperties>
</file>