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240AE-F92C-41AC-8A9D-9D29F20C97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BE407-C8E5-4399-892B-5B9B5DF624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91440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4D64-A555-4366-8EF7-F6CD53B7D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7322-9A4C-4087-9A76-2571244BC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104E-4C42-4F35-ACBC-91323C16A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BFE5-8865-4701-9ADE-15B8C0D99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0272-A4C2-46AE-A680-012029551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E6DA-B0C5-4644-8167-2382EB60E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AC31-718C-4628-A4E0-B314191D1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BA54-C1D5-45A7-ACA3-E992292ED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5124-8EE2-4F89-B91E-2271602C6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EED9-5C21-41E6-B807-824ABA71B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3BB5-D35F-4DFD-B2A9-A37E25B40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54E5-ACB5-4BBE-8C43-67286BD79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5F0D0-9A21-4585-A6E8-673F7AAEE67A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770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ecipitation and Temperatur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1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Precipitation includes all forms of moisture falling to the surface of the earth. (Examples: rain, sleet, snow, hail)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181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Temperature is how warm or cool the air is outsid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4:23:11Z</dcterms:created>
  <dc:creator>Charles C. Farnsworth, Ph.D. - Instructional Design</dc:creator>
  <dc:description/>
  <dc:language>en-US</dc:language>
  <cp:lastModifiedBy>Vince Hardy</cp:lastModifiedBy>
  <dcterms:modified xsi:type="dcterms:W3CDTF">2007-01-12T21:51:41Z</dcterms:modified>
  <cp:revision>23</cp:revision>
  <dc:subject/>
  <dc:title>What’s the difference between weather and climate?</dc:title>
</cp:coreProperties>
</file>