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97A6-2149-40C0-82E1-6723940C0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9090-C248-4425-9F79-53F06C09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F1C1-480C-482F-B95B-2557C63D7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F2CF-6BB3-4CB4-89D9-C3DFB4306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A574-3F57-46BC-A574-C392CC11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8D0A-942F-4CBF-BCBA-E4C50821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A7B4-18C2-4329-938E-112A066A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00AA-1251-44C1-80F9-D930E54D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AD1B-C6B1-444B-95EE-23620676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3865-D28C-4A9F-8DB4-234321BC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EBA4-5719-4568-ACCE-56B49C39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E7A9-9BFF-4341-818B-BF99D0D2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C5B5-8D6F-4354-B1CF-B4AAE8CD06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?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r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?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ofte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ljlab</cp:lastModifiedBy>
  <dcterms:modified xsi:type="dcterms:W3CDTF">2007-08-02T18:50:35Z</dcterms:modified>
  <cp:revision>10</cp:revision>
  <dc:subject/>
  <dc:title>Adverbs Adverbs modify verbs, adjectives, or other adverbs.</dc:title>
</cp:coreProperties>
</file>