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CF84B-B8CB-4C6A-A468-C8CE4CD03C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85392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66E7-1443-4003-8B75-ABA8BF10C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56AC-A610-417E-9302-5913C7062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508F-197B-4C60-AC68-EBFBC2C31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11AE-1840-46C3-8940-DD25E7C8B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F494-83DE-41AA-8523-BBD882F81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D165-C144-4BE7-AD24-82C132EA1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6E15-FCA8-4B21-8511-22FD015BF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32C7-5772-44D4-9236-FC78FD680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E353-F476-453E-9564-4D3D34974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65D4-960D-4408-A89F-DBC3068BF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ADD4-D773-49D3-A50A-FF66B29EA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9AC4-A9DE-41C9-A9F1-88BE6E2A9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575B9-FA90-456D-B411-C053EEA80BAD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Weather is the state of the atmosphere at a given place and time.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right now the temperature in New Jersey is 56º F and it is snowing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Just as weather differs from day to day, climate differs from place to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50:41Z</dcterms:created>
  <dc:creator>ITMD</dc:creator>
  <dc:description/>
  <dc:language>en-US</dc:language>
  <cp:lastModifiedBy>ljlab</cp:lastModifiedBy>
  <dcterms:modified xsi:type="dcterms:W3CDTF">2003-09-11T17:23:21Z</dcterms:modified>
  <cp:revision>8</cp:revision>
  <dc:subject/>
  <dc:title>What’s the difference between weather and climate?</dc:title>
</cp:coreProperties>
</file>