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onotype Corsiv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Monotype Corsi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onotype Corsiv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Monotype Corsi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onotype Corsiv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Monotype Corsi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1E437-3D59-4F00-96D2-AE8B798BB357}" type="slidenum">
              <a:rPr b="1" lang="en-US" sz="1200" spc="-1" strike="noStrike">
                <a:solidFill>
                  <a:srgbClr val="000000"/>
                </a:solidFill>
                <a:latin typeface="Monotype Corsi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F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ing the appropriate form for own purpose for wri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F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ing the appropriate form for own purpose for wri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6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pitalize and punctuate correctly to clarify and enhance mean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B8EB0-3AFE-4909-AC36-F0C891F07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47262-3C94-4BB0-83F9-BC411A7D7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D4997-F2C6-4EE6-ACD3-53F0D605F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48F16-134A-4817-9F2D-628DC8EAB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4A570-099B-45FF-A6D3-B0F8A7BA1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2A750-AF8B-4C26-8AC0-1F8AD00C6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72B3C-517A-4842-B203-87E7A7FA1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17206-3C9B-4FFB-8188-AC7114E86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4EE9F-91F9-4CBA-965E-87EC3BCF3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775DE-6169-4A70-8301-1544998EF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CF0D0-7973-4764-9FCA-F98ED7897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BCC1E-F0AF-4DE1-BB04-EB5D4547F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48788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E3BF2-29F7-485B-8B65-29AC60489AAB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Writing a Business Letter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 business letter may be sent to request information, to make a complaint, or to inform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It is written in formal language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It has a heading, inside address, greeting, body, closing, and signature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858000" y="4572000"/>
            <a:ext cx="1189080" cy="19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1752480" y="685800"/>
            <a:ext cx="5562360" cy="5486400"/>
            <a:chOff x="1752480" y="685800"/>
            <a:chExt cx="5562360" cy="5486400"/>
          </a:xfrm>
        </p:grpSpPr>
        <p:sp>
          <p:nvSpPr>
            <p:cNvPr id="52" name=""/>
            <p:cNvSpPr/>
            <p:nvPr/>
          </p:nvSpPr>
          <p:spPr>
            <a:xfrm>
              <a:off x="1752480" y="685800"/>
              <a:ext cx="5562360" cy="5486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906560" y="930240"/>
              <a:ext cx="5253480" cy="509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ebebeb"/>
                  </a:solidFill>
                  <a:latin typeface="Monotype Corsiva"/>
                </a:rPr>
                <a:t>	</a:t>
              </a:r>
              <a:r>
                <a:rPr b="0" lang="en-US" sz="2400" spc="-1" strike="noStrike">
                  <a:solidFill>
                    <a:srgbClr val="ebebeb"/>
                  </a:solidFill>
                  <a:latin typeface="Monotype Corsiv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Monotype Corsiva"/>
                </a:rPr>
                <a:t>123 Sunset Lane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Monotype Corsiva"/>
                </a:rPr>
                <a:t>    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Monotype Corsiv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Monotype Corsiv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Monotype Corsiva"/>
                </a:rPr>
                <a:t>Bryan, TX 78572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Monotype Corsiv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Monotype Corsiv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Monotype Corsiv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Monotype Corsiva"/>
                </a:rPr>
                <a:t>July 20, 20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2400"/>
              </a:br>
              <a:r>
                <a:rPr b="0" lang="en-US" sz="2000" spc="-1" strike="noStrike">
                  <a:solidFill>
                    <a:srgbClr val="000000"/>
                  </a:solidFill>
                  <a:latin typeface="Monotype Corsiva"/>
                </a:rPr>
                <a:t>Texas A&amp;M Universi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Monotype Corsiva"/>
                </a:rPr>
                <a:t>3000 University D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Monotype Corsiva"/>
                </a:rPr>
                <a:t>College Station, TX 7857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Monotype Corsiva"/>
                </a:rPr>
                <a:t>Dear Sir,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Monotype Corsiva"/>
                </a:rPr>
                <a:t>This is an example of a business letter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Monotype Corsiva"/>
                </a:rPr>
                <a:t>Sincerely,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Monotype Corsiva"/>
                </a:rPr>
                <a:t>Joh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" name=""/>
          <p:cNvSpPr/>
          <p:nvPr/>
        </p:nvSpPr>
        <p:spPr>
          <a:xfrm>
            <a:off x="6172200" y="4114800"/>
            <a:ext cx="91440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800600" y="2362320"/>
            <a:ext cx="228600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657600" y="3429000"/>
            <a:ext cx="144792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33720" y="1066680"/>
            <a:ext cx="266688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1828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676520" y="372600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33360" y="1141200"/>
            <a:ext cx="2895480" cy="75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Heading/writer’s </a:t>
            </a:r>
            <a:br>
              <a:rPr sz="2400"/>
            </a:b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address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657600" y="4952880"/>
            <a:ext cx="1523880" cy="6098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733920" y="487548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spcBef>
                <a:spcPts val="3750"/>
              </a:spcBef>
              <a:spcAft>
                <a:spcPts val="37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Closing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876920" y="152388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4343400" y="266688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2971440" y="365760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5486400" y="434340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257800" y="525780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657600" y="335124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spcBef>
                <a:spcPts val="3750"/>
              </a:spcBef>
              <a:spcAft>
                <a:spcPts val="37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Greeting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72200" y="396108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spcBef>
                <a:spcPts val="3750"/>
              </a:spcBef>
              <a:spcAft>
                <a:spcPts val="37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Body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800600" y="2284560"/>
            <a:ext cx="243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spcBef>
                <a:spcPts val="3750"/>
              </a:spcBef>
              <a:spcAft>
                <a:spcPts val="37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Inside Address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Remember</a:t>
            </a: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…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apitalize names of companies, streets, cities, and state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apitalize both letters of the official postal abbreviation for a state. For example, Texas is abbreviated “TX”. Do not use a period after the state abbreviatio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Use a comma or a colon after the greeting of a letter. Use a comma after the closing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400800" y="304920"/>
            <a:ext cx="2068560" cy="162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0T05:23:29Z</dcterms:created>
  <dc:creator>Gina Balducci</dc:creator>
  <dc:description/>
  <dc:language>en-US</dc:language>
  <cp:lastModifiedBy>ljlab</cp:lastModifiedBy>
  <dcterms:modified xsi:type="dcterms:W3CDTF">2007-08-02T18:49:10Z</dcterms:modified>
  <cp:revision>17</cp:revision>
  <dc:subject/>
  <dc:title>Writing a Business Letter</dc:title>
</cp:coreProperties>
</file>