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290B-0612-4615-8224-2A7D01A93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-8.22 (B) Interpret important events and ideas gathered from visual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2 (G) Recognize and analyze story plot, setting, and problem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0 (D) Describe mental images the text evo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41D5-9A0B-4DA7-9298-42669F7F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3F41-2064-4A44-A9B4-95115C12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9C8-B68A-4770-A823-A05F654B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327-6280-492C-9A46-167E2FB9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6ECC-A5F1-4B92-90D6-BEAF0446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C9B-3EE8-431A-B81C-D502C3D3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23BA-101C-4C98-A4F7-4EDBD74D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F15-0069-49F3-BFE9-111DB88A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69B0-DD62-4F52-92F4-9CD51491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E3F-AC87-4E49-B9A3-2BA380A5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73BF-057E-4CDB-BE2F-265ADB63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F993-273C-49D5-ABB5-F4BC787D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1036-7664-4C25-9D60-734ABB96D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ljlab</cp:lastModifiedBy>
  <dcterms:modified xsi:type="dcterms:W3CDTF">2007-08-02T18:23:59Z</dcterms:modified>
  <cp:revision>18</cp:revision>
  <dc:subject/>
  <dc:title>Context Clues</dc:title>
</cp:coreProperties>
</file>