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387FF-EA4A-48C0-8F15-A2D7CFDF1A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6567-52BB-4D24-AD9D-925372121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7B93-D7C7-4184-94B3-AC5CADE7C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1704-80D3-48CD-9280-17E32E663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1CC5-7F81-45FB-B35F-7B9093391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F20C-04A2-4EE1-B04F-3ADE6E2C7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E1CC-1C90-4FE5-AE00-F51A7692C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4F9A-AB6E-43E7-B946-206076ECA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E350-129B-44DA-8135-201DEF825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0BCE-1976-43AD-ACA1-86D1AA19D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64E5-3E7A-4329-B19D-C75B7DF9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F624-49AF-4980-81D9-CA2644D3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8C0A-DE9D-4D7B-839B-6A6C53EC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921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AC665-8D67-417B-BF14-B77A9FEF81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9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berius sent word to Sully that he must leave the city becaus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olice were after hi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was worried that Sully would fall 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gang war was brew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lly’s parents were ill and needed hi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190520" y="4775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185840" y="2963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1184400" y="35733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1187280" y="4178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10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ne of the following words might best be used in Summer’s report to describe New York Cit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nger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iend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190520" y="5143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185840" y="3368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184400" y="3954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187280" y="45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159000" y="2792520"/>
            <a:ext cx="2791080" cy="1257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4075200" y="483228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main character in the story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beri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l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via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187280" y="4383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192320" y="25830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1190520" y="31845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1184400" y="37828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2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ne of the following characters suffered a tragic loss in the stor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via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y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n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187280" y="4773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192320" y="29653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1187280" y="3575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1184400" y="4176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3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 and her friends told Sully and Liberius that the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nted to build a subw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ed information for a repor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re required to visit the Statue of Liber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ed for the health depart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190520" y="4775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185840" y="2962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1184400" y="357012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1187280" y="4178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4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lly used to be a gang member but went to work for Liberius becaus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were broth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owed Liberius mone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did not like cheating peop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was scared of Liberi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190520" y="4775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185840" y="2965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1184400" y="35672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187280" y="4181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5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is NOT a useful context clue for determining the time period described in this stor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rse-drawn fire eng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mberpo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sence of the Statue of Liber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e English tea in china cu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184400" y="51386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185840" y="3362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1184400" y="3952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1187280" y="4552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6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 and her friends chose to travel back in time to learn more abou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ter purif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Underground Railr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Quaker relig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st Coast shipping rou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190520" y="4778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185840" y="2965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184400" y="35672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187280" y="4175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7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berius lived i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hatt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York 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omfortable townho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f the abo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190520" y="4383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1185840" y="2579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1184400" y="31845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1187280" y="3782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8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viah and Josiah traveled to New York Cit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gain freedom by crossing into Canad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ee a Broadway show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work for Liberi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live with her mo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190520" y="4379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185840" y="2583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1184400" y="3191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1187280" y="3789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Vince Hardy</cp:lastModifiedBy>
  <dcterms:modified xsi:type="dcterms:W3CDTF">2007-05-08T00:06:45Z</dcterms:modified>
  <cp:revision>52</cp:revision>
  <dc:subject/>
  <dc:title>PowerPoint Presentation</dc:title>
</cp:coreProperties>
</file>