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81AF6-1C40-454E-945F-24888277AF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6D21E-15C6-4F55-904A-023D41E627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9EA9A-1C8F-4EAD-9649-109AB31C5B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53A1C-336B-4F3C-8FAB-DE812308AB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34946-6093-4673-AE88-7CCE918DF9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4D192-E376-49AA-96A6-31C20592E3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D94A9-3694-42A5-843B-8900C1CAAF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D90D8-2F0F-499D-8079-F07C22BC58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163AA-821C-4527-9CDF-4E4C1F3E13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46A70-A3E1-4C38-B833-FB4DA26F23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CF90D-2635-4419-8BD0-83E5940718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7F448-024C-4214-A7C4-8BCCDCA1BB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27072-6604-42CD-A421-9C68B20CDA77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imeter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07732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he perimeter (P) of any closed figure is the distance around the figure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o find the perimeter of a rectangle, add the measures of its four sides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length, 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width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         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ff9966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9966"/>
                </a:solidFill>
                <a:latin typeface="Times New Roman"/>
              </a:rPr>
              <a:t>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w                                         w 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486400" y="4343400"/>
            <a:ext cx="2720880" cy="1508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98A9E-1579-4FDA-8FBF-C84B0AAF5B91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29Z</dcterms:modified>
  <cp:revision>206</cp:revision>
  <dc:subject/>
  <dc:title>VTPP 423 - PHYSIOLOGY</dc:title>
</cp:coreProperties>
</file>