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8D6E-4D35-4947-8332-CB7681B83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D2C-98D6-4205-B0B4-045863FD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9FD-2752-441B-B4C5-B1598C02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DF3-F41A-44A7-8FCC-9E86B7DA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F98-3FB2-466A-98E0-6E3CB586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8DD-0F55-40DA-9CF7-249370C5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B0D-36A4-44D6-94E1-8A2E852E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0D5-E1F7-400D-8440-C53D3733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E5E-66AE-491B-B6E8-B2481761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EBE-6E8A-47D4-8BE8-036AB1E6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AE89-788A-460F-A08A-6636F4D3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774-12DF-479B-B94F-48169C0C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45D-5E45-45A4-A94A-B0A37DEA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854D-6714-4F36-B7E0-D57E053DB1C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 story map lists  important details to be included in the summary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7-08-02T17:12:53Z</dcterms:modified>
  <cp:revision>25</cp:revision>
  <dc:subject/>
  <dc:title>To Sum It All Up…</dc:title>
</cp:coreProperties>
</file>