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1F0-CAD0-4C7A-9F1F-206846A5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729-270D-433C-B4BB-A6622436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2EE-24F4-49C3-BE2D-ED342CAE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CD1-A8F6-4F08-8F40-BCE025F7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D70-A882-42AB-A860-A36DBDA9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436-BA23-40AB-B70B-242FC5DE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37F-E325-407F-B437-6C642614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F3A-72EA-4FD5-9872-73C2113C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E1A-54B3-4488-BF76-62939616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CDA-E646-48C3-BB82-D26A91B9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AD7-C54A-4CCE-AD2E-99FA7CC7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9F4-FB5D-4D92-A0C5-BDAA373A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E839-7336-423D-85CF-1EEDE666080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ljlab</cp:lastModifiedBy>
  <dcterms:modified xsi:type="dcterms:W3CDTF">2007-08-02T18:51:10Z</dcterms:modified>
  <cp:revision>62</cp:revision>
  <dc:subject/>
  <dc:title>Locating Places</dc:title>
</cp:coreProperties>
</file>