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7B766-A6BA-4634-BF10-C25010B394DA}" type="slidenum"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6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italize and punctuate correctly to clarify and enhance mean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5A0F-B3EC-4027-B872-CC18D9E09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E1C7-8AE6-4E30-8D95-167A8E5A7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27CB-8359-45FF-A447-519A1FCA1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8851-339D-43F3-9D0A-896BF626E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B50A-8E16-425E-82E1-A05564AEE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4D58-CA60-40A4-B54B-2CADC48D8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55B9-C0EF-4DF6-8F0C-02C85415F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F9BD-4452-4ABD-AB65-586D73261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BCDE-AC73-4592-A2C4-3AE8223E7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C879-BAE0-48AD-A1E3-390BBDDFE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FACA-96E1-49B5-A3D9-7E6C3DF67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3E5B-A8EB-4AF2-8AC2-A93F046C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E20D2-F4F5-4D56-9964-3BF49A4A766C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riting a Business Letter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business letter may be sent to request information, to make a complaint, or to inform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is written in formal languag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has a heading, inside address, greeting, body, closing, and signatur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4572000"/>
            <a:ext cx="118908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1752480" y="685800"/>
            <a:ext cx="5562360" cy="5486400"/>
            <a:chOff x="1752480" y="685800"/>
            <a:chExt cx="5562360" cy="5486400"/>
          </a:xfrm>
        </p:grpSpPr>
        <p:sp>
          <p:nvSpPr>
            <p:cNvPr id="52" name=""/>
            <p:cNvSpPr/>
            <p:nvPr/>
          </p:nvSpPr>
          <p:spPr>
            <a:xfrm>
              <a:off x="1752480" y="685800"/>
              <a:ext cx="5562360" cy="5486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906560" y="930240"/>
              <a:ext cx="5253480" cy="509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bebeb"/>
                  </a:solidFill>
                  <a:latin typeface="Monotype Corsiva"/>
                </a:rPr>
                <a:t>	</a:t>
              </a:r>
              <a:r>
                <a:rPr b="0" lang="en-US" sz="2400" spc="-1" strike="noStrike">
                  <a:solidFill>
                    <a:srgbClr val="ebebeb"/>
                  </a:solidFill>
                  <a:latin typeface="Monotype Corsiv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123 Sunset Lan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Bryan, TX 78572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July 20, 20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400"/>
              </a:b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Texas A&amp;M Univers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3000 University D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College Station, TX 7857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Dear Sir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This is an example of a business letter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Sincerely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Joh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6172200" y="4114800"/>
            <a:ext cx="9144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00600" y="2362320"/>
            <a:ext cx="22860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657600" y="3429000"/>
            <a:ext cx="14479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33720" y="1066680"/>
            <a:ext cx="266688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828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76520" y="37260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33360" y="1141200"/>
            <a:ext cx="2895480" cy="75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Heading/writer’s </a:t>
            </a:r>
            <a:br>
              <a:rPr sz="2400"/>
            </a:b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address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57600" y="4952880"/>
            <a:ext cx="152388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48754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Clos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76920" y="1523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343400" y="2666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971440" y="36576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5486400" y="43434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257800" y="52578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335124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Gree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72200" y="39610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Body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228456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Inside Address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Remember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names of companies, streets, cities, an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both letters of the official postal abbreviation for a state. For example, Texas is abbreviated “TX”. Do not use a period after the state abbrev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 a comma or a colon after the greeting of a letter. Use a comma after the clos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06856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5:23:29Z</dcterms:created>
  <dc:creator>Gina Balducci</dc:creator>
  <dc:description/>
  <dc:language>en-US</dc:language>
  <cp:lastModifiedBy>ljlab</cp:lastModifiedBy>
  <dcterms:modified xsi:type="dcterms:W3CDTF">2007-08-02T18:49:10Z</dcterms:modified>
  <cp:revision>17</cp:revision>
  <dc:subject/>
  <dc:title>Writing a Business Letter</dc:title>
</cp:coreProperties>
</file>