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477C-6FE7-41CF-ACAA-CFEB9713CA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A3E-99EE-4931-BD43-B8E998B3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527-28DE-4277-822F-312F71D5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601-6534-4141-B8A0-3C09403F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CB2-1CDE-425B-B90F-D15BB695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FD6-D5B0-4535-9A34-DED9FBA2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6D7-CDD1-4CDE-9E14-17B285E3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E83-35B5-4C1F-8BFB-4FDE460F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F5E-C3D9-47FF-8566-30E15BF8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B8D-70B0-411D-9BEE-A34F18A8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C7C-3643-47A4-B914-6C289A40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E7E-C817-493A-BDD9-E3DAFC69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493-204B-4668-84FF-91D5EC5C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741A-35FA-4AC4-A66A-060ADACA6F4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392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2035080"/>
            <a:ext cx="373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7-08-02T18:13:14Z</dcterms:modified>
  <cp:revision>34</cp:revision>
  <dc:subject/>
  <dc:title>Comparing Apples to Oranges</dc:title>
</cp:coreProperties>
</file>