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B8F6-84C4-4259-B104-F900A2A6A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-8.22 (B) Interpret important events and ideas gathered from visual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2 (G) Recognize and analyze story plot, setting, and problem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0 (D) Describe mental images the text evo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28F-49ED-4AB1-B4A0-B6CB6B06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D71-A640-4264-9D50-31A8E34F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6853-E9C9-485C-8E5C-5026864B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566-9621-4FFC-95DA-E5FDA4D9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B60F-3E91-4530-8AF7-0AD6BCE0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BD4-6527-4C6B-8962-1ED426FA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592-9BCA-4295-A3E8-135B1C66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836-774F-4857-8D57-494569D0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3F4-AF85-481F-93AC-9FFFFFA6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B99-752F-48C8-A6E3-BECC0EBE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47D-99E7-4878-BA8D-E6FB765C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7D7-F281-4022-86C2-566CC13E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C279-7572-478C-8CF2-7520374D9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ljlab</cp:lastModifiedBy>
  <dcterms:modified xsi:type="dcterms:W3CDTF">2007-08-02T18:23:59Z</dcterms:modified>
  <cp:revision>18</cp:revision>
  <dc:subject/>
  <dc:title>Context Clues</dc:title>
</cp:coreProperties>
</file>