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F404-A4BC-434D-8F61-A7C9465FA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884F-7373-42F8-9C9E-CC63AF42A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9253-1B1A-457B-BCE7-CAAFF8B3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60C9-B90C-4E38-879E-406D37B74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4C34-7332-4250-BDB6-819D0013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C197-DCB6-42FC-9C64-7DA526AE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8962-6671-4669-8177-97AECF9D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9502-8C71-4101-82CD-6FACB1E3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7C2C-1051-4987-8EC1-0F6E2C37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A9EA-FA0F-4D63-B2B2-C7851395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EE66-99E7-4746-A13E-72D264B9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B075-6FFB-471E-B4E2-F9A71323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CCA6-3C6C-4BF8-826D-ABDB3CAE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9110-D7C5-4C4B-A94F-61DBB89CA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9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erius sent word to Sully that he must leave the city becau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lice were after hi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worried that Sully would fall 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gang war was brew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lly’s parents were ill and needed hi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90520" y="47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185840" y="296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184400" y="3573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187280" y="4178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10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ne of the following words might best be used in Summer’s report to describe New York Cit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end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190520" y="5143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85840" y="3368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84400" y="3954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87280" y="45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159000" y="2792520"/>
            <a:ext cx="2791080" cy="1257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075200" y="483228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ain character in the story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eri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ia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87280" y="4383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192320" y="2583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190520" y="3184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184400" y="37828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2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ne of the following characters suffered a tragic los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ia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y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87280" y="4773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192320" y="2965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187280" y="3575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1184400" y="417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3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and her friends told Sully and Liberius that the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nted to build a sub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 information for a re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required to visit the Statue of Liber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ed for the health depart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190520" y="47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185840" y="2962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184400" y="357012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1187280" y="4178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4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lly used to be a gang member but went to work for Liberius becau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re broth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owed Liberius mone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did not like cheating peop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scared of Liberi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190520" y="47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18584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184400" y="35672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187280" y="418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5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NOT a useful context clue for determining the time period described in this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rse-drawn fire eng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mberp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ence of the Statue of Liber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e English tea in china c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184400" y="5138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185840" y="3362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184400" y="3952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187280" y="4552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6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and her friends chose to travel back in time to learn more abou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 pur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Underground Railr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Quaker relig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t Coast shipping ro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90520" y="477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18584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184400" y="35672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187280" y="4175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7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erius lived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hatt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York 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mfortable town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90520" y="4383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185840" y="25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184400" y="31845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1187280" y="3782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8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iah and Josiah traveled to New York Ci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gain freedom by crossing into Cana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a Broadway sh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work for Liberi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live with her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90520" y="43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185840" y="2583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184400" y="3191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187280" y="378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8T00:06:45Z</dcterms:modified>
  <cp:revision>52</cp:revision>
  <dc:subject/>
  <dc:title>PowerPoint Presentation</dc:title>
</cp:coreProperties>
</file>