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3ACF-9C10-42E8-861C-438512B77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88B55-D34A-4284-A1E6-A6E566698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00571-B0F0-4047-88A1-01C60261C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296EE-9D1A-4AE5-9E5A-CB90B716E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EDBDC-51D4-41A7-BC09-6663D45EE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C4A22-EE82-499D-93A2-69E4C4E9D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62536-BEEC-40D4-B0D0-A72B7EE5C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B127E-30B6-445C-B296-661102478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C7980-A7F0-4056-8C23-AAFB606E5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5F78C-C2FF-4566-AF86-9D54ADF18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BF7E4-6F16-4B02-9CF9-9700E8A09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6545F-5F6C-47F1-8C89-78E1CB074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D0285-891A-4939-9097-C625C729D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690840" indent="-26568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06272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48788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191304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24D4-667E-48EE-B4E7-230FB208ABF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480"/>
            <a:ext cx="6553080" cy="381024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ive specific examples to support your argument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velop your thoughts and elaborate in your paragraphs.  Ask yourself, “Would I be convinced?”</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late to the reader by putting yourself in his or her shoe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e persuasive words…….</a:t>
            </a:r>
            <a:endParaRPr b="0" lang="en-US" sz="28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7-08-02T17:16:24Z</dcterms:modified>
  <cp:revision>27</cp:revision>
  <dc:subject/>
  <dc:title>Persuasive Writing</dc:title>
</cp:coreProperties>
</file>