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8520-6610-4301-AE75-51BE72650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7B7-B926-4047-8CFF-B5B33996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8AE-324E-4DFE-953C-B804AF47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3148-A519-4BEF-BE88-C92473F6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6AA-B23E-46B5-AF75-6BA9E89E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D1C-CA25-43D2-B442-29282C50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9D1C-E4EF-4670-9887-061B363C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9A31-4C0D-4875-B53C-553A47CF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380-F18A-4483-86F7-34ADD5C0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E6EB-2473-4572-B59A-17B92A7F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626-DA35-4B28-A007-0C0649F5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1A4-36EA-471D-B68E-279EAA22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7BF-45BC-475B-A8C8-FC8F9919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2B3B-F92B-4D51-A172-C6790A263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39:57Z</dcterms:modified>
  <cp:revision>11</cp:revision>
  <dc:subject/>
  <dc:title>Volume &amp; Weight Conversions</dc:title>
</cp:coreProperties>
</file>