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7C88-A704-4F36-AC4F-2747AC8E1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716-65AF-4B9E-8A0D-B36A2657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E27-9EF3-4F9F-A00F-61C1E788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881-7E76-4EE1-BC9F-4619C5CD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8FD-5901-408A-A7B6-93C077C8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869-C14F-4849-846D-6B6E1465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62A-B71B-4C93-BE1B-5F3BDE57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AB7-1BEC-4E72-910E-1DC63B5F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D34-A32B-46EE-8BC4-06E60F6B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ECD-B819-420D-BC15-CB814490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C21-4A2D-412A-A399-024EF79C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D55-A725-4738-ADDA-54A56B8D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D9C-9A3E-4A0A-BF43-C535C07E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F3D3-4CD6-4FB8-85D1-FF8BED93F4D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 story map lists  important details to be included in the summary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7-08-02T17:12:53Z</dcterms:modified>
  <cp:revision>25</cp:revision>
  <dc:subject/>
  <dc:title>To Sum It All Up…</dc:title>
</cp:coreProperties>
</file>