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6375-5230-4D0D-9259-227F2BF4D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719C-6CF6-4BE1-82FD-AF222C61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3688-1D0B-4594-BA8F-29DCFE753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4313-CFCA-4153-BBA0-AB1B917EF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5C8B-B43C-4517-BC5B-7C603629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0CD8-083A-4DA6-9390-C670DA24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557E-5540-4ACF-A3B3-1C730067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BB5D-66A4-43D5-9B76-806E68DC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AA71-0E34-4933-8A31-59587DFF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265D-E267-413B-8EDB-2F5ADF26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B1D4-07E7-4823-828B-E52C2708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A504-1031-49DF-8D7A-FD8241FE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C1ED-07F1-491A-97EA-9661DC2DC4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?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r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?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ofte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ljlab</cp:lastModifiedBy>
  <dcterms:modified xsi:type="dcterms:W3CDTF">2007-08-02T18:50:35Z</dcterms:modified>
  <cp:revision>10</cp:revision>
  <dc:subject/>
  <dc:title>Adverbs Adverbs modify verbs, adjectives, or other adverbs.</dc:title>
</cp:coreProperties>
</file>