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5ED8E-DB6C-45F8-97A9-B6A1C77524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FE8E3-AC44-45C6-9D47-E03792AF27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24CE2-A978-4BD8-8422-CF6F0D3D2A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DA684-C98D-4B34-B0DD-59C8EBDCA1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05F99-CCBC-4948-A858-6711DD7368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1A090-6B67-43D6-9168-EAF5BEC0AB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F41DA-E700-4188-B293-5424426511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63B99-1BE5-4FE6-BD1D-397D07239A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47FB0-93A2-40B2-9A69-FFF2CDE192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A401C-5A96-436C-83AE-D59F669F85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6CEC6-1BFA-47B1-9673-9418A81689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DD489-2A91-46BA-958D-3D7773D03F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EC0AB-AF8A-426B-AD87-0CB21DD3AB49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 ratio is a comparison of two numbers by division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 comparing 1 to 4 can be stated as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to 4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:4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out of 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EEE90-602E-4D2B-A70B-374637776DFF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4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1 par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1/4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943600" y="914400"/>
            <a:ext cx="2664000" cy="349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BBDD9-7B65-43D4-BD55-34F2652EE325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5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3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3/5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791320" y="1143000"/>
            <a:ext cx="2778120" cy="2835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30A6B-50AC-4AD9-8E43-A07AF06ABAE7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7240" y="-228600"/>
            <a:ext cx="77709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534160" cy="569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ompare the ratios 4/6 and 2/3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Draw a rectangle with 6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Draw another rectangle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with 3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3. Shade 4 parts of the upper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rectangle and shade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2 parts of the lower rectangl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nce the areas shaded are the same,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s are equivalent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324480" y="990720"/>
            <a:ext cx="2286000" cy="4035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FFBB9-AD8C-4DA5-A14F-71CE6533A366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724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09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nce ratios can be written as fractions,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:6 and 2:3 are equivalent ratios </a:t>
            </a:r>
            <a:br>
              <a:rPr sz="3200"/>
            </a:b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just a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/6 and 2/3 are equivalent fraction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÷ 2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    ÷ 2</a:t>
            </a: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2864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732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05120" y="3809880"/>
            <a:ext cx="1603080" cy="92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1905120" y="4820400"/>
            <a:ext cx="1599120" cy="87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2" y="9473"/>
                </a:moveTo>
                <a:arcTo wR="10800" hR="10800" stAng="-10376525" swAng="10376525"/>
                <a:lnTo>
                  <a:pt x="10800" y="10800"/>
                </a:lnTo>
                <a:close/>
              </a:path>
              <a:path fill="none" w="21600" h="21600">
                <a:moveTo>
                  <a:pt x="82" y="9473"/>
                </a:moveTo>
                <a:arcTo wR="10800" hR="10800" stAng="-10376525" swAng="10376525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5562720" y="4897080"/>
            <a:ext cx="1599120" cy="87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8" y="9501"/>
                </a:moveTo>
                <a:arcTo wR="10800" hR="10800" stAng="-10385669" swAng="10385669"/>
                <a:lnTo>
                  <a:pt x="10800" y="10800"/>
                </a:lnTo>
                <a:close/>
              </a:path>
              <a:path fill="none" w="21600" h="21600">
                <a:moveTo>
                  <a:pt x="78" y="9501"/>
                </a:moveTo>
                <a:arcTo wR="10800" hR="10800" stAng="-10385669" swAng="10385669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562720" y="3733920"/>
            <a:ext cx="1603080" cy="91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/>
          <p:nvPr/>
        </p:nvCxnSpPr>
        <p:spPr>
          <a:xfrm>
            <a:off x="3504960" y="419076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99" name=""/>
          <p:cNvCxnSpPr/>
          <p:nvPr/>
        </p:nvCxnSpPr>
        <p:spPr>
          <a:xfrm>
            <a:off x="7162560" y="411444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0" name=""/>
          <p:cNvCxnSpPr/>
          <p:nvPr/>
        </p:nvCxnSpPr>
        <p:spPr>
          <a:xfrm flipV="1">
            <a:off x="3504960" y="5181120"/>
            <a:ext cx="76680" cy="15336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1" name=""/>
          <p:cNvCxnSpPr/>
          <p:nvPr/>
        </p:nvCxnSpPr>
        <p:spPr>
          <a:xfrm flipV="1">
            <a:off x="7162560" y="525708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15238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26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814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102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0CF5E-03D0-4B9F-99B1-05A6F2834F29}" type="slidenum">
              <a:t>5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20:00Z</dcterms:modified>
  <cp:revision>219</cp:revision>
  <dc:subject/>
  <dc:title>VTPP 423 - PHYSIOLOGY</dc:title>
</cp:coreProperties>
</file>