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0737-7E1E-4DA9-8C1C-127508431D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95B-5E23-4AD5-956E-E49DE441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D86-8AFD-46E3-AE32-F6327C5A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9AA-73D7-47EB-9731-5E18856F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E21-72D8-45C9-B90A-62B8A790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A5F-F3C3-4E1B-98C2-FD57807B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F73-45FC-490C-90C7-E7E19425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736-D1AE-4E22-8884-8679CA7C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667-BC40-49E6-A555-E76471E1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8F2-F0BF-4679-8E50-ED5B66B1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88F-D7FE-49D8-AF3E-E7BCC203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CD3-BE5B-4794-9A55-593752FF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F1D-19C4-49D3-A1D0-F5188C3F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FA3F-C2B3-4E74-BE8E-53AB21211B4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9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035080"/>
            <a:ext cx="373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7-08-02T18:13:14Z</dcterms:modified>
  <cp:revision>34</cp:revision>
  <dc:subject/>
  <dc:title>Comparing Apples to Oranges</dc:title>
</cp:coreProperties>
</file>