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52706-AFA9-4E60-8D8F-71612F0E69AB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6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italize and punctuate correctly to clarify and enhance mean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A1EA-CD09-47D8-8548-61C682F55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4595-E7DF-4904-A998-53C2C64C2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DF22-FFB8-49D0-B226-3AE6DA03D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AC47-4333-428B-87D8-02C802FD8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805E-35BD-4C07-ABFD-BEAC79777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E6B4-78C8-4878-BF7D-38B821121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5B14-93E4-405D-A90E-FFABD43BD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624C-6605-4E94-B934-7CF45B10C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5943-5AB1-4FB3-835B-6477D3168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23F1-34EC-49CC-8DD6-FA3EDEC1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D41E-B712-4AEE-AFCA-E905C46E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DE12-2C8D-43DC-9494-1D94D581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6D58A-03C8-4761-A833-2CD67DBCD27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1752480" y="685800"/>
            <a:ext cx="5562360" cy="5486400"/>
            <a:chOff x="1752480" y="685800"/>
            <a:chExt cx="5562360" cy="5486400"/>
          </a:xfrm>
        </p:grpSpPr>
        <p:sp>
          <p:nvSpPr>
            <p:cNvPr id="52" name=""/>
            <p:cNvSpPr/>
            <p:nvPr/>
          </p:nvSpPr>
          <p:spPr>
            <a:xfrm>
              <a:off x="1752480" y="685800"/>
              <a:ext cx="5562360" cy="5486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906560" y="930240"/>
              <a:ext cx="5253480" cy="509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bebeb"/>
                  </a:solidFill>
                  <a:latin typeface="Monotype Corsiva"/>
                </a:rPr>
                <a:t>	</a:t>
              </a:r>
              <a:r>
                <a:rPr b="0" lang="en-US" sz="2400" spc="-1" strike="noStrike">
                  <a:solidFill>
                    <a:srgbClr val="ebebeb"/>
                  </a:solidFill>
                  <a:latin typeface="Monotype Corsiv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123 Sunset Lan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Bryan, TX 78572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July 20, 20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400"/>
              </a:b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Texas A&amp;M Univers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3000 University D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College Station, TX 7857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Dear Sir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This is an example of a business letter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Sincerely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Joh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6172200" y="4114800"/>
            <a:ext cx="9144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00600" y="2362320"/>
            <a:ext cx="22860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57600" y="3429000"/>
            <a:ext cx="14479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33720" y="1066680"/>
            <a:ext cx="266688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33360" y="1141200"/>
            <a:ext cx="2895480" cy="75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</a:t>
            </a:r>
            <a:br>
              <a:rPr sz="2400"/>
            </a:b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57600" y="4952880"/>
            <a:ext cx="152388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48754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76920" y="1523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343400" y="2666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971440" y="3657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5486400" y="43434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257800" y="52578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335124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2200" y="39610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228456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ljlab</cp:lastModifiedBy>
  <dcterms:modified xsi:type="dcterms:W3CDTF">2007-08-02T18:49:10Z</dcterms:modified>
  <cp:revision>17</cp:revision>
  <dc:subject/>
  <dc:title>Writing a Business Letter</dc:title>
</cp:coreProperties>
</file>