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0E68-517E-4710-A0CD-1A4B6C774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A37-99BF-4542-8AEF-923A74E8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659-6848-4401-87FE-088EAB7E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13B-96CD-4EAA-89E4-F56472F3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A0F-468E-4279-8078-E2D1570A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929-C120-4509-B116-4AA6635D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802-3019-47B1-BE6F-C7DF58F2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F20-E1C8-4D4B-A14E-FFE348CF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360-F86F-40C6-923B-4D40BB4F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F39-CD2A-4926-9D6A-86E69739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74C-EF9C-4D6C-92D6-46E1743B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B2A-70AA-4C29-A301-B0991F15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CE5-D0F8-4909-8BA4-43B3F36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DE94-BB50-461E-AD87-A1C91735BA9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 story map lists  important details to be included in the summary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7-08-02T17:12:53Z</dcterms:modified>
  <cp:revision>25</cp:revision>
  <dc:subject/>
  <dc:title>To Sum It All Up…</dc:title>
</cp:coreProperties>
</file>