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B3E0-8AB6-448F-B927-068A28568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90EE-282E-4879-968C-A192C7BB4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16C4-0E37-4110-936F-8C3C42C1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350B-5D32-4BAA-B7B6-173A9074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4B95-1B00-4BC0-BD05-F64626A26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50A1-6AB6-4ACE-9E59-6F273E24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B31A-E839-4ACF-9444-7F3A84FB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1F16-8856-4975-A370-892BB7F7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4744-1C99-416C-A6BE-20A8CF3B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7547-9F00-4A80-A8CB-CBB5BBE5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4971-E776-4DE1-B2A2-75B38A39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C31B-48B2-43FE-8C57-4EDBA40A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F2B1-9F6D-4E32-A052-76BA38BC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8693-7C90-43D9-933F-55DE42D5BA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39:57Z</dcterms:modified>
  <cp:revision>11</cp:revision>
  <dc:subject/>
  <dc:title>Volume &amp; Weight Conversions</dc:title>
</cp:coreProperties>
</file>