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6B78-FB6A-475A-99B9-71FD61559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(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F82-383A-491B-B58B-DC6164EA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708-F850-49AE-887B-6192B6ED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559-52D6-47CD-8F93-142B6020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BEC-A525-4ECF-AC8D-D45E70AF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F2B-22B0-4C85-8DE0-148D2771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5C2-0B85-41BC-9976-F251C0C5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2B3-A273-492B-93CD-C57689E4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28D-3B55-404D-8272-D921CC02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5AF-9AC0-4259-9C06-043FE9A6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832-B8F6-4F7F-85BE-818DEEF1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CF2-FFF0-4C72-B683-DBFA5835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461-DE20-4845-A2B5-A4EB97BA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9EFC-056B-4440-9E19-D32A9E76799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530000"/>
            <a:ext cx="4968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6840" y="1614600"/>
            <a:ext cx="272232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ljlab</cp:lastModifiedBy>
  <dcterms:modified xsi:type="dcterms:W3CDTF">2007-08-02T17:38:16Z</dcterms:modified>
  <cp:revision>25</cp:revision>
  <dc:subject/>
  <dc:title>What Do I Say?</dc:title>
</cp:coreProperties>
</file>