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C60D-E35C-4E4B-949A-DB9E44D96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92E3-9B92-4D2C-B395-F68F2165E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D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, B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Identifying and analyzing ways people adapt to the physical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Identifying and analyzing how people have modified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8F7A-2317-42AF-BF18-58544D8D9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D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, B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Identifying and analyzing ways people adapt to the physical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Identifying and analyzing how people have modified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7D98-F100-45F8-B487-6CE50DF0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6B3F-D374-41D3-98EB-E0483893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FF6A-E773-47C0-8FE5-DBDE3986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B54F-3D24-4306-9E1B-7A439B8E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84DB-7221-4658-9F5D-81BB5654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86F7-73E0-45FB-904D-FE738376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3296-5E1E-4177-A081-4AF05E22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AD21-D312-4940-BC5F-F501DDA6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00D0-C1C0-4D90-8500-762CEB7A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22A6-4088-40FC-9CE1-05D5380A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3933-EED1-445E-AD86-FAA2E955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CAEB-3F1F-44EC-BE6E-CB166568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1FAC-B7B4-4056-A5D1-B809F264D5E7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9e4c9"/>
                </a:solidFill>
                <a:latin typeface="Times New Roman"/>
              </a:rPr>
              <a:t>Egyptian Food</a:t>
            </a:r>
            <a:br>
              <a:rPr sz="2400"/>
            </a:br>
            <a:endParaRPr b="0" lang="en-US" sz="41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94588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Egyptians ate mostly fish, poultry, and bread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y also enjoyed fruits and vegetables grown locally by farmers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se farmers depended on a yearly flood from the Nile River to restore nutrients to the soil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579132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17220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7520" y="15238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Nile River was the source of nearly  all food in ancient Egypt. It provided water for irrigation and for daily u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48520" y="266760"/>
            <a:ext cx="2190600" cy="2705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Egyptian Food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main food crops, barley and emmer, were used to make bread, the main diet of Egyptians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Grains were harvested and stored in granaries until ready to be processed.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amount of grain harvested often was more than the needs of the country.  Grain was exported to neighboring countries, providing a source of income for the Egyptian treasury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57800" y="380880"/>
            <a:ext cx="2971800" cy="198756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0:46:28Z</dcterms:created>
  <dc:creator>Charles C. Farnsworth, Ph.D. - Instructional Design</dc:creator>
  <dc:description/>
  <dc:language>en-US</dc:language>
  <cp:lastModifiedBy>Vince Hardy</cp:lastModifiedBy>
  <dcterms:modified xsi:type="dcterms:W3CDTF">2007-02-14T19:12:24Z</dcterms:modified>
  <cp:revision>21</cp:revision>
  <dc:subject/>
  <dc:title>No Slide Title</dc:title>
</cp:coreProperties>
</file>