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512DD-9DA6-47DA-98BA-563A675012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 (A) Determine the purpose of liste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) Apply knowledg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B) Use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C) Locate words using dictionaries, glossaries and other sour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A) Regular reading of independent-level mater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B) Regular reading of challenging instructional-level mater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C) Demonstrate fluency and effectiveness as read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D) Adjustment of reading rate depending on purp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E) Read aloud in ways that reflects understanding and engages listen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8 (C) Read for varied purpo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A) Use personal knowledge and experiences for comprehen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B) Establish and adjust purposes for re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C) Monitor comprehension and modify when understanding breaks dow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D) Describe mental images and text evok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E) Use the text’s structure to locate and recal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F) Determine a text’s main ideas and support with detai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G) Paraphrase and summarize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H) Draw inferences and support them with the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I) Find similarities and differences across tex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J) Distinguish fact and opinion in various tex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K) Answer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to find a home for a stray kitte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using a boxtok computer devic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(Summ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upse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(to prepare King Tut’s tom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an hereditary rul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contemptuou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the presence of the open sewage ditches associated with the worker’s ten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were required for their return trav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been rude since he did not like to feel inferio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C, H, K, M)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Monitoring comprehension and making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) Drawing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 Answering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) Using study strategies to work on idea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C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ing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2 (F, G, K)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) Analyzing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) Recognizing and analyzing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 Recognizing how style, tone, and mood contribute to the affect of tex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0 (C, H, K, M), 7.11 (C), 7.12 (F, G, K), 8.10 (C, H, K, M), 8.11 (C), 8.12 (F, G, 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0835-575C-41A6-823A-C3C9012DE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49F7-1EF7-4078-9B67-5F99B5097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4AB2-8878-4C8C-AAB8-B90393214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5A7E-B96C-47BF-BC0E-573DD0993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2255-D907-4671-989B-5CE17FC4D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16E4-5485-4BCE-8E9A-DD5FE292C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727F-98A6-4307-961A-EE4FA3CC3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442F-F7C0-4045-B235-46DF751F9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F624-6D29-4D6F-9C7D-1410CE678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B95B-2247-4CF2-A93F-08BF251E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D39A-83FC-4599-A08F-BDABC0A4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7E28-79A1-469A-B4F8-DC2DB3DF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CC9DC-2D31-4F72-A6BA-1329419ABE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77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were the travelers’ backpacks essential?  The backpacks 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ained medicine in case any of them fell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re the only way to carry home souvenirs of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gyp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d not belong to them and needed to b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turn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re required for their return trave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1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1425600" y="3138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1425600" y="4094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1430280" y="4954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6"/>
          <a:stretch/>
        </p:blipFill>
        <p:spPr>
          <a:xfrm>
            <a:off x="1430280" y="5834160"/>
            <a:ext cx="37476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886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63756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f K.T. and her friends had advised the Overseer on how to fix some of the problems at the work site, he probably would have …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637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en rude since he did not like to feel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erio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37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en so grateful that he would have give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m a treasure from the tom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37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anked them nice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37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it his job and appointed them to overse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onstruction si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1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413000" y="33289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1413000" y="42624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1417680" y="51195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6"/>
          <a:stretch/>
        </p:blipFill>
        <p:spPr>
          <a:xfrm>
            <a:off x="1417680" y="5722920"/>
            <a:ext cx="37476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1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114800" y="5029200"/>
            <a:ext cx="961920" cy="5047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3200400" y="2857680"/>
            <a:ext cx="279072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77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did the friends in this story travel to Egyp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gather information for a scienc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was an accident. They meant to go to the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wimming poo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find a home for a stray kitt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care their friend Trav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425600" y="3132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425600" y="3713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1417680" y="4646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1417680" y="5211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id the friends travel to Egyp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using a boxtok computer dev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stepping through a mirror into another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men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passing through a time portal found in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ckyard tree ho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drinking a magic po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406520" y="2700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406520" y="329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1417680" y="4186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1417680" y="5154480"/>
            <a:ext cx="37476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friend knew the most about ancient Egypt and Tutankhamu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.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m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n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v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413000" y="3138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1413000" y="37004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1417680" y="425592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1417680" y="4818240"/>
            <a:ext cx="37476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of the following best describes  Nefah’s state-of-mind when she met the time traveler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ps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400040" y="357012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1400040" y="4106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1405080" y="46497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1405080" y="5199120"/>
            <a:ext cx="37440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did the new Pharaoh require so many  new worker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build the Great Pyrami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prepare King Tut’s tom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lean up damage caused by flooding of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Nile Ri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onstruct a new palace for himsel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73120" y="524520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e6cbb0"/>
          </a:solidFill>
          <a:ln w="9360">
            <a:solidFill>
              <a:srgbClr val="e6c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6f70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413000" y="3138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413000" y="37004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417680" y="4307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1417680" y="5224320"/>
            <a:ext cx="37476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619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.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lect the best definition for "monarch" in the context of the sentence below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1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"I’ll give you a hint: it’s home to the world’s most famous teenage monarch."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1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hereditary rul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1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architectural design resembling an ar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1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rge brightly colored butterf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1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arr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413000" y="38368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1413000" y="43988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1417680" y="4954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1417680" y="5541840"/>
            <a:ext cx="37476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ttitude of the Overseer in the story is best described as 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i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g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r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mptuo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1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1406520" y="3087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1413000" y="3656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1417680" y="4224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1417680" y="4773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761760" y="1828440"/>
            <a:ext cx="7848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400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the most likely source of the "stench from the encampment" referred to in the stor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workers cook exotic meals that smell ba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K.T. and her friend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aint used to decorate the tom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resence of the open sewage ditche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sociated with the workers’ t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horses used to pull the chario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1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413000" y="35384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1415880" y="4437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1414440" y="5014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1407960" y="5916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5T14:21:23Z</dcterms:created>
  <dc:creator>ITMD</dc:creator>
  <dc:description/>
  <dc:language>en-US</dc:language>
  <cp:lastModifiedBy>Vince Hardy</cp:lastModifiedBy>
  <dcterms:modified xsi:type="dcterms:W3CDTF">2007-10-30T14:52:40Z</dcterms:modified>
  <cp:revision>105</cp:revision>
  <dc:subject/>
  <dc:title>Investigator’s Challenge Quiz</dc:title>
</cp:coreProperties>
</file>