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249B-2061-4399-AEC3-A417D8050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F) Evaluate personal research and raise n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earch King Tutankhamen King Tut histo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fine obituary.  Provide examples of obituaries from the local paper if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Compare text events with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Articulate and discuss themes across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d appropriate form of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H) Produce cohesively writte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F) Choose an appropriate form for individual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B) Capitalize and punctuate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C) Correctly spell syllable constructions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D) Correctly spell roots in writing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F) Employ standard English usage in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G) Use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F, 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King Tut King Tutankhamen obituary compare contra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74925-F7A2-4FE4-BE46-9325B40C6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4797-3A07-4F9E-99A8-52FB26CFD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2B71F-0F00-4CDF-A1C4-53BF83A9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059F9-ABFD-4639-8F44-F7254AE46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C830C-5B35-499B-BAF9-A6603645F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6623-F3C1-4FD4-BF59-57F82C8EC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7E33-8263-4813-A570-E6AA43A7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53388-6724-4F72-A156-7295FC7DD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4523D-C301-4BB6-A70A-5E21A6A7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3A86-4061-463A-BB81-EFD493546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AB6E-4E7D-4C95-A721-A2BD10C7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BA5F-7084-42DF-BD0D-FCB74A8F7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AC46-7113-4955-B603-2786CD6A8680}"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gHistor.ppt"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1880" y="205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696960" y="15476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dentify important events during King Tut’s reign.</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se research to write a summary of King Tut’s life.</a:t>
            </a:r>
            <a:endParaRPr b="0" lang="en-US" sz="32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3" name="PlaceHolder 2"/>
          <p:cNvSpPr>
            <a:spLocks noGrp="1"/>
          </p:cNvSpPr>
          <p:nvPr>
            <p:ph/>
          </p:nvPr>
        </p:nvSpPr>
        <p:spPr>
          <a:xfrm>
            <a:off x="762120" y="1628280"/>
            <a:ext cx="7772400" cy="319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u="sng">
                <a:solidFill>
                  <a:srgbClr val="ccccff"/>
                </a:solidFill>
                <a:uFillTx/>
                <a:latin typeface="Times New Roman"/>
                <a:hlinkClick r:id="rId2"/>
              </a:rPr>
              <a:t>Click here for a brief history</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4" name="" descr=""/>
          <p:cNvPicPr/>
          <p:nvPr/>
        </p:nvPicPr>
        <p:blipFill>
          <a:blip r:embed="rId3"/>
          <a:stretch/>
        </p:blipFill>
        <p:spPr>
          <a:xfrm>
            <a:off x="0" y="0"/>
            <a:ext cx="20952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1638360" y="1422360"/>
            <a:ext cx="5562720" cy="2889360"/>
          </a:xfrm>
          <a:prstGeom prst="rect">
            <a:avLst/>
          </a:prstGeom>
          <a:ln w="88920">
            <a:solidFill>
              <a:srgbClr val="e6cbaf"/>
            </a:solidFill>
            <a:miter/>
          </a:ln>
        </p:spPr>
      </p:pic>
      <p:sp>
        <p:nvSpPr>
          <p:cNvPr id="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8" name="PlaceHolder 2"/>
          <p:cNvSpPr>
            <a:spLocks noGrp="1"/>
          </p:cNvSpPr>
          <p:nvPr>
            <p:ph/>
          </p:nvPr>
        </p:nvSpPr>
        <p:spPr>
          <a:xfrm>
            <a:off x="517680" y="4486320"/>
            <a:ext cx="8084880" cy="2130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64"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66" name=""/>
          <p:cNvGrpSpPr/>
          <p:nvPr/>
        </p:nvGrpSpPr>
        <p:grpSpPr>
          <a:xfrm>
            <a:off x="380880" y="1981080"/>
            <a:ext cx="8570880" cy="4502160"/>
            <a:chOff x="380880" y="1981080"/>
            <a:chExt cx="8570880" cy="450216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4" name=""/>
              <p:cNvGraphicFramePr/>
              <p:nvPr/>
            </p:nvGraphicFramePr>
            <p:xfrm>
              <a:off x="4643280" y="2170080"/>
              <a:ext cx="1546560" cy="1012680"/>
            </p:xfrm>
            <a:graphic>
              <a:graphicData uri="http://schemas.openxmlformats.org/presentationml/2006/ole">
                <p:oleObj r:id="rId9" spid="">
                  <p:embed/>
                  <p:pic>
                    <p:nvPicPr>
                      <p:cNvPr id="75"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7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22:26Z</dcterms:modified>
  <cp:revision>7</cp:revision>
  <dc:subject/>
  <dc:title>Tut’s Revenge</dc:title>
</cp:coreProperties>
</file>