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AF0-C258-4337-9E36-2E90B13A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 coul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ontamination of the water supply by in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workers’ bathrooms (priv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sanitary food preparation conditions that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acceptable working conditions that include poor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within the tomb, inadequate rest and lack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important points are reviewed in the science and math exercises included in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(A) Regular reading of independent-level mate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B) Establish and adjust purposes fo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F) Determine a text’s main ideas and support with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G) Paraphrase and summarize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B) Capitalize and punctuate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C) Use conjunction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on communication unlocking langua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 persuasive essay or presentation.  These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hoose one side of an issue or one aspect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irmly state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mploy a definite organizational strategy for def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Provide at least three supporting reasons fo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. In this case, these should be based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your position in the concl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Eliminate barriers to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Understand major ideas and evidence in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D) Listen to learn by taking notes, organizing, and summarizing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Write to 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G) Understand the influence of other languages and cultures o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B) Developing drafts by categorizing ideas into paragraphs and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C) Revise drafts by elaborating, deleting, moving, and combining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D) Revise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E) Edit drafts for specific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F) Use technology for creating, revising, editing, and publishing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G) Refine selected pieces to publish for general to specific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H) Proofread individual writing and that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I) Use of reference materials for writing, revising, and editing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(A) Connecting own experiences, information, and ideas with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B) Demonstrate effective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(B) Interpret text ideas through varied m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B) Write to influenc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H) Produce cohesively written tex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C) Correctly spell syllable constructions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D) Correctly spell roots in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F) Spell accurately in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oral presentation persuasion speech letter writing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n informative narrative. The student should be able to tell how to do something so that someone else could replicate the task.  A consistent organizational structure is essential. The presentation or essay should include an introduction, first step, successive steps and a conclusion. For example, the students could create a presentation that informed the supervisor how to properly treat water to prevent further spread of the mysterious ill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Collaborate with other writers to compose, organize, and revise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B) Produce communications using technology or appropriat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C) Assess how language, medium, and presentation contribute to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C) 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D) Write to ente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resentation informative e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EA1-3016-4009-9B00-B24B39BC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56C-C938-42F1-8EF9-DE06D47B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90D-0FB3-4B8C-87FA-168013E7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997-925E-4AAA-98BA-F39932B3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3B3-1022-478F-BBDA-61352770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C56-3927-4C26-9B2C-F8EBCFE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844-ECBC-4A1B-8E94-09995061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365-9E7D-4196-84F4-C902AA8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5E8-A33A-4078-A527-74E44A7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721-FDC1-4A4F-8240-24B999B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412-84BF-4467-B9FF-62A3DD2B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A8A-7BCB-4BAB-B0CF-253711F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8499-75BE-4F9B-8B37-169FE3073C41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EgGraVoc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file:///Appendices/Persua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hyperlink" Target="file:///Appendices/InfoEs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1440" y="1828800"/>
            <a:ext cx="77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Understand the purpose of persuasive writing or speaking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Analyze the effectiveness of persuasive arguments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A Lesson for the Oversee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1828440"/>
            <a:ext cx="49528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Re-read the end of the story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ut yourself in K.T.’s plac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Identify and discuss three important points that she should share with the Overseer before she returns hom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y is it important for her to communicate with the Overse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219240" cy="686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154320" cy="2789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You’ve learned important information about the illness. Continue to share your knowledge with others!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First, try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Quiz 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to sharpen your communication skill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373560" cy="451188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67000" y="12949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 letter to the Overseer that persuades him to correct problems at the camp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n oral presentation for the Overseer that informs him of your findings and persuades him to take action.  Use visual images to strengthen your cas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76320" y="1447920"/>
            <a:ext cx="3622680" cy="395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613404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persuas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3360" y="21096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How to Make the Place Saf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0040" y="1638000"/>
            <a:ext cx="441936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Create a presentation instructing work-site supervisors on the specific precautions required to prevent the illnes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Select one change that must be made and write a detailed and informative description of how to implement the needed chang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69720" y="1360440"/>
            <a:ext cx="3932280" cy="387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5680" y="4952880"/>
            <a:ext cx="37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informat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8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9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23:04Z</dcterms:created>
  <dc:creator>Vince Hardy</dc:creator>
  <dc:description/>
  <dc:language>en-US</dc:language>
  <cp:lastModifiedBy>Ljlab</cp:lastModifiedBy>
  <dcterms:modified xsi:type="dcterms:W3CDTF">2008-12-15T18:23:43Z</dcterms:modified>
  <cp:revision>5</cp:revision>
  <dc:subject/>
  <dc:title>Tut’s Revenge</dc:title>
</cp:coreProperties>
</file>