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DC69-D6A7-40F4-96C2-8BCCF43F4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F) Evaluate personal research and raise n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earch King Tutankhamen King Tut hist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fine obituary.  Provide examples of obituaries from the local paper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d appropriate form of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H) Produce cohesively writte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 appropriate form for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Capitalize and punctuate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C) Correctly spell syllable construction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D) Correctly spell roots in writing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G) Use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King Tut King Tutankhamen obituary compare contra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068A7-59A1-4856-A212-F4F1CD52E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EE8F6-2CCC-47CE-90DC-60EA5897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98D76-EA5D-46CE-A359-E9FDBB924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F432D-3EA8-496B-AF5B-75AEE2AE6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1E6F-E206-4861-9310-E626249B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92EE-82DA-466D-8A57-AED985F2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B8949-8649-4FE4-987F-199A9AE6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36CE-85EA-4DB2-AB82-EDAF4AC8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7B80-7EB1-4A58-91BC-19E2C5E1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4B36-BE31-44E9-844D-25540842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9524-17FB-4354-826D-90947773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B9253-F412-4B0D-B66C-3B43137D1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7527-4B05-4B49-8413-7A632D1FE454}"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gHistor.ppt"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1880" y="205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96960" y="15476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dentify important events during King Tut’s reign.</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research to write a summary of King Tut’s life.</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3" name="PlaceHolder 2"/>
          <p:cNvSpPr>
            <a:spLocks noGrp="1"/>
          </p:cNvSpPr>
          <p:nvPr>
            <p:ph/>
          </p:nvPr>
        </p:nvSpPr>
        <p:spPr>
          <a:xfrm>
            <a:off x="762120" y="1628280"/>
            <a:ext cx="7772400" cy="319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u="sng">
                <a:solidFill>
                  <a:srgbClr val="ccccff"/>
                </a:solidFill>
                <a:uFillTx/>
                <a:latin typeface="Times New Roman"/>
                <a:hlinkClick r:id="rId2"/>
              </a:rPr>
              <a:t>Click here for a brief history</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4" name="" descr=""/>
          <p:cNvPicPr/>
          <p:nvPr/>
        </p:nvPicPr>
        <p:blipFill>
          <a:blip r:embed="rId3"/>
          <a:stretch/>
        </p:blipFill>
        <p:spPr>
          <a:xfrm>
            <a:off x="0" y="0"/>
            <a:ext cx="20952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1638360" y="1422360"/>
            <a:ext cx="5562720" cy="2889360"/>
          </a:xfrm>
          <a:prstGeom prst="rect">
            <a:avLst/>
          </a:prstGeom>
          <a:ln w="88920">
            <a:solidFill>
              <a:srgbClr val="e6cbaf"/>
            </a:solidFill>
            <a:miter/>
          </a:ln>
        </p:spPr>
      </p:pic>
      <p:sp>
        <p:nvSpPr>
          <p:cNvPr id="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8" name="PlaceHolder 2"/>
          <p:cNvSpPr>
            <a:spLocks noGrp="1"/>
          </p:cNvSpPr>
          <p:nvPr>
            <p:ph/>
          </p:nvPr>
        </p:nvSpPr>
        <p:spPr>
          <a:xfrm>
            <a:off x="517680" y="4486320"/>
            <a:ext cx="8084880" cy="2130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64"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66" name=""/>
          <p:cNvGrpSpPr/>
          <p:nvPr/>
        </p:nvGrpSpPr>
        <p:grpSpPr>
          <a:xfrm>
            <a:off x="380880" y="1981080"/>
            <a:ext cx="8570880" cy="4502160"/>
            <a:chOff x="380880" y="1981080"/>
            <a:chExt cx="8570880" cy="450216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4" name=""/>
              <p:cNvGraphicFramePr/>
              <p:nvPr/>
            </p:nvGraphicFramePr>
            <p:xfrm>
              <a:off x="4643280" y="2170080"/>
              <a:ext cx="1546560" cy="1012680"/>
            </p:xfrm>
            <a:graphic>
              <a:graphicData uri="http://schemas.openxmlformats.org/presentationml/2006/ole">
                <p:oleObj r:id="rId9" spid="">
                  <p:embed/>
                  <p:pic>
                    <p:nvPicPr>
                      <p:cNvPr id="75"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7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22:26Z</dcterms:modified>
  <cp:revision>7</cp:revision>
  <dc:subject/>
  <dc:title>Tut’s Revenge</dc:title>
</cp:coreProperties>
</file>