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0258-0B11-4E16-A01B-27258A912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1410-EA21-40CC-88E0-B980669C4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effects of physical processes and the physical environment on huma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8920-833A-4838-83BB-0564535B0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B962-A7DD-469F-A7D2-74B44741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DD38-C252-496A-ABD8-F3BBEC8C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9DE0-48F4-49EB-AC76-220A8D8C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3C15-FD5A-408E-9868-9FABBFB3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F9D-04D7-4C78-8E44-FC825F6D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FD4D-4772-4807-8EAE-4B95622E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6C3-D4E2-445D-B946-B016048F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18C9-E771-4247-970E-6B4D5376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9F3-6F9D-4159-9F43-007AFBD9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D10C-0B05-4367-89E9-3D24486F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EFD9-CCF9-4CF4-B7D6-F322B62D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06D5-F197-418B-A99A-A48841D8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E60F-C019-4BAA-899E-AAD5013EDDC3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Egypt and the Nile River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Nile River is Egypt’s most important natural resource.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river provides irrigation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water for agriculture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Each year, the river floods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and brings a new layer of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rich, fertile soil to the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surrounding farmland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people have depended on the river for water, food, and transportation since ancient times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Most of the people of Egypt live along the Nile. The rest of the country is very thinly settled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4172040" cy="244476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The Landscap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Much of Egypt is a desert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re are mountains to the west of the Nile River.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Nile River runs through Egypt, watering the land and feeding its people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land along the Nile is green and fertile. Nearly all of Egypt’s farms are located along the Nile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216680" cy="365760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38:38Z</dcterms:created>
  <dc:creator>Charles C. Farnsworth, Ph.D. - Instructional Design</dc:creator>
  <dc:description/>
  <dc:language>en-US</dc:language>
  <cp:lastModifiedBy>ljlab</cp:lastModifiedBy>
  <dcterms:modified xsi:type="dcterms:W3CDTF">2007-08-20T17:03:43Z</dcterms:modified>
  <cp:revision>28</cp:revision>
  <dc:subject/>
  <dc:title>People along the Nile River</dc:title>
</cp:coreProperties>
</file>