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D4107-631D-4B74-87F5-A0881AFDE7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CA875-27F9-4898-90CD-6A71BAFF8E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ience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A) Identify energy transformations during the human production of ener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B) Compare methods used for transforming energy in de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Research and describe energy types from their source to their 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B) Identify roles of groundwater and surface water in a waters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C) Describe components of the atmosphere and its role in weather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, D)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Locating societies on maps and globes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and explaining geographic factors responsible for location of economic activities in pla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5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xplaining factors that influence economic development and foreign polici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C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alyzing effects of physical processes and the physical environment on human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and analyzing ways people adapt to the physical environmen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8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mparing ways societies organize production and distribu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A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ifferentiating between, locating, and using primary and secondary sources to acquire about world cul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3977B-9D7A-4100-9AF3-C8DC45FB1A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ience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A) Identify energy transformations during the human production of ener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B) Compare methods used for transforming energy in de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Research and describe energy types from their source to their 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B) Identify roles of groundwater and surface water in a waters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C) Describe components of the atmosphere and its role in weather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, D)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Locating societies on maps and globes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and explaining geographic factors responsible for location of economic activities in pla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5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xplaining factors that influence economic development and foreign polici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and analyzing ways people adapt to the physical environmen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A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ifferentiating between, locating, and using primary and secondary sources to acquire about world cult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BFE6-C950-4C4C-BBEF-62EE4D1FC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2AB6-BC95-4067-8F5C-AC1C490DE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5516-9B53-4541-A163-C8D4030B8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8A8D-72B4-4D06-B539-449443E96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E45C-3369-4C63-9688-45EFDA5CA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9636-4D57-41CE-9419-C8CD85216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FEA4-B637-4B18-9051-4A7A2234B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28A2-59DF-4C89-8FA8-6732C0957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D6A4-4CFB-41A8-91D4-C6831C10F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EBC2-BE28-4A3F-8FE2-4E746057C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5489-396A-4A8B-AF83-FA94E17D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1597-54F9-4538-8635-AB8B1A845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9e4c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9e4c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9e4c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9e4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9e4c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9e4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9e4c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9e4c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BED4E-40EF-494A-B218-6F44139657A8}" type="slidenum">
              <a:rPr b="0" lang="en-US" sz="1400" spc="-1" strike="noStrike">
                <a:solidFill>
                  <a:srgbClr val="f9e4c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Egypt and the Nile River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spcAft>
                <a:spcPts val="1500"/>
              </a:spcAft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The Nile River is Egypt’s most important natural resource. 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-343080"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The river provides irrigation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water for agriculture.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-343080"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Each year, the river floods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and brings a new layer of 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rich, fertile soil to the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surrounding farmland.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The people have depended on the river for water, food, and transportation since ancient times.  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Most of the people of Egypt live along the Nile. The rest of the country is very thinly settled.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572000" y="1752480"/>
            <a:ext cx="4172040" cy="2444760"/>
          </a:xfrm>
          <a:prstGeom prst="rect">
            <a:avLst/>
          </a:prstGeom>
          <a:ln w="88920">
            <a:solidFill>
              <a:srgbClr val="f9e4c9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3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The Landscape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5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Much of Egypt is a desert.  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5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There are mountains to the west of the Nile River. 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5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The Nile River runs through Egypt, watering the land and feeding its people.  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5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The land along the Nile is green and fertile. Nearly all of Egypt’s farms are located along the Nile.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495680" y="1905120"/>
            <a:ext cx="4216680" cy="3657600"/>
          </a:xfrm>
          <a:prstGeom prst="rect">
            <a:avLst/>
          </a:prstGeom>
          <a:ln w="88920">
            <a:solidFill>
              <a:srgbClr val="f9e4c9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4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20:38:38Z</dcterms:created>
  <dc:creator>Charles C. Farnsworth, Ph.D. - Instructional Design</dc:creator>
  <dc:description/>
  <dc:language>en-US</dc:language>
  <cp:lastModifiedBy>ljlab</cp:lastModifiedBy>
  <dcterms:modified xsi:type="dcterms:W3CDTF">2007-08-20T17:03:43Z</dcterms:modified>
  <cp:revision>28</cp:revision>
  <dc:subject/>
  <dc:title>People along the Nile River</dc:title>
</cp:coreProperties>
</file>