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1650-5462-4589-BCA4-DA44F6C83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E8C7-B587-4B50-94AE-65F43F247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0D28-2819-4D4A-B10B-D6CDF1BD4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19B-47B0-408F-BB94-F0AEBB35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5BF-2521-4967-9B07-10D23D34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921-3B7A-4DFF-BE05-0201C4CA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7193-CF82-453D-8599-0087FC7D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F64-21E4-41E6-943A-5DDDA431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1883-68CC-433C-95F1-83054BD2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D0D-874B-436A-BB35-B25119F8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DCD-907F-4C5C-8AF5-B07B2169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841-FDA9-42AA-A9E4-F314157E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94B5-DC54-4A13-8494-D337074E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3E9-0064-43B2-A491-CEC4491A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1CB-C6AF-4A99-B234-E030FEEF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BD4B-4234-47FE-B3A4-187B4636EFB5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br>
              <a:rPr sz="2400"/>
            </a:br>
            <a:endParaRPr b="0" lang="en-US" sz="41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9458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gyptians ate mostly fish, poultry, and bread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y also enjoyed fruits and vegetables grown locally by farmer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se farmers depended on a yearly flood from the Nile River to restore nutrients to the soi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79132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17220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520" y="15238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Nile River was the source of nearly  all food in ancient Egypt. It provided water for irrigation and for daily 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main food crops, barley and emmer, were used to make bread, the main diet of Egyptian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Grains were harvested and stored in granaries until ready to be processed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amount of grain harvested often was more than the needs of the country.  Grain was exported to neighboring countries, providing a source of income for the Egyptian treasury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971800" cy="19875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46:28Z</dcterms:created>
  <dc:creator>Charles C. Farnsworth, Ph.D. - Instructional Design</dc:creator>
  <dc:description/>
  <dc:language>en-US</dc:language>
  <cp:lastModifiedBy>Vince Hardy</cp:lastModifiedBy>
  <dcterms:modified xsi:type="dcterms:W3CDTF">2007-02-14T19:12:24Z</dcterms:modified>
  <cp:revision>21</cp:revision>
  <dc:subject/>
  <dc:title>No Slide Title</dc:title>
</cp:coreProperties>
</file>