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D8F6-AF5A-43DB-855D-AF3BB62D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Slide Show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Show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 coul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ontamination of the water supply by in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of the workers’ bathrooms (priv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sanitary food preparation conditions that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Unacceptable working conditions that include poor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within the tomb, inadequate rest and lack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important points are reviewed in the science and math exercises included in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(A) Regular reading of independent-level mate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(C) Read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B) Establish and adjust purposes fo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F) Determine a text’s main ideas and support with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(G) Paraphrase and summarize tex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B) Capitalize and punctuate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C) Use conjunction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on communication unlocking langua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 persuasive essay or presentation.  These includ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Choose one side of an issue or one aspect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nd firmly state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mploy a definite organizational strategy for def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Provide at least three supporting reasons fo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. In this case, these should be based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te your position in the concl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Eliminate barriers to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Understand major ideas and evidence in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D) Listen to learn by taking notes, organizing, and summarizing a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Write to 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A) Write legibly using cursive or manuscript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G) Understand the influence of other languages and cultures o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D) Use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E) Use prepositional phrases to elaborate writte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mploy standard English usage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H) 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A) Generate ideas and plans for writing by using prewriting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B) Developing drafts by categorizing ideas into paragraphs and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C) Revise drafts by elaborating, deleting, moving, and combin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D) Revise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E) Edit drafts for specific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F) Use technology for creating, revising, editing, and publishing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G) Refine selected pieces to publish for general to specific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H) Proofread individual writing and that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8 (I) Use of reference materials for writing, revising, and editing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(A) Connecting own experiences, information, and ideas with 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B) Demonstrate effective communication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(B) Interpret text ideas through varied me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B) Write to influenc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H) Produce cohesively written tex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C) Correctly spell syllable constructions in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D) Correctly spell roots in wri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(F) Spell accurately in final dra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oral presentation persuasion speech letter writing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should review the principles of an informative narrative. The student should be able to tell how to do something so that someone else could replicate the task.  A consistent organizational structure is essential. The presentation or essay should include an introduction, first step, successive steps and a conclusion. For example, the students could create a presentation that informed the supervisor how to properly treat water to prevent further spread of the mysterious ill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) Write to express, discover, record, develop, and reflect 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 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E) Use voice and style appropriate to the audience and 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F) Choose and appropriate form of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H) Produce cohesively written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) Use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Use conjunctions to connect ideas meaning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0 (E) Present information in various forms using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A) Collaborate with other writers to compose, organize, and revise 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 Select, organize, or produce visuals to complement and extend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B) Produce communications using technology or appropriat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C) Assess how language, medium, and presentation contribute to 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A) Adapt spok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D) Generate criteria to evaluate oral pres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E) Use effective volume, rate, tone, and pit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(F) Clarify and support spoken idea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C) Write to in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D) Write to enter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(F) Choose an appropriate form for individual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B) Write compound and complex sentences with both types of cl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F) Employ standard English usage i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G) Use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(H) Use apostrophes in contractions with increasing correc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resentation informative e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456-7144-4575-B4A5-E07BC129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3E0E-6178-476A-8CE6-1502EA9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506-6180-4EB0-BC53-D2664C1A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29D-DF4E-46A6-8134-CDEF086C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2CE-6E75-42D8-AA8C-157ADEB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9AE-DEEC-4B92-B418-955B829B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03E-25FA-4240-8067-F8203AC1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474-4151-41B7-BF7D-8FA4693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4AD-10EA-434C-938B-25820C11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3E0-8570-4812-B92B-49C370A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E75-DDC5-47FE-8C82-70C90CC0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07A-DED1-42E1-9B39-52A8EB6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ebd0a5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0a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037F-F0DC-4ECE-ADB4-71DC9A312D7A}" type="slidenum">
              <a:rPr b="0" lang="en-US" sz="1400" spc="-1" strike="noStrike">
                <a:solidFill>
                  <a:srgbClr val="ebd0a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EgGraVoc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file:///Appendices/Persua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9.png"/><Relationship Id="rId4" Type="http://schemas.openxmlformats.org/officeDocument/2006/relationships/hyperlink" Target="file:///Appendices/InfoEss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ebd0a5"/>
                </a:solidFill>
                <a:latin typeface="Times New Roman"/>
              </a:rPr>
              <a:t>Tut’s Revenge</a:t>
            </a:r>
            <a:endParaRPr b="0" lang="en-US" sz="88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</a:t>
            </a: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1440" y="1828800"/>
            <a:ext cx="77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Understand the purpose of persuasive writing or speaking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d0a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0a5"/>
                </a:solidFill>
                <a:latin typeface="Times New Roman"/>
              </a:rPr>
              <a:t>Analyze the effectiveness of persuasive arguments.</a:t>
            </a: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A Lesson for the Overseer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1828440"/>
            <a:ext cx="49528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Re-read the end of the story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ut yourself in K.T.’s plac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Identify and discuss three important points that she should share with the Overseer before she returns hom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Why is it important for her to communicate with the Overseer?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219240" cy="686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80880" y="2057400"/>
            <a:ext cx="3154320" cy="2789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87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You’ve learned important information about the illness. Continue to share your knowledge with others!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First, try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Quiz </a:t>
            </a: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to sharpen your communication skill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373560" cy="4511880"/>
          </a:xfrm>
          <a:prstGeom prst="rect">
            <a:avLst/>
          </a:prstGeom>
          <a:ln w="88920">
            <a:solidFill>
              <a:srgbClr val="e6cba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464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Powers of Persuasion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67000" y="12949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 letter to the Overseer that persuades him to correct problems at the camp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Prepare an oral presentation for the Overseer that informs him of your findings and persuades him to take action.  Use visual images to strengthen your cas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76320" y="1447920"/>
            <a:ext cx="3622680" cy="395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613404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persuas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3360" y="210960"/>
            <a:ext cx="82296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0a5"/>
                </a:solidFill>
                <a:latin typeface="Times New Roman"/>
              </a:rPr>
              <a:t>How to Make the Place Safe</a:t>
            </a:r>
            <a:endParaRPr b="0" lang="en-US" sz="4400" spc="-1" strike="noStrike">
              <a:solidFill>
                <a:srgbClr val="ebd0a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0040" y="1638000"/>
            <a:ext cx="441936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Create a presentation instructing work-site supervisors on the specific precautions required to prevent the illness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0a5"/>
                </a:solidFill>
                <a:latin typeface="Times New Roman"/>
              </a:rPr>
              <a:t>Select one change that must be made and write a detailed and informative description of how to implement the needed change.</a:t>
            </a:r>
            <a:endParaRPr b="0" lang="en-US" sz="2800" spc="-1" strike="noStrike">
              <a:solidFill>
                <a:srgbClr val="ebd0a5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69720" y="1360440"/>
            <a:ext cx="3932280" cy="3875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G-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5680" y="4952880"/>
            <a:ext cx="377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lick here</a:t>
            </a:r>
            <a:r>
              <a:rPr b="0" lang="en-US" sz="2800" spc="-1" strike="noStrike" u="sng">
                <a:solidFill>
                  <a:srgbClr val="e6cbaf"/>
                </a:solidFill>
                <a:uFillTx/>
                <a:latin typeface="Times New Roman"/>
              </a:rPr>
              <a:t> for help with informativ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e6cba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344600"/>
            <a:ext cx="855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12859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cba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8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9" name=""/>
              <p:cNvGraphicFramePr/>
              <p:nvPr/>
            </p:nvGraphicFramePr>
            <p:xfrm>
              <a:off x="4643280" y="2170080"/>
              <a:ext cx="1546560" cy="10126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9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3280" y="21700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cba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4:23:04Z</dcterms:created>
  <dc:creator>Vince Hardy</dc:creator>
  <dc:description/>
  <dc:language>en-US</dc:language>
  <cp:lastModifiedBy>Ljlab</cp:lastModifiedBy>
  <dcterms:modified xsi:type="dcterms:W3CDTF">2008-12-15T18:23:43Z</dcterms:modified>
  <cp:revision>5</cp:revision>
  <dc:subject/>
  <dc:title>Tut’s Revenge</dc:title>
</cp:coreProperties>
</file>