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08FC2-B743-4682-8FB6-FA51A8E8EC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8742DC-DAFF-4FF6-A301-EF3899A99E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E51446-FEAA-49B6-8002-E3DA8D2942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34E4A7-36B9-4272-9427-376E39D525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54E0AB-9255-4E34-AA2A-0C9ED5A5E0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82B0E1-2592-4391-98EB-3BB98FFA10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CFE3D2-F3EF-4FF9-9924-A24A37C3B0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747210-2FC8-48B1-B6E1-B4493709D4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7C27F6-5E1B-4178-95E1-62FEE02F89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490660-4A5D-457E-8CA5-D87B0AC22B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A1E155-FD51-49CE-A2EF-2A567E7DF1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C0D203-42F0-4BFC-A61D-2EEF56841C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9F786D-D1A1-4093-8E84-BBABE38695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985F2-F951-4DAF-9508-B3BB129D4DE7}"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3-09-11T17:16:09Z</dcterms:modified>
  <cp:revision>26</cp:revision>
  <dc:subject/>
  <dc:title>Persuasive Writing</dc:title>
</cp:coreProperties>
</file>