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C87-3B67-4F25-A913-47364ADD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slide is meant to be a lead-in to the activity that goes with this mini-modu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240" y="0"/>
            <a:ext cx="6637320" cy="4978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0" y="54864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The Treasury room - it is the farthest from the Entrance and has only one passageway in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8 (B) Measure length, area, time, temperature, capacity, and we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4 (A) Identify and apply mathematics to everyday experi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 underground tomb map floor plan air circu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71280" y="0"/>
            <a:ext cx="6772320" cy="5079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0" y="5029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(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L) Represent text information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arbon dioxide graphs milliliter histogram 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280" y="0"/>
            <a:ext cx="6772320" cy="50799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0" y="50292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= 600 mL/min x 4 hours x 60 min/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,0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A) Communicate mathematical ideas using words, graphs,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2 (F) Select and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3 (C) Select or develop an appropriate problem-solving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4 (A) Communicate mathematical ideas through various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3 (C) Find solutions to problems involving percents and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(A) Estimate, find, and justify solutions to applicatio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5 (A) Communicate mathematical ideas using language, tools, and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arbon monoxide ml milliliter histogram graphs 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(L) = 144,000 mL x 1L/1000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produced (L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nother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(L) = 144,000 mL/1000 mL/L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D) Convert measures within the same measurement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4 (A) Make formulas for conversions, perimeter, area, volume, and sca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 converting units liter milliliter metric multiplicati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io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4 to 37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Fraction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/46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1 (B) Generate equivalent forms of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B) Represent ratios and percents with models, fractions, decim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C) Use ratios to make predi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2 (A) Use appropriate operations to solve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ratio ratios volume liters reduced f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-160200" y="0"/>
            <a:ext cx="7178400" cy="5384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0" y="5384880"/>
            <a:ext cx="685800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, the fraction of carbon dioxide in the air is approximately 1/257 (which is less than 1/1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fore, carbon dioxide would not be at levels that are high enough to cause illness.  The workers’ digestive disturbances cannot be attributed to high carbon dioxide level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h TEK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3 (C) Use ratios to make predi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1 (A) Compare and order integers and positive rationa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1 (A) compare and order rational numbers in various 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WORDS: proportions ratios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034-FB03-4340-A72B-5E13028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913-AFDE-4A23-8770-5AC58F6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29F-EB88-4D23-9EAC-9BBDB008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983-0600-4875-85E0-661AD98B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7FC-793D-43BF-B03D-5F216BAC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BF1-6B65-498B-9ACF-3E2D3C69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00E-E116-4AA2-B08D-8078DEA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1AD-FABB-4115-BF17-6F04ACD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0ED-F6BA-4E78-A84E-BBF096F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9B4-1274-4C63-9B59-F365830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8DD-59EA-4924-9A61-F2FE35FF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33F6-F237-437C-BF61-14B9EC9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8A3-9A20-42FE-BBDF-29720F403FFB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hyperlink" Target="file:///Appendices/TimeMeas.ppt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file:///Appendices/MultFact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Ratio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Appendices/Ratios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Air We Breath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Have you ever thought about how often you breathe, or how much air you breathe out each time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oday we will be investigating both, and doing some math with our findings!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257800" y="4803840"/>
            <a:ext cx="35352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1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3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Interpret bar graphs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Convert between measurement units 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Apply ratios to real-life situations.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The Air inside King Tut’s Tomb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080" y="1735200"/>
            <a:ext cx="82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hen we breathe, we take oxygen out of the air and add  carbon dioxide to the air.  Very high levels of carbon dioxide in the air can cause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you were a worker in King Tut’s tomb, you may be concerned about the air circulatio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29760" y="632304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894040"/>
            <a:ext cx="838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King Tut’s Underground Tomb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8840" y="1555920"/>
            <a:ext cx="258444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f the only way that air can enter or leave the tomb is through the entrance, which room would have the worst air circulation?  Why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2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60480" y="164304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ENT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10600" y="522432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TREAS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13280" y="25956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PA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60880" y="2919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ANTECH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8880" y="47671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ANN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2960" y="564372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6cbaf"/>
                </a:solidFill>
                <a:latin typeface="Times New Roman"/>
              </a:rPr>
              <a:t>BURIAL CHA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752480" y="1219320"/>
          <a:ext cx="5978520" cy="396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219320"/>
                    <a:ext cx="59785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49525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How much carbon dioxide would a worker produce in 1 minute if he was performing light work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07880" y="53136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Production 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(mL/min)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752480" y="981000"/>
          <a:ext cx="5978520" cy="396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981000"/>
                    <a:ext cx="597852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19440" y="4774680"/>
            <a:ext cx="8869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How much carbon dioxide would a worker produce in </a:t>
            </a:r>
            <a:r>
              <a:rPr b="0" lang="en-US" sz="3600" spc="-1" strike="noStrike" u="sng">
                <a:solidFill>
                  <a:srgbClr val="ebd0a5"/>
                </a:solidFill>
                <a:uFillTx/>
                <a:latin typeface="Times New Roman"/>
              </a:rPr>
              <a:t>4 hours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 if he was performing light work?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12560" y="39168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Production </a:t>
            </a:r>
            <a:r>
              <a:rPr b="0" lang="en-US" sz="3600" spc="-1" strike="noStrike">
                <a:solidFill>
                  <a:srgbClr val="ebd0a5"/>
                </a:solidFill>
                <a:latin typeface="Times New Roman"/>
              </a:rPr>
              <a:t>(mL/min)</a:t>
            </a:r>
            <a:endParaRPr b="0" lang="en-US" sz="36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42000" y="6294600"/>
            <a:ext cx="61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 for information on working with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4640" y="53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onverting Units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1 L (liter) = 1000 mL (milliliters)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f a worker performing light work produces 144,000 milliliters of carbon dioxide in 4 hours, how many liters of carbon dioxide is this person producing in 4 hours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4320" y="6189840"/>
            <a:ext cx="74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metric multiplication factor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4640" y="612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Concentration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1. A worker performing light work produces 144 liters      of carbon dioxide in 4 hours. 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d0a5"/>
                </a:solidFill>
                <a:latin typeface="Times New Roman"/>
              </a:rPr>
              <a:t>2. The volume of air in the Treasury room is  37,000 liters.</a:t>
            </a:r>
            <a:endParaRPr b="0" lang="en-US" sz="2600" spc="-1" strike="noStrike">
              <a:solidFill>
                <a:srgbClr val="ebd0a5"/>
              </a:solidFill>
              <a:latin typeface="Times New Roman"/>
            </a:endParaRPr>
          </a:p>
          <a:p>
            <a:pPr lvl="1" marL="8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0a5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0a5"/>
                </a:solidFill>
                <a:latin typeface="Times New Roman"/>
              </a:rPr>
              <a:t>After 4 hours of light work, what is the ratio of carbon dioxide to the volume of air in the room?</a:t>
            </a:r>
            <a:endParaRPr b="0" lang="en-US" sz="30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d0a5"/>
                </a:solidFill>
                <a:latin typeface="Times New Roman"/>
              </a:rPr>
              <a:t>Now express this ratio as a reduced fraction.</a:t>
            </a:r>
            <a:endParaRPr b="0" lang="en-US" sz="30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3440" y="614196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ratio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4640" y="612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arbon Dioxide Concentration 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1. The fraction of carbon dioxide to the volume of air in the Treasury room is 18 / 4,625.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lvl="1" marL="40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d0a5"/>
                </a:solidFill>
                <a:latin typeface="Times New Roman"/>
              </a:rPr>
              <a:t>2. Breathing in air in which the fraction of carbon dioxide is greater than 1 / 100 will cause some discomfort and possible sickness.</a:t>
            </a:r>
            <a:endParaRPr b="0" lang="en-US" sz="24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Will a worker working in the Treasury room and performing light work for 4 hours have difficulty breathing or become sick?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73440" y="614196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For information on ratios,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e6cba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39:45Z</dcterms:created>
  <dc:creator>Vince Hardy</dc:creator>
  <dc:description/>
  <dc:language>en-US</dc:language>
  <cp:lastModifiedBy>Jeremiah McNichols</cp:lastModifiedBy>
  <dcterms:modified xsi:type="dcterms:W3CDTF">2008-06-26T17:43:37Z</dcterms:modified>
  <cp:revision>6</cp:revision>
  <dc:subject/>
  <dc:title>Tut’s Revenge</dc:title>
</cp:coreProperties>
</file>