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F8B18-FD97-4EFE-96AD-61666CB24C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003B1-B19D-4A03-8D8C-C47FB0C302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D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and explaining geographic factors responsible for location of economic activities in pla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5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xplaining factors that influence economic development and foreign polici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A, B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Identifying and analyzing ways people adapt to the physical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 Identifying and analyzing how people have modified the physical environme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8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mparing ways societies organize production and distribu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A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iating between, locating, and using primary and secondary sources to acquire about world cul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04551-E451-425D-A088-BC5F60717F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D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and explaining geographic factors responsible for location of economic activities in pla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5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xplaining factors that influence economic development and foreign polici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A, B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Identifying and analyzing ways people adapt to the physical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 Identifying and analyzing how people have modified the physical environme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8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mparing ways societies organize production and distrib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A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iating between, locating, and using primary and secondary sources to acquire about world cul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4B77-7BE0-4A47-8989-725F7A638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FD1B-F245-4B7E-98BE-A90126779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6766-FAC1-4286-96BE-8193DCA13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A960-4D99-4ACA-8573-83BA276EC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65D5-B75B-4E98-9270-8122F9EB6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0621-3675-4A3F-B6EE-A054CDC16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16F3-C18C-4B2E-A2C3-F046DDEBA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9E48-20A1-4478-89F5-B25F54791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8BF4-DE6E-4C7C-A0E6-5FC6715C3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3E0F-E42C-40CB-9AC8-8604AE1C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CCC2-EE70-4C02-9929-46816432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4C03-BEAA-436D-BB2C-F9625A92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9e4c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9e4c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9e4c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01F66-16D3-4BCB-B2A5-8734ABB0AAC7}" type="slidenum"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9e4c9"/>
                </a:solidFill>
                <a:latin typeface="Times New Roman"/>
              </a:rPr>
              <a:t>Egyptian Food</a:t>
            </a:r>
            <a:br>
              <a:rPr sz="2400"/>
            </a:br>
            <a:endParaRPr b="0" lang="en-US" sz="41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294588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Egyptians ate mostly fish, poultry, and bread.  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hey also enjoyed fruits and vegetables grown locally by farmers.  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hese farmers depended on a yearly flood from the Nile River to restore nutrients to the soil.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5791320"/>
            <a:ext cx="7924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172200"/>
            <a:ext cx="7924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7520" y="1523880"/>
            <a:ext cx="662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spcBef>
                <a:spcPts val="174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he Nile River was the source of nearly  all food in ancient Egypt. It provided water for irrigation and for daily us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48520" y="266760"/>
            <a:ext cx="2190600" cy="27050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Egyptian Food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he main food crops, barley and emmer, were used to make bread, the main diet of Egyptians.  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Grains were harvested and stored in granaries until ready to be processed. 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he amount of grain harvested often was more than the needs of the country.  Grain was exported to neighboring countries, providing a source of income for the Egyptian treasury.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257800" y="380880"/>
            <a:ext cx="2971800" cy="1987560"/>
          </a:xfrm>
          <a:prstGeom prst="rect">
            <a:avLst/>
          </a:prstGeom>
          <a:ln w="88920">
            <a:solidFill>
              <a:srgbClr val="f9e4c9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2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20:46:28Z</dcterms:created>
  <dc:creator>Charles C. Farnsworth, Ph.D. - Instructional Design</dc:creator>
  <dc:description/>
  <dc:language>en-US</dc:language>
  <cp:lastModifiedBy>Vince Hardy</cp:lastModifiedBy>
  <dcterms:modified xsi:type="dcterms:W3CDTF">2007-02-14T19:12:24Z</dcterms:modified>
  <cp:revision>21</cp:revision>
  <dc:subject/>
  <dc:title>No Slide Title</dc:title>
</cp:coreProperties>
</file>