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7202-74F3-4B4D-BC89-4D6AB1929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(A) Determine the purpose of list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Apply knowledg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Use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Locate words using dictionaries, glossaries and other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) Regular reading of independent-leve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B) Regular reading of challenging instructional-leve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C) Demonstrate fluency and effectiveness as rea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D) Adjustment of reading rate depending on purp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E) Read aloud in ways that reflects understanding and engages listen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C) Read for varied purpo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A) Use personal knowledge and experiences for comprehen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B) Establish and adjust purposes for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) Monitor comprehension and modify when understanding breaks 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D) Describe mental images and text evok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E) Use the text’s structure to locate and recal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F) Determine a text’s main ideas and support with deta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G) Paraphrase and summariz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H) Draw inferences and support them with th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I) Find similarities and differences across tex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J) Distinguish fact and opinion in various tex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K) 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find a home for a stray kitt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using a boxtok computer devic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Summ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upse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o prepare King Tut’s tom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an hereditary rul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ntemptuou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he presence of the open sewage ditches associated with the worker’s ten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were required for their return trav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been rude since he did not like to feel inferi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 Using study strategies to work on idea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 Recognizing how style, tone, and mood contribute to the affect of tex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4BC9-E8B0-45D9-938E-8A996992C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D3B5-F7F3-4EEA-A8A1-EB6EF322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5156-996A-443B-9D62-134B3E8B9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B4C8-D1B7-4725-B4DE-1B618050B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B791-48CE-42DD-B1AB-ACE5A0D4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BEFC-A15D-4D20-93B2-A1B63B9C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8012-5798-451F-86CC-5B78D9B5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AC3C-3FB3-4324-B942-8C446A20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2423-FD7C-4292-9C55-5C753092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6A6C-FA98-4CB6-8088-DBF39320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E5B3-B597-48FF-9153-DD7232CE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43AE-24D8-43F1-AF0B-F6A1C311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F66C-92BF-4DDC-A110-C2B9E3A3B2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7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were the travelers’ backpacks essential?  The backpacks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ined medicine in case any of them fel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re the only way to carry home souvenirs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gyp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d not belong to them and needed to b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urn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re required for their return tra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425600" y="313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425600" y="4094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1430280" y="495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1430280" y="5834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88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375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f K.T. and her friends had advised the Overseer on how to fix some of the problems at the work site, he probably would have …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en rude since he did not like to fee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er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en so grateful that he would have give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m a treasure from the tom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nked them nic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t his job and appointed them to overse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struction si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413000" y="3328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413000" y="4262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417680" y="5119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1417680" y="572292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114800" y="502920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200400" y="2857680"/>
            <a:ext cx="27907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7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id the friends in this story travel to Egyp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gather information for a scienc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an accident. They meant to go to the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wimming po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find a home for a stray kit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care their friend Trav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25600" y="3132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425600" y="371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417680" y="4646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417680" y="521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id the friends travel to Egyp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using a boxtok computer de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stepping through a mirror into another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me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passing through a time portal found in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ckyard tree ho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drinking a magic p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406520" y="2700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406520" y="329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417680" y="418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417680" y="5154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friend knew the most about ancient Egypt and Tutankhamu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413000" y="313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413000" y="3700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417680" y="42559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1417680" y="4818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 Nefah’s state-of-mind when she met the time travel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400040" y="35701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400040" y="4106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405080" y="46497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1405080" y="5199120"/>
            <a:ext cx="37440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id the new Pharaoh require so many  new work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uild the Great Pyram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prepare King Tut’s tom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lean up damage caused by flooding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ile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onstruct a new palace for himse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73120" y="52452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413000" y="313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413000" y="3700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417680" y="430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1417680" y="5224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61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the best definition for "monarch" in the context of the sentence bel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"I’ll give you a hint: it’s home to the world’s most famous teenage monarch.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hereditary ru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rchitectural design resembling an 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 brightly colored butterf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ar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413000" y="38368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1413000" y="4398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417680" y="495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1417680" y="554184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titude of the Overseer in the story is best described as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g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mptu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406520" y="3087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413000" y="3656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417680" y="4224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1417680" y="4773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61760" y="182844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00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most likely source of the "stench from the encampment" referred to in the stor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orkers cook exotic meals that smell ba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.T. and her frien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aint used to decorate the tom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esence of the open sewage ditch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ociated with the workers’ t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orses used to pull the chari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413000" y="3538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415880" y="443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414440" y="5014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407960" y="5916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5T14:21:23Z</dcterms:created>
  <dc:creator>ITMD</dc:creator>
  <dc:description/>
  <dc:language>en-US</dc:language>
  <cp:lastModifiedBy>Vince Hardy</cp:lastModifiedBy>
  <dcterms:modified xsi:type="dcterms:W3CDTF">2007-10-30T14:52:40Z</dcterms:modified>
  <cp:revision>105</cp:revision>
  <dc:subject/>
  <dc:title>Investigator’s Challenge Quiz</dc:title>
</cp:coreProperties>
</file>