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1FAA-839B-4B12-9797-FF8DBE752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8AFD-284C-4A6F-83F9-1C3A0ABAF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A06B-E987-42BC-96E8-161125463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B22-7612-4425-81AC-BF4D9D1F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917-3E00-45F8-B16E-95AA0418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FF8-A004-4D83-AD9E-328250AA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09F-7626-4EF3-8272-4CAFADCD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638-B2D6-4DE2-BC5A-EC83FC95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6DB-7DAE-4F3E-96E9-94DB302A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DEF-B18B-436E-993C-DB08FB7C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FA4-8777-4655-B43C-EDEDB029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765-AB8F-410A-A31D-507E2547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D89-1448-4D32-A681-62E589F0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93D-EBFB-47D6-9CE4-1EACAC9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34D-0919-42B8-BB9D-D0B7595C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4C1C-0481-45D9-85DA-AC8543A7054D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Vince Hardy</cp:lastModifiedBy>
  <dcterms:modified xsi:type="dcterms:W3CDTF">2007-02-14T19:12:24Z</dcterms:modified>
  <cp:revision>21</cp:revision>
  <dc:subject/>
  <dc:title>No Slide Title</dc:title>
</cp:coreProperties>
</file>