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DFFC-3E0C-4F82-9476-3E3662E41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 Regular reading of independent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B) Regular reading of challenging instructional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C) Demonstrate fluency and effectiveness as re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Adjustment of reading rate depending on 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E) Read aloud in ways that reflects understanding and engages liste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Determine a text’s main ideas and support with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Find similarities and differences acros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J) Distinguish fact and opinion in variou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find a home for a stray kit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using a boxtok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m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up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o prepare King Tut’s to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 hereditary rul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ntemptuo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he presence of the open sewage ditches associated with the worker’s t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were required for their return trav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een rude since he did not like to feel inferi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 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 Recognizing how style, tone, and mood contribute to the affect of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425-A761-4992-9652-998B9D53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9D04-063A-47AB-A2C1-0D8F57A7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35C-7487-4C8D-B712-2E64E5D5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050-2AFB-45F9-81F2-31451CE0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4FF-6028-4B87-B34F-B7ABEA5E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A4A-35F1-40AE-8D28-DB120096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29A-42DD-4B16-B55C-8DEE5E4A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114-D256-44FE-A1E0-71840BE5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582-0CB5-45DD-9C0F-F1750664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DE24-B041-4D6B-9916-14B209D0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40C-88B7-48EA-A8C6-0D850901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6AD7-11AC-498B-B7BC-373FB026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A716-DB33-4AE1-9A5B-E5DA50D537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ere the travelers’ backpacks essential?  The backpack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medicine in case any of them fe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the only way to carry home souvenir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d not belong to them and needed to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for their return tra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25600" y="313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425600" y="4094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4302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430280" y="583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K.T. and her friends had advised the Overseer on how to fix some of the problems at the work site, he probably would have 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rude since he did not like to fe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so grateful that he would have give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m a treasure from the to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ed them nic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t his job and appointed them to overse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struction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13000" y="3328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413000" y="4262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417680" y="511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417680" y="572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502920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0040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friends in this story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ther information for a scienc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n accident. They meant to go to the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mming p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a home for a stray kit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are their friend 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2560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25600" y="371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17680" y="4646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417680" y="52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the friends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using a boxtok computer 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tepping through a mirror into another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passing through a time portal found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yard tre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drinking a magic p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06520" y="270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06520" y="329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417680" y="418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417680" y="5154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friend knew the most about ancient Egypt and Tutankham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417680" y="42559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417680" y="4818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 Nefah’s state-of-mind when she met the time travel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400040" y="4106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405080" y="4649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405080" y="5199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new Pharaoh require so many  new work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uild the Great Pyram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pare King Tut’s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lean up damage caused by flooding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il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nstruct a new palace for him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31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41768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417680" y="5224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1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e best definition for "monarch" in the context of the sentence be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"I’ll give you a hint: it’s home to the world’s most famous teenage monarch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ereditary r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rchitectural design resembling an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brightly colored butter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ar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1300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413000" y="4398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176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417680" y="55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itude of the Overseer in the story is best described a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tu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406520" y="3087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413000" y="3656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417680" y="422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17680" y="4773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likely source of the "stench from the encampment" referred to in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ers cook exotic meals that smell ba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.T. and her frie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int used to decorate the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ence of the open sewage ditch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d with the workers’ 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rses used to pull the chari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13000" y="3538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15880" y="44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14440" y="501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07960" y="5916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4:21:23Z</dcterms:created>
  <dc:creator>ITMD</dc:creator>
  <dc:description/>
  <dc:language>en-US</dc:language>
  <cp:lastModifiedBy>Vince Hardy</cp:lastModifiedBy>
  <dcterms:modified xsi:type="dcterms:W3CDTF">2007-10-30T14:52:40Z</dcterms:modified>
  <cp:revision>105</cp:revision>
  <dc:subject/>
  <dc:title>Investigator’s Challenge Quiz</dc:title>
</cp:coreProperties>
</file>