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54B24-391C-4133-B6E9-163B5DD439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ECB8D-D028-4351-850A-0DF0FDAED0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AB49F-33EF-4984-830B-257B56F04B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8DD5C-1B5B-45E9-9D56-5F7D881F43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FD898-E776-4D2E-8666-1632E94396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3D120-60A1-41E6-A522-2094D51726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6BEA5-5AEA-4255-B59D-4C20D7B224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A39DA-D984-40DA-ABAC-18ED664310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D25F8-7261-4019-92F3-B93D242685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B4D5D-CAB6-46B8-BD08-934A82F7B0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666FE-85C9-4B24-9EFC-C6F7545910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BF587-CFBE-43A4-A423-276E0EB396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C2481-72CD-484F-B9D9-70D588E8BC9F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our (h) = 60 minutes (min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minute = 60 seconds (s)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Example: Add the following times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 h 30 min 59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300" spc="-1" strike="noStrike" u="sng">
                <a:solidFill>
                  <a:srgbClr val="ebebeb"/>
                </a:solidFill>
                <a:uFillTx/>
                <a:latin typeface="Times New Roman"/>
              </a:rPr>
              <a:t>+ 1 h 29 min   1 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 h 59 min 60 s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3 hours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5105520"/>
            <a:ext cx="15238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E8957-3914-483D-AE98-7DB405E0317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Time Measurem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xample: Subtract the following time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7 min   8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h 36 min 68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- 2 h 29 min 52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 min 16 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Since you cannot subtract 52 s from 8 s, you must restate 37 min 8 s as 36 min 68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3920" y="2819520"/>
            <a:ext cx="12952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8EF84-C579-4D2E-9B3E-910582938A45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29Z</dcterms:modified>
  <cp:revision>208</cp:revision>
  <dc:subject/>
  <dc:title>VTPP 423 - PHYSIOLOGY</dc:title>
</cp:coreProperties>
</file>