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9DAA-2243-41E4-A32C-11E3320F0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2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Ratios/Percents with Models, Fractions, Decim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32D7-2DBD-4304-8A33-F78DEEFE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DEA-1128-4AE7-B10E-B40AA7AC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B3F-87B2-4859-AC88-288626C6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387-3C93-4F21-B78E-068BD4B03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ADCE-6608-4A4D-9E23-5CB3B03D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61C7-B1B4-44C3-AFF9-B1C68665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804-4DD2-4BBD-B321-9D94C2CA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CEF6-16BD-449C-87FC-87681B8E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E75-34ED-457D-AC2F-5099FFB3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205-545B-4962-88E4-8E52A39E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BE2-5E8A-43A9-8882-A142DB1C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A5F-6AD8-476E-8AD4-BCD00BFA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7914-879F-48E1-A0DC-A6245ED61D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emperature Conver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8241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ahrenheit to Celsius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 = 5/9 x (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-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elsius to Fahrenheit 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 = (9/5 x 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) +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2327400"/>
            <a:ext cx="2114280" cy="346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7:43Z</dcterms:created>
  <dc:creator>ITWorkstation</dc:creator>
  <dc:description/>
  <dc:language>en-US</dc:language>
  <cp:lastModifiedBy>Texas A&amp;M Veterinary Medicine</cp:lastModifiedBy>
  <dcterms:modified xsi:type="dcterms:W3CDTF">2005-04-12T18:38:05Z</dcterms:modified>
  <cp:revision>8</cp:revision>
  <dc:subject/>
  <dc:title>Temperature Conversion</dc:title>
</cp:coreProperties>
</file>