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DBDD-CBFE-4F27-8CA5-C248EC3AE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3B65-A85F-4294-92A4-2F39D0AA8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D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, B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Identifying and analyzing ways people adapt to the physical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 Identifying and analyzing how people have modified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ways societies organize production and distribu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18A8-4933-4EFA-AE33-B068C195D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D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and explaining geographic factors responsible for location of economic activities in pla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xplaining factors that influence economic development and foreign polici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, B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Identifying and analyzing ways people adapt to the physical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 Identifying and analyzing how people have modified the physical environ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omparing ways societies organize production and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A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ifferentiating between, locating, and using primary and secondary sources to acquire about world cul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9384-8CF1-4EA0-A519-23850F4E2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4C43-1BD4-4F8B-80D2-20AA0006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437F-D300-4A6C-8D1B-5063A4914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6C5D-0FDB-4BF2-AF58-4D476929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C64C-0324-48BE-8754-9104C7FC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92D5-7A6D-40C7-BF8F-90D13860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D846-00DE-4F5C-A977-5288D139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BB58-9379-47EA-8E26-1836139A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0D1A-F460-47E3-AA09-2E393E75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EE0A-A34F-4848-8AD3-744A21F7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A9D3-82D2-4EE3-9CBD-1CFB04A7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B6F0-2F22-45E9-A5C6-3179EA3D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9e4c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9e4c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9e4c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3EBA-F443-4E80-AF03-DD350A7AE02A}" type="slidenum">
              <a:rPr b="0" lang="en-US" sz="1400" spc="-1" strike="noStrike">
                <a:solidFill>
                  <a:srgbClr val="f9e4c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9e4c9"/>
                </a:solidFill>
                <a:latin typeface="Times New Roman"/>
              </a:rPr>
              <a:t>Egyptian Food</a:t>
            </a:r>
            <a:br>
              <a:rPr sz="2400"/>
            </a:br>
            <a:endParaRPr b="0" lang="en-US" sz="41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94588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Egyptians ate mostly fish, poultry, and bread. 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y also enjoyed fruits and vegetables grown locally by farmers. 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se farmers depended on a yearly flood from the Nile River to restore nutrients to the soil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5791320"/>
            <a:ext cx="7924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172200"/>
            <a:ext cx="7924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7520" y="152388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spcBef>
                <a:spcPts val="1749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Nile River was the source of nearly  all food in ancient Egypt. It provided water for irrigation and for daily u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48520" y="266760"/>
            <a:ext cx="2190600" cy="2705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e4c9"/>
                </a:solidFill>
                <a:latin typeface="Times New Roman"/>
              </a:rPr>
              <a:t>Egyptian Food</a:t>
            </a:r>
            <a:endParaRPr b="0" lang="en-US" sz="4400" spc="-1" strike="noStrike">
              <a:solidFill>
                <a:srgbClr val="f9e4c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main food crops, barley and emmer, were used to make bread, the main diet of Egyptians. 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Grains were harvested and stored in granaries until ready to be processed. 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9e4c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9e4c9"/>
                </a:solidFill>
                <a:latin typeface="Times New Roman"/>
              </a:rPr>
              <a:t>The amount of grain harvested often was more than the needs of the country.  Grain was exported to neighboring countries, providing a source of income for the Egyptian treasury.</a:t>
            </a:r>
            <a:endParaRPr b="0" lang="en-US" sz="2800" spc="-1" strike="noStrike">
              <a:solidFill>
                <a:srgbClr val="f9e4c9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257800" y="380880"/>
            <a:ext cx="2971800" cy="1987560"/>
          </a:xfrm>
          <a:prstGeom prst="rect">
            <a:avLst/>
          </a:prstGeom>
          <a:ln w="88920">
            <a:solidFill>
              <a:srgbClr val="f9e4c9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2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20:46:28Z</dcterms:created>
  <dc:creator>Charles C. Farnsworth, Ph.D. - Instructional Design</dc:creator>
  <dc:description/>
  <dc:language>en-US</dc:language>
  <cp:lastModifiedBy>Vince Hardy</cp:lastModifiedBy>
  <dcterms:modified xsi:type="dcterms:W3CDTF">2007-02-14T19:12:24Z</dcterms:modified>
  <cp:revision>21</cp:revision>
  <dc:subject/>
  <dc:title>No Slide Title</dc:title>
</cp:coreProperties>
</file>