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83526-F500-4AA2-B36C-5FD03C340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glish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A) Determine the purpose of list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) Apply knowledg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B) Use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C) Locate words using dictionaries, glossaries and other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A) Regular reading of independent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B) Regular reading of challenging instructional-level mate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C) Demonstrate fluency and effectiveness as rea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Adjustment of reading rate depending on purp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E) Read aloud in ways that reflects understanding and engages li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Read for varied purpo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A) Use personal knowledge and experiences for comprehen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Establish and adjust purposes for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) Monitor comprehension and modify when understanding breaks d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D) Describe mental images and text evok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Use the text’s structure to locate and recall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Determine a text’s main ideas and support with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G) Paraphrase and summariz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H) Draw inferences and support them with the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Find similarities and differences acros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J) Distinguish fact and opinion in various tex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find a home for a stray kit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using a boxtok computer devi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Summ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ups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o prepare King Tut’s to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an hereditary rul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ntemptuou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he presence of the open sewage ditches associated with the worker’s t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were required for their return trav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been rude since he did not like to feel inferi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 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 Recognizing how style, tone, and mood contribute to the affect of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1EC-0B23-4755-883D-7884AD62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EBED-260D-4FB8-AA4D-7B98AAD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74C9-F472-41C2-81B3-A3C3474B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3AC-B479-47DE-B67E-BD252B36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E7F-1F5D-42A0-A2D4-E8F5C08C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2FD-19C9-48E2-88CB-D85B0A49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215-88F1-41CA-9EED-75F3F2E0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9D1F-C431-43CA-9599-885B59E0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AF1-00F7-4576-802A-D78F12B9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D047-FF55-4F7F-864D-922D5121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180-2703-43FA-BF72-B1B5C224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387-0D6A-4256-9CC6-A0D9839E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6798-5182-454E-9B3B-CB013BEE49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travelers’ backpacks essential?  The backpack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ined medicine in case any of them fe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the only way to carry home souvenirs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gyp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d not belong to them and needed to b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re required for their return tra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25600" y="3138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1425600" y="4094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4302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1430280" y="5834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37560"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f K.T. and her friends had advised the Overseer on how to fix some of the problems at the work site, he probably would have 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rude since he did not like to fee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en so grateful that he would have give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m a treasure from the to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ed them nic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37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t his job and appointed them to overse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onstruction si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413000" y="3328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1413000" y="4262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417680" y="51195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1417680" y="57229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114800" y="5029200"/>
            <a:ext cx="96192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200400" y="2857680"/>
            <a:ext cx="279072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7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friends in this story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gather information for a science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an accident. They meant to go to the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imming poo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find a home for a stray kit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7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care their friend 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25600" y="3132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25600" y="3713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417680" y="4646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1417680" y="521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id the friends travel to Egyp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using a boxtok computer 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stepping through a mirror into another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passing through a time portal found i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ckyard tree 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drinking a magic p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06520" y="2700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406520" y="329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417680" y="4186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417680" y="5154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friend knew the most about ancient Egypt and Tutankhamu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417680" y="42559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417680" y="4818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 Nefah’s state-of-mind when she met the time travel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00040" y="357012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400040" y="4106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405080" y="46497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405080" y="5199120"/>
            <a:ext cx="37440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id the new Pharaoh require so many  new worke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uild the Great Pyrami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prepare King Tut’s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lean up damage caused by flooding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il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nstruct a new palace for himse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3120" y="5245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</a:pathLst>
          </a:custGeom>
          <a:solidFill>
            <a:srgbClr val="e6cbb0"/>
          </a:solidFill>
          <a:ln w="9360">
            <a:solidFill>
              <a:srgbClr val="e6c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6f70"/>
                </a:solidFill>
                <a:latin typeface="Bookman Old Style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13000" y="313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13000" y="3700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417680" y="4307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1417680" y="5224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61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lect the best definition for "monarch" in the context of the sentence bel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"I’ll give you a hint: it’s home to the world’s most famous teenage monarch.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ereditary ru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rchitectural design resembling an ar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brightly colored butterf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1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ar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1300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413000" y="43988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417680" y="495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417680" y="554184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96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titude of the Overseer in the story is best described as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r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9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mptu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406520" y="3087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413000" y="3656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417680" y="422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1417680" y="4773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000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most likely source of the "stench from the encampment" referred to in the sto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workers cook exotic meals that smell ba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.T. and her frie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aint used to decorate the tom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ence of the open sewage ditch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ociated with the workers’ t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0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orses used to pull the chari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EG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13000" y="35384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415880" y="443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414440" y="501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07960" y="5916600"/>
            <a:ext cx="374760" cy="46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14:21:23Z</dcterms:created>
  <dc:creator>ITMD</dc:creator>
  <dc:description/>
  <dc:language>en-US</dc:language>
  <cp:lastModifiedBy>Vince Hardy</cp:lastModifiedBy>
  <dcterms:modified xsi:type="dcterms:W3CDTF">2007-10-30T14:52:40Z</dcterms:modified>
  <cp:revision>105</cp:revision>
  <dc:subject/>
  <dc:title>Investigator’s Challenge Quiz</dc:title>
</cp:coreProperties>
</file>