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4614-0CBA-4AE1-8074-F55EDBD93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670-8490-4818-9932-CC7AC8C4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0BA-E05C-4495-8617-812B06F3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92C-E9D6-46DA-B189-4BBC802C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66F4-CA22-4DAA-92A4-3B6432AB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2137-4146-4718-88CE-5C1D913A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5A95-B2DF-4BA4-A848-28613C1D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E30-050D-4ABC-9BBF-F4DA7EA8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AA6-F3FC-4540-8343-940E3679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8E5-A5D9-479F-AEF8-1DE4B2BD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B83-D54A-458D-9854-C4108AA2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95E-5233-419D-878D-D669CDAA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9FC-A5F2-4F90-BC29-1C9FCD09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A9C0-A1C6-4577-AB12-135AF7FDF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For example, over the past 40 years, New Jersey has had an average temperature of 32 º Fahrenheit and an average precipitation of 2.8 inches during the month of February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Weather is the state of the atmosphere at a 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given place and time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9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For example, the temperature right now in New Jersey is 56º F and it is snowing. 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3:11Z</dcterms:created>
  <dc:creator>Charles C. Farnsworth, Ph.D. - Instructional Design</dc:creator>
  <dc:description/>
  <dc:language>en-US</dc:language>
  <cp:lastModifiedBy>Vince Hardy</cp:lastModifiedBy>
  <dcterms:modified xsi:type="dcterms:W3CDTF">2007-01-12T21:51:09Z</dcterms:modified>
  <cp:revision>19</cp:revision>
  <dc:subject/>
  <dc:title>What’s the difference between weather and climate?</dc:title>
</cp:coreProperties>
</file>