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8160-9543-4C8D-B664-43769A56F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F42E-043F-4DB1-9732-6B4A2E4B1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effects of physical processes and the physical environment on huma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CA0D-56E3-4A4F-A86B-3B5F42338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ience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B) Identify roles of groundwater and surface water in a water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4 (C) Describe components of the atmosphere and its role in weather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, D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cating societies on maps and globes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analyzing ways people adapt to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4C3-ABA9-443B-8D6D-3EB55DF0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C08-A3A9-4707-A65B-E6B278BC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690-41EB-45E4-804B-FD6B0D51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E020-F2F1-4819-81AA-8DF264D6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B5F6-7607-4971-963F-AE23511D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3F08-6A87-46E6-9FDA-76CD998D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A50-FE4F-45F3-8910-4C36EC1B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60FE-5AB8-47C9-9B6B-6B5590BF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CC90-6B24-461F-B5C1-7B70A5CD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DD75-4F6B-4A14-A689-04A57DE8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FEB-A380-451C-A8C0-8E5B1918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961-EBB6-44A9-B389-FA99D6AF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098B-E438-475F-80A6-C75F7548AF2B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 and the Nile River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1500"/>
              </a:spcAft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is Egypt’s most important natural resource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river provides irrigation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water for agricultur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Each year, the river floods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and brings a new layer of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rich, fertile soil to the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surrounding farmlan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people have depended on the river for water, food, and transportation since ancient times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ost of the people of Egypt live along the Nile. The rest of the country is very thinly settled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4172040" cy="24447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3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The Landscap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Much of Egypt is a desert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re are mountains to the west of the Nile River.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Nile River runs through Egypt, watering the land and feeding its people.  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5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e4c9"/>
                </a:solidFill>
                <a:latin typeface="Times New Roman"/>
              </a:rPr>
              <a:t>The land along the Nile is green and fertile. Nearly all of Egypt’s farms are located along the Nile.</a:t>
            </a: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95680" y="1905120"/>
            <a:ext cx="4216680" cy="365760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38:38Z</dcterms:created>
  <dc:creator>Charles C. Farnsworth, Ph.D. - Instructional Design</dc:creator>
  <dc:description/>
  <dc:language>en-US</dc:language>
  <cp:lastModifiedBy>ljlab</cp:lastModifiedBy>
  <dcterms:modified xsi:type="dcterms:W3CDTF">2007-08-20T17:03:43Z</dcterms:modified>
  <cp:revision>28</cp:revision>
  <dc:subject/>
  <dc:title>People along the Nile River</dc:title>
</cp:coreProperties>
</file>