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0238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-36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773920"/>
            <a:ext cx="30243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1033473-4B9F-4075-81E9-35F1863EF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Conjectures from Patterns or Sets of Examples/Non-exam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–6.1 (A, C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Compar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 Proportions/Conversions using Tables and Symbo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ppropriate Problem-Solving 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A), 7.4 (C), 7.11 (B), 7.15 (A), 8.1 (A), 8.3 (A), 8.5 (A), 8.16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4880" y="61596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9880" y="4387320"/>
            <a:ext cx="511956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F44C-7DF0-42BD-A17E-154927F3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292-239D-4AA8-9290-A68B5D7E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AAD6-DDDC-4D4C-9D5E-E2062BEB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F9AF-B359-4EEF-BD70-3977D4CC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4B4-9674-4C49-8778-9B0E2183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173-6848-46DE-AEF1-92F1AF22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5E9-C6B4-42CC-B30E-7CC26EAC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A56-8347-4651-97FA-B1A4DC80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17C-B32D-4CF5-9121-1B383333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CD2-7AF9-4921-B1E9-14E1C789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BE5-22C1-4DEF-9904-53C3BC1D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3ABE-D78A-48DE-BC9A-E92561E8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6B5C-79EB-4FEF-8D5C-FD5C4DED31F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limograph.doc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A climograph is a graph that displays average (mean) precipitation and temperature for an area.  It is used to compare the climate in different places.  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WeatherMan" descr=""/>
          <p:cNvPicPr/>
          <p:nvPr/>
        </p:nvPicPr>
        <p:blipFill>
          <a:blip r:embed="rId2"/>
          <a:stretch/>
        </p:blipFill>
        <p:spPr>
          <a:xfrm>
            <a:off x="4038480" y="3962520"/>
            <a:ext cx="235440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83808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paring Your Own Climo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43828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lick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ere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to print a blank climograph and use it to make your own climograph.  Refer back to this appendix if you need directions to make your own climogra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ecipitation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f you go to www.worldclimate.com, you can find average monthly precipitation for many places in a chart like this one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rick to reading charts and graphs is finding a patter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precipitation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there more precipitation in the summer months or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62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2438280"/>
            <a:ext cx="8229600" cy="1128600"/>
            <a:chOff x="380880" y="2438280"/>
            <a:chExt cx="8229600" cy="1128600"/>
          </a:xfrm>
        </p:grpSpPr>
        <p:sp>
          <p:nvSpPr>
            <p:cNvPr id="54" name=""/>
            <p:cNvSpPr/>
            <p:nvPr/>
          </p:nvSpPr>
          <p:spPr>
            <a:xfrm>
              <a:off x="7924680" y="320040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49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91160" y="320040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48280" y="320040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575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718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8284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495680" y="320040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08160" y="320040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19200" y="320040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3348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42720" y="320040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57000" y="320040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90360" y="320040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880" y="320040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249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inch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4680" y="281916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247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1160" y="281916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48280" y="281916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575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9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718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8284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8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5680" y="281916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9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08160" y="281916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19200" y="281916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3348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0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42720" y="281916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57000" y="281916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90360" y="281916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4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0880" y="281916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4680" y="243828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91160" y="243828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848280" y="243828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75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18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8284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243828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8160" y="243828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9200" y="243828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3348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2720" y="243828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57000" y="243828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90360" y="243828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ebebeb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ebebeb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0880" y="243828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0880" y="24382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0880" y="281916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0880" y="320040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56688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8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903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70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427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334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92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908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95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8284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7180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5752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482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16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24680" y="243828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10480" y="243828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eople construct climographs to compare climates in different places.  Climographs convert lots of numerical data to a simple display of bars and lines.  Because they are so simple, climographs make it easy to see patterns in climate and to compare the climates in different place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2590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xis (vertical)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ith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verag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ecipitation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evels in inches.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exampl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ses intervals of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 inches between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71800" y="4876560"/>
            <a:ext cx="5105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precipitation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0" name="Precip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485784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960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Precipitat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66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For our example, the January average precipitation was 2.1 inches, so we drew a bar over  January reaching the 2.1 level on the y-axis of the graph.  Graph the precipitation data for the remaining months in the same way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90760" y="4876920"/>
            <a:ext cx="3809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Next, plot the average precipitation for January by drawing a bar over January </a:t>
            </a:r>
            <a:br>
              <a:rPr sz="1800"/>
            </a:b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reaching up to the amount of precipitation listed for that month.</a:t>
            </a:r>
            <a:br>
              <a:rPr sz="1800"/>
            </a:b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4" name="Prec" descr=""/>
          <p:cNvPicPr/>
          <p:nvPr/>
        </p:nvPicPr>
        <p:blipFill>
          <a:blip r:embed="rId2"/>
          <a:stretch/>
        </p:blipFill>
        <p:spPr>
          <a:xfrm>
            <a:off x="3600360" y="171468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emperature Patter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6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ww.worldclimate.com can also give you a chart on average temperature for many places.  Here are the average monthly temperatures for Orlando, Florida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ember, the key to reading graphs is looking for a pattern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patterns do you see in the average temperature data for Orlando, Florida?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s it hotter in the summer or in the winter month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57200" y="2514600"/>
            <a:ext cx="8229600" cy="1128600"/>
            <a:chOff x="457200" y="2514600"/>
            <a:chExt cx="8229600" cy="1128600"/>
          </a:xfrm>
        </p:grpSpPr>
        <p:sp>
          <p:nvSpPr>
            <p:cNvPr id="128" name=""/>
            <p:cNvSpPr/>
            <p:nvPr/>
          </p:nvSpPr>
          <p:spPr>
            <a:xfrm>
              <a:off x="8001000" y="3276720"/>
              <a:ext cx="68580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76720"/>
              <a:ext cx="533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24600" y="3276720"/>
              <a:ext cx="5428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7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338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4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481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916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0" y="3276720"/>
              <a:ext cx="5871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4480" y="3276720"/>
              <a:ext cx="5875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8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95520" y="3276720"/>
              <a:ext cx="5889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0980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7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19040" y="3276720"/>
              <a:ext cx="59076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33320" y="3276720"/>
              <a:ext cx="58572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6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66680" y="3276720"/>
              <a:ext cx="56664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59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3276720"/>
              <a:ext cx="609480" cy="3664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01000" y="2895480"/>
              <a:ext cx="68580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67480" y="2895480"/>
              <a:ext cx="533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24600" y="2895480"/>
              <a:ext cx="5428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338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3.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481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5916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2000" y="2895480"/>
              <a:ext cx="5871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8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84480" y="2895480"/>
              <a:ext cx="5875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7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95520" y="2895480"/>
              <a:ext cx="5889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5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0980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2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19040" y="2895480"/>
              <a:ext cx="59076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9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33320" y="2895480"/>
              <a:ext cx="58572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6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66680" y="2895480"/>
              <a:ext cx="56664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2895480"/>
              <a:ext cx="609480" cy="38124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°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01000" y="2514600"/>
              <a:ext cx="68580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Y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7480" y="2514600"/>
              <a:ext cx="533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D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24600" y="2514600"/>
              <a:ext cx="5428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No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338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c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81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Se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916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u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72000" y="2514600"/>
              <a:ext cx="5871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l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84480" y="2514600"/>
              <a:ext cx="5875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u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95520" y="2514600"/>
              <a:ext cx="5889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0980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Ap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19040" y="2514600"/>
              <a:ext cx="59076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Ma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3320" y="2514600"/>
              <a:ext cx="58572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Fe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66680" y="2514600"/>
              <a:ext cx="56664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Jan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514600"/>
              <a:ext cx="609480" cy="380880"/>
            </a:xfrm>
            <a:prstGeom prst="rect">
              <a:avLst/>
            </a:prstGeom>
            <a:noFill/>
            <a:ln w="936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300"/>
                </a:spcBef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25146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289548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643200"/>
              <a:ext cx="8229600" cy="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666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33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90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098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955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84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5916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812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3384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46748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01000" y="2514600"/>
              <a:ext cx="0" cy="1128600"/>
            </a:xfrm>
            <a:prstGeom prst="line">
              <a:avLst/>
            </a:prstGeom>
            <a:ln w="1260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86800" y="2514600"/>
              <a:ext cx="0" cy="1128600"/>
            </a:xfrm>
            <a:prstGeom prst="line">
              <a:avLst/>
            </a:prstGeom>
            <a:ln cap="sq" w="28440">
              <a:solidFill>
                <a:srgbClr val="ebeb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895480" y="4952520"/>
            <a:ext cx="5562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x-axis (horizontal) with the months (Jan.-Dec.) and include a space for the yearly average temperature at the end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1447560"/>
            <a:ext cx="2286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abel the y-axis (vertical) with the average temperature levels in degrees Fahrenheit.  This example uses intervals of 20 degrees between marking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2" name="Temp" descr=""/>
          <p:cNvPicPr/>
          <p:nvPr/>
        </p:nvPicPr>
        <p:blipFill>
          <a:blip r:embed="rId2"/>
          <a:stretch/>
        </p:blipFill>
        <p:spPr>
          <a:xfrm>
            <a:off x="3276720" y="1752480"/>
            <a:ext cx="48574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Graphing Average Temperatu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152360"/>
            <a:ext cx="3353040" cy="54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Next, plot the average temperature for January by placing a dot over January at the average temperature for that month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or our example, the January average temper-ature was 59.9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F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, so we placed a dot over January at the 59.9 level on the y-axis of the graph.  Graphing the remaining temperature data in the same way for each month and for the year. 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emember to always label your x and y axis when drawing a graph and add a title for  the whole graph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826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148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Finally, connect the dots!  Draw a line from the dot for January and continue through the dot for December. 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ebebeb"/>
                </a:solidFill>
                <a:uFillTx/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connect the dot for the yearly average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6" name="Temp" descr=""/>
          <p:cNvPicPr/>
          <p:nvPr/>
        </p:nvPicPr>
        <p:blipFill>
          <a:blip r:embed="rId2"/>
          <a:stretch/>
        </p:blipFill>
        <p:spPr>
          <a:xfrm>
            <a:off x="3828960" y="1371600"/>
            <a:ext cx="48578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37160"/>
            <a:ext cx="7772400" cy="71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mograph</a:t>
            </a:r>
            <a:br>
              <a:rPr sz="44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climograph includes both the average precipitation and the average temperature data.  When you combine the two previous graphs, your climograph should look like this one</a:t>
            </a:r>
            <a:br>
              <a:rPr sz="2400"/>
            </a:br>
            <a:br>
              <a:rPr sz="1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800"/>
            </a:br>
            <a:br>
              <a:rPr sz="20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2000"/>
            </a:br>
            <a:br>
              <a:rPr sz="20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sure to include a title for your graph and a key showing the symbols that represent the average precipitation and the average temperature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98" name="Clim" descr=""/>
          <p:cNvPicPr/>
          <p:nvPr/>
        </p:nvPicPr>
        <p:blipFill>
          <a:blip r:embed="rId2"/>
          <a:stretch/>
        </p:blipFill>
        <p:spPr>
          <a:xfrm>
            <a:off x="1981080" y="2590920"/>
            <a:ext cx="48578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5:38:51Z</dcterms:created>
  <dc:creator>Charles C. Farnsworth, Ph.D. - Instructional Design</dc:creator>
  <dc:description/>
  <dc:language>en-US</dc:language>
  <cp:lastModifiedBy>ljlab</cp:lastModifiedBy>
  <cp:lastPrinted>2002-05-15T14:22:53Z</cp:lastPrinted>
  <dcterms:modified xsi:type="dcterms:W3CDTF">2003-09-11T17:22:57Z</dcterms:modified>
  <cp:revision>69</cp:revision>
  <dc:subject/>
  <dc:title>Climograph</dc:title>
</cp:coreProperties>
</file>