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92D0-364B-46F2-9946-9D6CB0611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071C-DED8-46D5-A555-3125C9DBD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56D8-4118-4783-8FD9-811826932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2C6-2EA8-443F-B422-CBB652F0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1534-F542-47EA-8222-E1066AE8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9E72-4844-49D8-A1A5-6378A82A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A6DF-E787-4BCB-88DD-D605DE9D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47A7-2DC0-430A-AF93-C3147D5A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36C-7FCE-415B-B5AB-3F5A3B6A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3EC-C1DF-45A9-AA4A-407D8943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456B-DF52-41A4-85C7-32926C58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71B-EA7C-467A-A32C-E48284C1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5968-6861-4149-9EB5-D4F46CD4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748-3E21-4DE2-BD4B-C4B0AD7B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3F89-5702-4BC1-B8C2-94A5F885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740E-96A5-4928-A118-827FECDDC52B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br>
              <a:rPr sz="2400"/>
            </a:br>
            <a:endParaRPr b="0" lang="en-US" sz="41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9458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Egyptians ate mostly fish, poultry, and bread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y also enjoyed fruits and vegetables grown locally by farmer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se farmers depended on a yearly flood from the Nile River to restore nutrients to the soil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79132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17220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7520" y="15238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Nile River was the source of nearly  all food in ancient Egypt. It provided water for irrigation and for daily 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2190600" cy="2705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main food crops, barley and emmer, were used to make bread, the main diet of Egyptian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Grains were harvested and stored in granaries until ready to be processed.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amount of grain harvested often was more than the needs of the country.  Grain was exported to neighboring countries, providing a source of income for the Egyptian treasury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2971800" cy="19875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46:28Z</dcterms:created>
  <dc:creator>Charles C. Farnsworth, Ph.D. - Instructional Design</dc:creator>
  <dc:description/>
  <dc:language>en-US</dc:language>
  <cp:lastModifiedBy>Vince Hardy</cp:lastModifiedBy>
  <dcterms:modified xsi:type="dcterms:W3CDTF">2007-02-14T19:12:24Z</dcterms:modified>
  <cp:revision>21</cp:revision>
  <dc:subject/>
  <dc:title>No Slide Title</dc:title>
</cp:coreProperties>
</file>