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CC2C-C00A-4B15-A912-17B36EAC9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Slide Show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Show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 Explain geographic factors responsible for patterns of pop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B) Analyze information using various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using various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TEKS (6-8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B) Interpret important events and ideas gathered from visual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population distribution, Nile Ri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Analyze effects of physical processes and the environment on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 Identify and analyze ways people adapt to the physical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A) Use primary and secondary sources to learn about world cultu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B) Analyze information using various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using various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TEKS (6-8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Connecting own experiences, information, and ideas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Nile River floo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89000" y="0"/>
            <a:ext cx="6367320" cy="47750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0" y="5384880"/>
            <a:ext cx="685800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can complete a T-chart, comparing physical 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may contrast these pictures with their own physical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Compare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TEKS (6-8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C) Identify how local saying reflect region an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Nile River compare contr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effects of physical processes and the physical environment on hum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B) Analyze information using various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using various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B) Analyze information using various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using various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486D-A427-49FE-86AD-7259470E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B886-1137-447B-AB9F-F577EFE9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0E0-9E3D-4ACC-A2E8-19E44406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9C1D-C289-4640-8472-9E7DB311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3C29-948B-4BF4-ABA6-DB94A8A8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663B-8821-44B3-B017-A9757A8B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561-D975-4A1C-A554-DC890673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3F85-43A8-447D-8588-3A31A7D7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6C7-299D-4437-BB3B-7A6780BB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53F2-E75F-47FE-AEDE-94D2547E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E04D-F23A-47D1-BDD4-46C57584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C5B4-0A3D-4BE4-9157-7B7FD639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58A3-A93C-4516-B515-D9E2D29542F5}" type="slidenum"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ebd0a5"/>
                </a:solidFill>
                <a:latin typeface="Times New Roman"/>
              </a:rPr>
              <a:t>Tut’s Revenge</a:t>
            </a:r>
            <a:endParaRPr b="0" lang="en-US" sz="88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4640" y="150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d0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Learn about farming by the Nile River.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d0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Learn about different irrigation techniques that were used in the ancient world.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1" marL="1316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5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8840" y="444960"/>
            <a:ext cx="5773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cfa2"/>
                </a:solidFill>
                <a:latin typeface="Times New Roman"/>
              </a:rPr>
              <a:t>Population Distribution</a:t>
            </a:r>
            <a:endParaRPr b="0" lang="en-US" sz="36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30120" y="1481040"/>
            <a:ext cx="5410440" cy="4118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44680" y="982440"/>
            <a:ext cx="2971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cfa2"/>
                </a:solidFill>
                <a:latin typeface="Times New Roman"/>
              </a:rPr>
              <a:t>The circled area is where the Nile River is located.  </a:t>
            </a:r>
            <a:endParaRPr b="0" lang="en-US" sz="22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cfa2"/>
                </a:solidFill>
                <a:latin typeface="Times New Roman"/>
              </a:rPr>
              <a:t>Notice the dark purple along the Nile.  The dark purple shows that many people live near the Nile.</a:t>
            </a:r>
            <a:endParaRPr b="0" lang="en-US" sz="22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cfa2"/>
                </a:solidFill>
                <a:latin typeface="Times New Roman"/>
              </a:rPr>
              <a:t>As you look away from the Nile River, the color on the map becomes much lighter.  This lighter color shows that few people live in that area.</a:t>
            </a:r>
            <a:endParaRPr b="0" lang="en-US" sz="22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cfa2"/>
                </a:solidFill>
                <a:latin typeface="Times New Roman"/>
              </a:rPr>
              <a:t>Why?  </a:t>
            </a:r>
            <a:endParaRPr b="0" lang="en-US" sz="22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10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4640" y="150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6680" y="1662120"/>
            <a:ext cx="802152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Why do you think so many people live along the Nile River?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lvl="1" marL="114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Do you think there are any problems with living close to the river?  Is there any reason why you  might not want to live too close to the river?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530440" y="4251240"/>
            <a:ext cx="3305160" cy="2203560"/>
          </a:xfrm>
          <a:prstGeom prst="rect">
            <a:avLst/>
          </a:prstGeom>
          <a:ln w="57240">
            <a:solidFill>
              <a:srgbClr val="e6cbaf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5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61560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The Nile River Near Luxor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6440" y="1431720"/>
            <a:ext cx="7997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What sort of physical features do you see?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Compare these to what you see in your city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0a5"/>
                </a:solidFill>
                <a:latin typeface="Times New Roman"/>
              </a:rPr>
              <a:t>                   </a:t>
            </a:r>
            <a:endParaRPr b="0" lang="en-US" sz="29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3903480" cy="3625920"/>
          </a:xfrm>
          <a:prstGeom prst="rect">
            <a:avLst/>
          </a:prstGeom>
          <a:ln w="88920">
            <a:solidFill>
              <a:srgbClr val="e6cba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33520" y="2743200"/>
            <a:ext cx="3913200" cy="3635280"/>
          </a:xfrm>
          <a:prstGeom prst="rect">
            <a:avLst/>
          </a:prstGeom>
          <a:ln w="88920">
            <a:solidFill>
              <a:srgbClr val="e6cbaf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9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Egypt and the Nile River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4160" y="1174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spcAft>
                <a:spcPts val="15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d0a5"/>
                </a:solidFill>
                <a:latin typeface="Times New Roman"/>
              </a:rPr>
              <a:t>The Nile River is Egypt’s most important natural resource. </a:t>
            </a:r>
            <a:endParaRPr b="0" lang="en-US" sz="25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d0a5"/>
                </a:solidFill>
                <a:latin typeface="Times New Roman"/>
              </a:rPr>
              <a:t>The river provides irrigation </a:t>
            </a:r>
            <a:endParaRPr b="0" lang="en-US" sz="25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d0a5"/>
                </a:solidFill>
                <a:latin typeface="Times New Roman"/>
              </a:rPr>
              <a:t>water for agriculture.</a:t>
            </a:r>
            <a:endParaRPr b="0" lang="en-US" sz="25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d0a5"/>
                </a:solidFill>
                <a:latin typeface="Times New Roman"/>
              </a:rPr>
              <a:t>Each year, the river floods and </a:t>
            </a:r>
            <a:endParaRPr b="0" lang="en-US" sz="25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d0a5"/>
                </a:solidFill>
                <a:latin typeface="Times New Roman"/>
              </a:rPr>
              <a:t>brings a new layer of rich, fertile </a:t>
            </a:r>
            <a:endParaRPr b="0" lang="en-US" sz="25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d0a5"/>
                </a:solidFill>
                <a:latin typeface="Times New Roman"/>
              </a:rPr>
              <a:t>soil to the surrounding farmland.</a:t>
            </a:r>
            <a:endParaRPr b="0" lang="en-US" sz="25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d0a5"/>
                </a:solidFill>
                <a:latin typeface="Times New Roman"/>
              </a:rPr>
              <a:t>The people have depended on the </a:t>
            </a:r>
            <a:endParaRPr b="0" lang="en-US" sz="25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d0a5"/>
                </a:solidFill>
                <a:latin typeface="Times New Roman"/>
              </a:rPr>
              <a:t>river for water, food, and transportation since ancient times.  </a:t>
            </a:r>
            <a:endParaRPr b="0" lang="en-US" sz="25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d0a5"/>
                </a:solidFill>
                <a:latin typeface="Times New Roman"/>
              </a:rPr>
              <a:t>Most of the people of Egypt live along the Nile. The rest of the country is very thinly settled.</a:t>
            </a:r>
            <a:endParaRPr b="0" lang="en-US" sz="25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86280" y="1846440"/>
            <a:ext cx="3871800" cy="287640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The Landscape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0a5"/>
                </a:solidFill>
                <a:latin typeface="Times New Roman"/>
              </a:rPr>
              <a:t>Much of Egypt is a desert.  </a:t>
            </a:r>
            <a:endParaRPr b="0" lang="en-US" sz="26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0a5"/>
                </a:solidFill>
                <a:latin typeface="Times New Roman"/>
              </a:rPr>
              <a:t>There are mountains to the west of the Nile River. </a:t>
            </a:r>
            <a:endParaRPr b="0" lang="en-US" sz="26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0a5"/>
                </a:solidFill>
                <a:latin typeface="Times New Roman"/>
              </a:rPr>
              <a:t>The Nile River runs through Egypt, watering the land and feeding its people.  </a:t>
            </a:r>
            <a:endParaRPr b="0" lang="en-US" sz="26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0a5"/>
                </a:solidFill>
                <a:latin typeface="Times New Roman"/>
              </a:rPr>
              <a:t>The land along the Nile is green and fertile. Nearly all of Egypt’s farms are located along the Nile.</a:t>
            </a:r>
            <a:endParaRPr b="0" lang="en-US" sz="26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216680" cy="365760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cba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e6cba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7280" y="1344600"/>
            <a:ext cx="855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9120" y="128592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cba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0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1" name=""/>
              <p:cNvGraphicFramePr/>
              <p:nvPr/>
            </p:nvGraphicFramePr>
            <p:xfrm>
              <a:off x="4643280" y="2170080"/>
              <a:ext cx="1546560" cy="10126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92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643280" y="2170080"/>
                        <a:ext cx="1546560" cy="101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3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4:52:23Z</dcterms:created>
  <dc:creator>Vince Hardy</dc:creator>
  <dc:description/>
  <dc:language>en-US</dc:language>
  <cp:lastModifiedBy>Vince Hardy</cp:lastModifiedBy>
  <dcterms:modified xsi:type="dcterms:W3CDTF">2008-04-08T06:15:19Z</dcterms:modified>
  <cp:revision>3</cp:revision>
  <dc:subject/>
  <dc:title>Tut’s Revenge</dc:title>
</cp:coreProperties>
</file>