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F836-AC1E-4599-9A38-A5AE71C60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24C6-1678-4571-A930-103C9F0D1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B) Identify roles of groundwater and surface water in a water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, D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ocating societies on maps and globes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effects of physical processes and the physical environment on huma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analyzing ways people adapt to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ways societies organize production and distribu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5621-D391-463E-8A4A-9CC01061B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B) Identify roles of groundwater and surface water in a water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, D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ocating societies on maps and globes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analyzing ways people adapt to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3C73-212B-4F47-A5B4-1E2647AE6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D52E-D96C-4E95-BE04-0C9956DD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D11F-9EBC-4D66-8D2F-A2F2F9D2E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14DF-798E-4BAD-9485-894B70EDF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0A20-4E40-4E00-80FB-0BD1B626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1FFC-ED58-4C2C-BFD1-9593A0FD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B794-1CE0-433C-9AAD-A8AAA811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A9A9-C15F-453B-8479-867F35C3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93B3-0BB5-434E-A311-7DFAE0C0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89AD-63D4-4E4C-95B8-85D6C0F6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FE0B-952B-4691-80C5-CC95BDAC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3D9D-67B9-411C-B2F2-2746B7EE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5789-CBF3-4013-A4D4-F8934A965386}" type="slidenum"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Egypt and the Nile River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1500"/>
              </a:spcAft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Nile River is Egypt’s most important natural resource.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river provides irrigation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water for agriculture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Each year, the river floods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and brings a new layer of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rich, fertile soil to the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surrounding farmland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people have depended on the river for water, food, and transportation since ancient times. 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Most of the people of Egypt live along the Nile. The rest of the country is very thinly settled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4172040" cy="2444760"/>
          </a:xfrm>
          <a:prstGeom prst="rect">
            <a:avLst/>
          </a:prstGeom>
          <a:ln w="88920">
            <a:solidFill>
              <a:srgbClr val="f9e4c9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3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The Landscape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Much of Egypt is a desert. 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re are mountains to the west of the Nile River.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Nile River runs through Egypt, watering the land and feeding its people. 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land along the Nile is green and fertile. Nearly all of Egypt’s farms are located along the Nile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495680" y="1905120"/>
            <a:ext cx="4216680" cy="3657600"/>
          </a:xfrm>
          <a:prstGeom prst="rect">
            <a:avLst/>
          </a:prstGeom>
          <a:ln w="88920">
            <a:solidFill>
              <a:srgbClr val="f9e4c9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20:38:38Z</dcterms:created>
  <dc:creator>Charles C. Farnsworth, Ph.D. - Instructional Design</dc:creator>
  <dc:description/>
  <dc:language>en-US</dc:language>
  <cp:lastModifiedBy>ljlab</cp:lastModifiedBy>
  <dcterms:modified xsi:type="dcterms:W3CDTF">2007-08-20T17:03:43Z</dcterms:modified>
  <cp:revision>28</cp:revision>
  <dc:subject/>
  <dc:title>People along the Nile River</dc:title>
</cp:coreProperties>
</file>