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44020-C1EC-4581-BE96-000A6DC03A5A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H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9794-0BD3-45CB-B6E6-B391F30C8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17B6-8504-4A99-8B4B-39BFB1844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509F-83EF-41AE-B46D-46B0B558A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0826-3702-44E7-B0AF-991444561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AB87-9980-4697-A770-F5F3414C6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243F-B33C-463A-A070-79732D3EB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5A0D-7C39-4E65-A3D0-3353E6CC1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9CCD-2C54-4192-9030-54846F497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3BD9-8061-40D4-8DE2-105C7B72B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488C-282D-4D39-97C9-CEE645D7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458C-4621-41E4-941A-E36DEEE16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695C-ACD7-4BC8-AC3E-161D96D5D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378CC-9CDB-43C1-A5A7-79A9A2FD94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InfoEss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206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Vince Hardy</cp:lastModifiedBy>
  <dcterms:modified xsi:type="dcterms:W3CDTF">2007-01-12T21:45:01Z</dcterms:modified>
  <cp:revision>15</cp:revision>
  <dc:subject/>
  <dc:title>Informative Essay</dc:title>
</cp:coreProperties>
</file>