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5D82-8CC6-4AE4-AF57-40D2AA69C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2B7B-14E7-4DE1-ACB3-4E1056AA7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42CC-7216-4F2D-B142-615705438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851-65AF-4EB0-9EF8-E77415CC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833-A0C6-425D-BCC4-BFF69960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693-A83B-4F03-8879-EBB56835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0E2-A5FF-47BB-BF37-E24B253F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3B9-687F-4F80-ABEF-83DD317D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DB6-2E5F-4B49-AA22-375E1370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42D-DF99-452B-A81A-2544E77D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9AB9-9B4E-4A21-BAED-25E53CD5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765-0770-4FCC-ADA9-232D008C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9BB-BB1A-455B-BD70-6FD1C986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875-B575-4EC7-A21A-38700EFD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AA9-3D9B-4AC0-B333-6B6E3BF4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3175-7BE2-4F51-95C5-D92F2267D328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br>
              <a:rPr sz="2400"/>
            </a:br>
            <a:endParaRPr b="0" lang="en-US" sz="41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9458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ians ate mostly fish, poultry, and brea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y also enjoyed fruits and vegetables grown locally by farmer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se farmers depended on a yearly flood from the Nile River to restore nutrients to the soi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7913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1722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5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 was the source of nearly  all food in ancient Egypt. It provided water for irrigation and for daily 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main food crops, barley and emmer, were used to make bread, the main diet of Egyptian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Grains were harvested and stored in granaries until ready to be processed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amount of grain harvested often was more than the needs of the country.  Grain was exported to neighboring countries, providing a source of income for the Egyptian treasur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971800" cy="19875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46:28Z</dcterms:created>
  <dc:creator>Charles C. Farnsworth, Ph.D. - Instructional Design</dc:creator>
  <dc:description/>
  <dc:language>en-US</dc:language>
  <cp:lastModifiedBy>Vince Hardy</cp:lastModifiedBy>
  <dcterms:modified xsi:type="dcterms:W3CDTF">2007-02-14T19:12:24Z</dcterms:modified>
  <cp:revision>21</cp:revision>
  <dc:subject/>
  <dc:title>No Slide Title</dc:title>
</cp:coreProperties>
</file>