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7C342-EBB0-4FE6-B14E-C6B33EC2FB4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0467-6EAD-46BE-8204-EA681E28E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ADED-B39D-45FF-B936-ACE7601A3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BC32-4DE9-4C1B-AA06-23296B4D8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10D5-EDF9-47D9-9BE8-935C4F5A4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124A-1483-4552-9927-1A449F5D6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388A-584F-4CEE-8F4B-6C52E323A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E417-8304-4DF2-B0B6-1C1590444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D2FB-BB2E-4772-B841-F47AD423A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687E-D5A8-4FFF-BC24-EA1C02812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C7F0-FFC1-48E0-AE27-99CAB8AB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AD7C-F6D0-4988-B124-F7555FE1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A107-8A66-4E09-92CF-5DFE482D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E1E58-6F25-4560-8AC5-79DAB982073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vhardy</cp:lastModifiedBy>
  <dcterms:modified xsi:type="dcterms:W3CDTF">2003-05-29T00:06:40Z</dcterms:modified>
  <cp:revision>32</cp:revision>
  <dc:subject/>
  <dc:title>Comparing Apples to Oranges</dc:title>
</cp:coreProperties>
</file>