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6ED72-1081-4CAE-A1E2-CF722F318D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959FB-2146-4567-AA96-677AAD6D5C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D6748-7814-46EA-ABAE-1F0DED3551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984DF-B7D5-4EFE-85E9-942092A6EC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E9326-24E7-4D77-B257-5AA5BFB8EE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577C2-C59F-41EF-A4C0-C8172F756C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5B2D6-2476-4569-8E83-72F0EBB803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76FBE-9AE1-4620-83B6-4CCCB5B03C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33996-7279-41C3-8C3B-5719BBDCC4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E2477-C7DB-46AB-9C00-84D518A9BC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8F873-FB76-4090-87A7-97BDB32F6F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1D1BB-6A4F-4D96-96C8-3D9ABA645F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F96A-F3CD-4A81-BA02-C69572B88A9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D562B-6B85-4AFD-BD92-FC02C8657A0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370FB-8CEB-4178-9BE0-0E03F185F2A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4:23Z</dcterms:modified>
  <cp:revision>210</cp:revision>
  <dc:subject/>
  <dc:title>VTPP 423 - PHYSIOLOGY</dc:title>
</cp:coreProperties>
</file>