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8C50-74F6-41D8-BB59-5A8F8B967947}"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2461E-8635-4E40-86D1-DC7EBB12C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FF263-7BA8-4622-A457-62BBCDB82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4CDC1-66B0-453D-8454-86A90A077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C0D01-F63D-4F40-8F16-1CA3B10EE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4C758-53A2-47AD-B57E-C45B01084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0E44D-AB2A-4D17-91C8-E6EBAFE88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B90EF-46B1-4974-919C-7914374D0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798BA-DC7D-4C96-85D4-45C4EEC41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38C91-EF92-42C2-92B4-58EE0DB3B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9ADD9-2461-461E-A044-6EB1EEE5F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5FB21-5B92-400D-B7B6-597C14E6E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18533-80AA-4FF1-8B55-FD284C183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2736-9332-4837-B9BB-6B5F3BBC2157}"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t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wklemm</cp:lastModifiedBy>
  <dcterms:modified xsi:type="dcterms:W3CDTF">2003-06-23T21:09:03Z</dcterms:modified>
  <cp:revision>284</cp:revision>
  <dc:subject/>
  <dc:title>Combating Infections</dc:title>
</cp:coreProperties>
</file>