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C4D7-2B5F-4B32-B8EC-BBDAA7E8A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A) Determine the purpose of list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 Regular reading of independent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B) Regular reading of challenging instructional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C) Demonstrate fluency and effectiveness as rea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D) Adjustment of reading rate depending on purp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E) Read aloud in ways that reflects understanding and engages liste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C) Read for varied purpo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D) Describe mental images and text ev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F) Determine a text’s main ideas and support with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I) Find similarities and differences across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J) Distinguish fact and opinion in various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find a home for a stray kitt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using a boxtok computer devi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Summ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ups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o prepare King Tut’s tom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an hereditary rul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ntemptuou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he presence of the open sewage ditches associated with the worker’s te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were required for their return trav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been rude since he did not like to feel inferi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 Using study strategies to work on ide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 Recognizing how style, tone, and mood contribute to the affect of tex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A976-6CD4-4A7B-A470-95ACFC46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83F2-8EC8-4C48-A05B-9804D7AB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A338-3060-4B8E-BE0C-F7AB11D4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1B0D-7DFB-4AE0-8BE9-3A3444CB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4034-9652-4AA6-BE3E-0B2F208A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C81F-B81C-43C2-8BA8-DF9F7EE1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78E8-B19F-49E9-912C-87B08289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2ACF-FFFF-4ED8-A713-E1559D42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ABD6-6D3F-470A-A383-870C0EE5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AA10-C70D-4235-9A95-FB3C2A83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54E2-2A43-403F-BAA9-533DB5AB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07FE-0C8A-46B9-8FB4-832FA2B6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B017-12DF-4648-BDAA-7759A1B66D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7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were the travelers’ backpacks essential?  The backpack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ed medicine in case any of them fel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the only way to carry home souvenirs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yp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d not belong to them and needed to b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required for their return tra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425600" y="313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425600" y="4094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430280" y="495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1430280" y="5834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375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K.T. and her friends had advised the Overseer on how to fix some of the problems at the work site, he probably would have 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n rude since he did not like to fe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er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n so grateful that he would have give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m a treasure from the tom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nked them nic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t his job and appointed them to overse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struction s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413000" y="3328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413000" y="4262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417680" y="511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1417680" y="5722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114800" y="502920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200400" y="2857680"/>
            <a:ext cx="27907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7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id the friends in this story travel to Egyp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gather information for a scienc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an accident. They meant to go to the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imming po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ind a home for a stray kit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are their friend Tra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25600" y="313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25600" y="371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417680" y="4646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417680" y="521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id the friends travel to Egyp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using a boxtok computer de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stepping through a mirror into another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passing through a time portal found 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yard tree 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drinking a magic p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406520" y="2700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406520" y="329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417680" y="418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417680" y="5154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friend knew the most about ancient Egypt and Tutankhamu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413000" y="313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413000" y="370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417680" y="42559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1417680" y="4818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 Nefah’s state-of-mind when she met the time travel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400040" y="35701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400040" y="4106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405080" y="4649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405080" y="5199120"/>
            <a:ext cx="37440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id the new Pharaoh require so many  new work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uild the Great Pyram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prepare King Tut’s to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lean up damage caused by flooding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il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nstruct a new palace for him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3120" y="5245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13000" y="313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413000" y="370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417680" y="430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417680" y="5224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61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the best definition for "monarch" in the context of the sentence bel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"I’ll give you a hint: it’s home to the world’s most famous teenage monarch.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ereditary ru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rchitectural design resembling an 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brightly colored butterf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ar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413000" y="3836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413000" y="4398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417680" y="495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417680" y="5541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itude of the Overseer in the story is best described a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g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mptu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406520" y="3087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413000" y="3656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417680" y="422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1417680" y="4773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ost likely source of the "stench from the encampment" referred to in the st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kers cook exotic meals that smell ba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.T. and her frie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aint used to decorate the to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esence of the open sewage ditch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ociated with the workers’ t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orses used to pull the chari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413000" y="3538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415880" y="443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414440" y="501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07960" y="5916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14:21:23Z</dcterms:created>
  <dc:creator>ITMD</dc:creator>
  <dc:description/>
  <dc:language>en-US</dc:language>
  <cp:lastModifiedBy>Vince Hardy</cp:lastModifiedBy>
  <dcterms:modified xsi:type="dcterms:W3CDTF">2007-10-30T14:52:40Z</dcterms:modified>
  <cp:revision>105</cp:revision>
  <dc:subject/>
  <dc:title>Investigator’s Challenge Quiz</dc:title>
</cp:coreProperties>
</file>