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2A55-4FB1-453F-AB47-F4EE32D1C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D46-1FC3-4014-9674-79BB42D2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940-1862-443C-9B31-7608C632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B5D-DF7C-4374-AE94-FAEE96A6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B18-0A4A-49A6-B80B-C2125526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651-DBC0-456F-849A-5E878E0E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25F-63E0-408F-B121-3DAB1BB6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0AE-6838-4573-8189-6BB45DD6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0B0-9682-4113-A8A0-43A7423D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DC0-285E-4D13-B87E-8A3CF727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984-EACB-4574-97FE-634709FB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54D-82A9-4FC4-85FD-E32A8745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48E-31E4-4584-BF4F-3DC0DD55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07F3-B379-4943-9140-4567FB30C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vhardy</cp:lastModifiedBy>
  <dcterms:modified xsi:type="dcterms:W3CDTF">2003-05-23T21:26:30Z</dcterms:modified>
  <cp:revision>5</cp:revision>
  <dc:subject/>
  <dc:title>Metric Multiplication Factors</dc:title>
</cp:coreProperties>
</file>