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0a5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19FFB-9B8B-41E7-80CA-C373C1D30E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  This “NOTES” section contains teacher notes for each slide including a variety of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ch as activity instructions, quiz answers, etc.  These notes identify the specific TE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ed on each slide.  Identified TEKS in these notes are intended to be a guide to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substitute for, the full text of the TEK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.  To view in Slide Show mode, one must select Slide Show and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ew Show on the PowerPoint pull down menu.  The ESC key will allow one to “escape”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f the Slide Show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ant points could inclu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Contamination of the water supply by inappropri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ment of the workers’ bathrooms (privi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Unsanitary food preparation conditions that sp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mina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Unacceptable working conditions that include poor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lity within the tomb, inadequate rest and lack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n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se important points are reviewed in the science and math exercises included in this presen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ish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0 (C) Monitor comprehension and modify when understanding breaks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8 (C) Read for varied purp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 (A) Regular reading of independent-level mater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(C) Read for varied purp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(B) Establish and adjust purposes for read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(F) Determine a text’s main ideas and support with deta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(G) Paraphrase and summarize tex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ish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 (B) Capitalize and punctuate correctly to clarify and enhance mea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 (A) Use regular and irregular plurals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 (B) Write compound and complex sentences with both types of cla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 (C) Use conjunctions meaningfu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 (F) Employ standard English usage in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persuasion communication unlocking language qui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udents should review the principles of a persuasive essay or presentation.  These include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Choose one side of an issue or one aspect of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and firmly state 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Employ a definite organizational strategy for defe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posi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Provide at least three supporting reasons for y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. In this case, these should be based 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tific evid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te your position in the conclu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ish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A) Determine the purpose of list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B) Eliminate barriers to list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C) Understand major ideas and evidence in a spee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D) Listen to learn by taking notes, organizing, and summarizing a spee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5 (A) Write to express, discover, record, develop, and reflect on id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5 (B) Write to influ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5 (E) Use voice and style appropriate to the audience and purp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5 (F) Choose and appropriate form of individual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5 (H) Produce cohesively written tex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6 (A) Write legibly using cursive or manuscript as appropri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6 (G) Understand the influence of other languages and cultures on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7 (A) Use regular and irregular plurals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7 (B) Write compound and complex sentences with both types of cla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7 (C) Use conjunctions to connect ideas meaningfu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7 (D) Use adjectives and adverbs appropriat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7 (E) Use prepositional phrases to elaborate written id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7 (F) Employ standard English usage in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7 (G) Use verb tenses appropriately and consisten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7 (H) Use apostrophes in contractions with increasing correct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8 (A) Generate ideas and plans for writing by using prewriting strate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8 (B) Developing drafts by categorizing ideas into paragraphs and pap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8 (C) Revise drafts by elaborating, deleting, moving, and combining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8 (D) Revise drafts for coherence, progression, and logical support of id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8 (E) Edit drafts for specific purp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8 (F) Use technology for creating, revising, editing, and publishing tex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8 (G) Refine selected pieces to publish for general to specific aud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8 (H) Proofread individual writing and that of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8 (I) Use of reference materials for writing, revising, and editing final draf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(A) Connecting own experiences, information, and ideas with oth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(A) Adapt spoken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(B) Demonstrate effective communication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(D) Generate criteria to evaluate oral pres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(E) Use effective volume, rate, tone, and pit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(F) Clarify and support spoken ide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 (B) Interpret text ideas through varied mea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(B) Write to influenc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(F) Choose an appropriate form for individual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(H) Produce cohesively written tex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 (C) Correctly spell syllable constructions in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 (D) Correctly spell roots in writin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 (F) Spell accurately in final draf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 (B) Write compound and complex sentences with both types of cla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 (F) Employ standard English usage in wri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 (G) Use verb tenses appropriately and consisten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 (H) Use apostrophes in contractions with increasing correct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 (A) Select, organize, or produce visuals to complement and extend mea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oral presentation persuasion speech letter writing persuasive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udents should review the principles of an informative narrative. The student should be able to tell how to do something so that someone else could replicate the task.  A consistent organizational structure is essential. The presentation or essay should include an introduction, first step, successive steps and a conclusion. For example, the students could create a presentation that informed the supervisor how to properly treat water to prevent further spread of the mysterious illn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ish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5 (A) Write to express, discover, record, develop, and reflect on id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5 (C) Write to in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5 (E) Use voice and style appropriate to the audience and purp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5 (F) Choose and appropriate form of individual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5 (H) Produce cohesively written tex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7 (A) Use regular and irregular plurals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7 (C) Use conjunctions to connect ideas meaningfu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0 (E) Present information in various forms using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A) Collaborate with other writers to compose, organize, and revise tex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4 (A) Select, organize, or produce visuals to complement and extend mea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4 (B) Produce communications using technology or appropriate me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4 (C) Assess how language, medium, and presentation contribute to mess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(A) Adapt spoken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(D) Generate criteria to evaluate oral pres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(E) Use effective volume, rate, tone, and pit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(F) Clarify and support spoken idea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(C) Write to in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(D) Write to entert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(F) Choose an appropriate form for individual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 (B) Write compound and complex sentences with both types of cla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 (F) Employ standard English usage in wri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 (G) Use verb tenses appropriately and consisten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 (H) Use apostrophes in contractions with increasing correct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presentation informative essa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69BC-6F51-488E-B5B7-054F0EFA1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4D7B-E821-4362-ACF3-14ED80B07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CA2F-A6A2-4BD8-A8FD-29DF77ED9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F8FC-5A1F-4EF3-8F8E-216EAE8CE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7C5D-4316-4833-9825-2527447ED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F7E6-0320-4D59-9506-A5675F0AE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FE05-7F86-4F7C-BB18-DC0AF5153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9133-71A1-483A-B839-A7C3C4754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E9D2-07BE-4E0B-9A37-D75E3D290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7630-A008-45C7-8399-9AEE6BBE7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F9ED-BDF3-422E-8C7D-68CDFEC9D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A963-CED2-4B38-B8E4-21E464677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0a5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  <a:p>
            <a:pPr lvl="1" marL="343080" indent="-343080">
              <a:lnSpc>
                <a:spcPct val="90000"/>
              </a:lnSpc>
              <a:spcBef>
                <a:spcPts val="799"/>
              </a:spcBef>
              <a:buClr>
                <a:srgbClr val="ebd0a5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  <a:p>
            <a:pPr lvl="2" marL="343080" indent="-343080">
              <a:lnSpc>
                <a:spcPct val="90000"/>
              </a:lnSpc>
              <a:spcBef>
                <a:spcPts val="799"/>
              </a:spcBef>
              <a:buClr>
                <a:srgbClr val="ebd0a5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  <a:p>
            <a:pPr lvl="3" marL="343080" indent="-343080">
              <a:lnSpc>
                <a:spcPct val="90000"/>
              </a:lnSpc>
              <a:spcBef>
                <a:spcPts val="799"/>
              </a:spcBef>
              <a:buClr>
                <a:srgbClr val="ebd0a5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  <a:p>
            <a:pPr lvl="4" marL="343080" indent="-343080">
              <a:lnSpc>
                <a:spcPct val="90000"/>
              </a:lnSpc>
              <a:spcBef>
                <a:spcPts val="799"/>
              </a:spcBef>
              <a:buClr>
                <a:srgbClr val="ebd0a5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  <a:p>
            <a:pPr lvl="5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  <a:p>
            <a:pPr lvl="6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0a5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0a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0a5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0a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0a5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C7481-5DD9-460F-8A32-699161CBC5C2}" type="slidenum">
              <a:rPr b="0" lang="en-US" sz="1400" spc="-1" strike="noStrike">
                <a:solidFill>
                  <a:srgbClr val="ebd0a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er.tamu.edu/" TargetMode="External"/><Relationship Id="rId3" Type="http://schemas.openxmlformats.org/officeDocument/2006/relationships/hyperlink" Target="http://peer.tamu.edu/" TargetMode="External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Appendices/EgGraVoc.ppt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4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hyperlink" Target="file:///Appendices/Persuas.ppt" TargetMode="External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image" Target="../media/image9.png"/><Relationship Id="rId4" Type="http://schemas.openxmlformats.org/officeDocument/2006/relationships/hyperlink" Target="file:///Appendices/InfoEss.ppt" TargetMode="External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er.tamu.edu/forms/Curricula_Survey.shtml" TargetMode="External"/><Relationship Id="rId3" Type="http://schemas.openxmlformats.org/officeDocument/2006/relationships/hyperlink" Target="http://peer.tamu.edu/forms/Curricula_Survey.shtml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image" Target="../media/image13.jpeg"/><Relationship Id="rId8" Type="http://schemas.openxmlformats.org/officeDocument/2006/relationships/image" Target="../media/image14.pn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ebd0a5"/>
                </a:solidFill>
                <a:latin typeface="Times New Roman"/>
              </a:rPr>
              <a:t>Tut’s Revenge</a:t>
            </a:r>
            <a:endParaRPr b="0" lang="en-US" sz="88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3123720"/>
            <a:ext cx="792504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peer.tamu.edu</a:t>
            </a: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)                Texas A&amp;M University</a:t>
            </a: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5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0a5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01440" y="1828800"/>
            <a:ext cx="77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d0a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Understand the purpose of persuasive writing or speaking.</a:t>
            </a: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d0a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Analyze the effectiveness of persuasive arguments.</a:t>
            </a: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240" cy="68565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G-87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5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0a5"/>
                </a:solidFill>
                <a:latin typeface="Times New Roman"/>
              </a:rPr>
              <a:t>A Lesson for the Overseer</a:t>
            </a: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657600" y="1828440"/>
            <a:ext cx="495288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0a5"/>
                </a:solidFill>
                <a:latin typeface="Times New Roman"/>
              </a:rPr>
              <a:t>Re-read the end of the story.</a:t>
            </a:r>
            <a:endParaRPr b="0" lang="en-US" sz="2800" spc="-1" strike="noStrike">
              <a:solidFill>
                <a:srgbClr val="ebd0a5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0a5"/>
                </a:solidFill>
                <a:latin typeface="Times New Roman"/>
              </a:rPr>
              <a:t>Put yourself in K.T.’s place.</a:t>
            </a:r>
            <a:endParaRPr b="0" lang="en-US" sz="2800" spc="-1" strike="noStrike">
              <a:solidFill>
                <a:srgbClr val="ebd0a5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0a5"/>
                </a:solidFill>
                <a:latin typeface="Times New Roman"/>
              </a:rPr>
              <a:t>Identify and discuss three important points that she should share with the Overseer before she returns home.</a:t>
            </a:r>
            <a:endParaRPr b="0" lang="en-US" sz="2800" spc="-1" strike="noStrike">
              <a:solidFill>
                <a:srgbClr val="ebd0a5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0a5"/>
                </a:solidFill>
                <a:latin typeface="Times New Roman"/>
              </a:rPr>
              <a:t>Why is it important for her to communicate with the Overseer?</a:t>
            </a:r>
            <a:endParaRPr b="0" lang="en-US" sz="2800" spc="-1" strike="noStrike">
              <a:solidFill>
                <a:srgbClr val="ebd0a5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4680"/>
            <a:ext cx="219240" cy="68626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380880" y="2057400"/>
            <a:ext cx="3154320" cy="27892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G-87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4640" y="13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0a5"/>
                </a:solidFill>
                <a:latin typeface="Times New Roman"/>
              </a:rPr>
              <a:t>Powers of Persuasion</a:t>
            </a: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0a5"/>
                </a:solidFill>
                <a:latin typeface="Times New Roman"/>
              </a:rPr>
              <a:t>You’ve learned important information about the illness. Continue to share your knowledge with others!</a:t>
            </a:r>
            <a:endParaRPr b="0" lang="en-US" sz="2800" spc="-1" strike="noStrike">
              <a:solidFill>
                <a:srgbClr val="ebd0a5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0a5"/>
                </a:solidFill>
                <a:latin typeface="Times New Roman"/>
              </a:rPr>
              <a:t>First, try the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Unlocking Language Quiz </a:t>
            </a:r>
            <a:r>
              <a:rPr b="0" lang="en-US" sz="2800" spc="-1" strike="noStrike">
                <a:solidFill>
                  <a:srgbClr val="ebd0a5"/>
                </a:solidFill>
                <a:latin typeface="Times New Roman"/>
              </a:rPr>
              <a:t>to sharpen your communication skills.</a:t>
            </a:r>
            <a:endParaRPr b="0" lang="en-US" sz="2800" spc="-1" strike="noStrike">
              <a:solidFill>
                <a:srgbClr val="ebd0a5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4952880" y="1752480"/>
            <a:ext cx="3373560" cy="4511880"/>
          </a:xfrm>
          <a:prstGeom prst="rect">
            <a:avLst/>
          </a:prstGeom>
          <a:ln w="88920">
            <a:solidFill>
              <a:srgbClr val="e6cbaf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G-9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4640" y="155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0a5"/>
                </a:solidFill>
                <a:latin typeface="Times New Roman"/>
              </a:rPr>
              <a:t>Powers of Persuasion</a:t>
            </a: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67000" y="1294920"/>
            <a:ext cx="5486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d0a5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0a5"/>
                </a:solidFill>
                <a:latin typeface="Times New Roman"/>
              </a:rPr>
              <a:t>Prepare a letter to the Overseer that persuades him to correct problems at the camps.</a:t>
            </a:r>
            <a:endParaRPr b="0" lang="en-US" sz="2800" spc="-1" strike="noStrike">
              <a:solidFill>
                <a:srgbClr val="ebd0a5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0a5"/>
                </a:solidFill>
                <a:latin typeface="Times New Roman"/>
              </a:rPr>
              <a:t>Prepare an oral presentation for the Overseer that informs him of your findings and persuades him to take action.  Use visual images to strengthen your case.</a:t>
            </a:r>
            <a:endParaRPr b="0" lang="en-US" sz="2800" spc="-1" strike="noStrike">
              <a:solidFill>
                <a:srgbClr val="ebd0a5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240" cy="68565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-76320" y="1447920"/>
            <a:ext cx="3622680" cy="39542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G-9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90920" y="6134040"/>
            <a:ext cx="646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Click here</a:t>
            </a:r>
            <a:r>
              <a:rPr b="0" lang="en-US" sz="2800" spc="-1" strike="noStrike" u="sng">
                <a:solidFill>
                  <a:srgbClr val="e6cbaf"/>
                </a:solidFill>
                <a:uFillTx/>
                <a:latin typeface="Times New Roman"/>
              </a:rPr>
              <a:t> for help with persuasive wri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3360" y="210960"/>
            <a:ext cx="8229600" cy="7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0a5"/>
                </a:solidFill>
                <a:latin typeface="Times New Roman"/>
              </a:rPr>
              <a:t>How to Make the Place Safe</a:t>
            </a: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280040" y="1638000"/>
            <a:ext cx="441936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0a5"/>
                </a:solidFill>
                <a:latin typeface="Times New Roman"/>
              </a:rPr>
              <a:t>Create a presentation instructing work-site supervisors on the specific precautions required to prevent the illness.</a:t>
            </a:r>
            <a:endParaRPr b="0" lang="en-US" sz="2800" spc="-1" strike="noStrike">
              <a:solidFill>
                <a:srgbClr val="ebd0a5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0a5"/>
                </a:solidFill>
                <a:latin typeface="Times New Roman"/>
              </a:rPr>
              <a:t>Select one change that must be made and write a detailed and informative description of how to implement the needed change.</a:t>
            </a:r>
            <a:endParaRPr b="0" lang="en-US" sz="2800" spc="-1" strike="noStrike">
              <a:solidFill>
                <a:srgbClr val="ebd0a5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240" cy="68565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369720" y="1360440"/>
            <a:ext cx="3932280" cy="38750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G-9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5680" y="4952880"/>
            <a:ext cx="377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Click here</a:t>
            </a:r>
            <a:r>
              <a:rPr b="0" lang="en-US" sz="2800" spc="-1" strike="noStrike" u="sng">
                <a:solidFill>
                  <a:srgbClr val="e6cbaf"/>
                </a:solidFill>
                <a:uFillTx/>
                <a:latin typeface="Times New Roman"/>
              </a:rPr>
              <a:t> for help with informative wri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09480" y="4419720"/>
            <a:ext cx="2514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6cbaf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peer.tamu.edu/forms/Curricula_Survey.shtml</a:t>
            </a:r>
            <a:r>
              <a:rPr b="0" lang="en-US" sz="2000" spc="-1" strike="noStrike">
                <a:solidFill>
                  <a:srgbClr val="e6cba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87280" y="1344600"/>
            <a:ext cx="8551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9120" y="1285920"/>
            <a:ext cx="86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6cbaf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380880" y="1981080"/>
            <a:ext cx="8570880" cy="4502160"/>
            <a:chOff x="380880" y="1981080"/>
            <a:chExt cx="8570880" cy="4502160"/>
          </a:xfrm>
        </p:grpSpPr>
        <p:pic>
          <p:nvPicPr>
            <p:cNvPr id="82" name="" descr=""/>
            <p:cNvPicPr/>
            <p:nvPr/>
          </p:nvPicPr>
          <p:blipFill>
            <a:blip r:embed="rId4"/>
            <a:stretch/>
          </p:blipFill>
          <p:spPr>
            <a:xfrm>
              <a:off x="380880" y="198612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" descr=""/>
            <p:cNvPicPr/>
            <p:nvPr/>
          </p:nvPicPr>
          <p:blipFill>
            <a:blip r:embed="rId5"/>
            <a:stretch/>
          </p:blipFill>
          <p:spPr>
            <a:xfrm>
              <a:off x="3808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" descr=""/>
            <p:cNvPicPr/>
            <p:nvPr/>
          </p:nvPicPr>
          <p:blipFill>
            <a:blip r:embed="rId6"/>
            <a:stretch/>
          </p:blipFill>
          <p:spPr>
            <a:xfrm>
              <a:off x="380880" y="5033880"/>
              <a:ext cx="13590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7"/>
            <a:stretch/>
          </p:blipFill>
          <p:spPr>
            <a:xfrm>
              <a:off x="47242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8"/>
            <a:stretch/>
          </p:blipFill>
          <p:spPr>
            <a:xfrm>
              <a:off x="4724280" y="50292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7" name=""/>
            <p:cNvGrpSpPr/>
            <p:nvPr/>
          </p:nvGrpSpPr>
          <p:grpSpPr>
            <a:xfrm>
              <a:off x="4643280" y="1981080"/>
              <a:ext cx="1546560" cy="1371600"/>
              <a:chOff x="4643280" y="1981080"/>
              <a:chExt cx="1546560" cy="1371600"/>
            </a:xfrm>
          </p:grpSpPr>
          <p:sp>
            <p:nvSpPr>
              <p:cNvPr id="88" name=""/>
              <p:cNvSpPr/>
              <p:nvPr/>
            </p:nvSpPr>
            <p:spPr>
              <a:xfrm>
                <a:off x="4724280" y="1981080"/>
                <a:ext cx="1371600" cy="1371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89" name=""/>
              <p:cNvGraphicFramePr/>
              <p:nvPr/>
            </p:nvGraphicFramePr>
            <p:xfrm>
              <a:off x="4643280" y="2170080"/>
              <a:ext cx="1546560" cy="101268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90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4643280" y="2170080"/>
                        <a:ext cx="1546560" cy="1012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91" name=""/>
            <p:cNvSpPr/>
            <p:nvPr/>
          </p:nvSpPr>
          <p:spPr>
            <a:xfrm>
              <a:off x="1898640" y="2206800"/>
              <a:ext cx="2617920" cy="42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6cbaf"/>
                  </a:solidFill>
                  <a:latin typeface="Times New Roman"/>
                </a:rPr>
                <a:t>National Institute of Environmental Health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6cbaf"/>
                  </a:solidFill>
                  <a:latin typeface="Times New Roman"/>
                </a:rPr>
                <a:t>Sci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6cbaf"/>
                  </a:solidFill>
                  <a:latin typeface="Times New Roman"/>
                </a:rPr>
                <a:t>Partnership for Environmental Education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6cbaf"/>
                  </a:solidFill>
                  <a:latin typeface="Times New Roman"/>
                </a:rPr>
                <a:t>College of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222960" y="2166840"/>
              <a:ext cx="2728800" cy="426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6cbaf"/>
                  </a:solidFill>
                  <a:latin typeface="Times New Roman"/>
                </a:rPr>
                <a:t>Department of Agricultural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6cbaf"/>
                  </a:solidFill>
                  <a:latin typeface="Times New Roman"/>
                </a:rPr>
                <a:t>The Center for Environmental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6cbaf"/>
                  </a:solidFill>
                  <a:latin typeface="Times New Roman"/>
                </a:rPr>
                <a:t>College of Veterinary Medicine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04:23:04Z</dcterms:created>
  <dc:creator>Vince Hardy</dc:creator>
  <dc:description/>
  <dc:language>en-US</dc:language>
  <cp:lastModifiedBy>Ljlab</cp:lastModifiedBy>
  <dcterms:modified xsi:type="dcterms:W3CDTF">2008-12-15T18:23:43Z</dcterms:modified>
  <cp:revision>5</cp:revision>
  <dc:subject/>
  <dc:title>Tut’s Revenge</dc:title>
</cp:coreProperties>
</file>