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34665-AD14-4773-AE33-9C43DE99A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F3BAF-B69C-4F14-9EEF-C5ED5E2B2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296D5-0979-4733-B03C-B74399D0C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66045-EC38-4BB4-A973-9C0F43AC6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80508-4812-457A-BB5D-12C05CF80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22767-7820-463B-A644-37AF9DC24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122E8-3DCF-42C8-9618-D2BBB6AC2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7243A-DBDD-47CB-88ED-8E5EF7B7A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CF834-7F8D-45FB-8725-E5C947E65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B5001-11C6-4B57-8B97-3BF2F1301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DD51C-FBBF-4420-9C3E-45B55F91A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19166-11ED-4014-906B-A83870BFF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D58DA-2BFA-4187-B7AE-4AE5E0868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A501A-65BB-482C-AD74-3191F415BA0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Laconia"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vhardy</cp:lastModifiedBy>
  <dcterms:modified xsi:type="dcterms:W3CDTF">2003-02-06T02:02:45Z</dcterms:modified>
  <cp:revision>22</cp:revision>
  <dc:subject/>
  <dc:title>What Do We Do To Purify Water Today?</dc:title>
</cp:coreProperties>
</file>