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A933-4240-4771-A08A-546E5F1D8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A) Determine the purpose of list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 Regular reading of independent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B) Regular reading of challenging instructional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C) Demonstrate fluency and effectiveness as rea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D) Adjustment of reading rate depending on pur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E) Read aloud in ways that reflects understanding and engages liste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C) Read for varied purpo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D) Describe mental images and text ev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F) Determine a text’s main ideas and support with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I) Find similarities and differences acros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J) Distinguish fact and opinion in variou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find a home for a stray kit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using a boxtok computer devi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Summ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ups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o prepare King Tut’s tom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n hereditary rul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ntemptuo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he presence of the open sewage ditches associated with the worker’s t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were required for their return trav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been rude since he did not like to feel inferi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 Using study strategies to work o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 Recognizing how style, tone, and mood contribute to the affect of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098E-9CE7-42AD-912E-C9BB1A53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8C9-D690-4A59-84FF-652A6411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65D-1951-447E-961E-2CCE1FF7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BA71-E2E4-413F-9B55-E59D086A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8765-9027-4E22-B7A6-70C5041D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9F88-31BB-4841-9EF2-6159A85A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7E4D-3C53-4B1B-AE96-579BB1CF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39B-5267-4F28-A36A-DB66047D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6365-6892-4DA8-9B18-38E1EE0F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0811-F405-4560-927D-184CA053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9D4-F507-4111-90A7-275398AE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B0B-F5DA-461F-B119-9A1868D4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50E4-83E2-4F2E-9613-52F32EDAFC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were the travelers’ backpacks essential?  The backpack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ed medicine in case any of them fel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the only way to carry home souvenirs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d not belong to them and needed to b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for their return tra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425600" y="313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425600" y="4094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4302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1430280" y="583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375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K.T. and her friends had advised the Overseer on how to fix some of the problems at the work site, he probably would have 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rude since he did not like to fe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so grateful that he would have give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m a treasure from the to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ked them nic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t his job and appointed them to overse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struction 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413000" y="3328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413000" y="4262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417680" y="511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417680" y="572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14800" y="502920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0040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friends in this story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ther information for a scienc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an accident. They meant to go to the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mming po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ind a home for a stray kit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are their friend 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2560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25600" y="371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17680" y="4646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417680" y="52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the friends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using a boxtok computer 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stepping through a mirror into another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passing through a time portal found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yard tre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drinking a magic p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06520" y="2700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406520" y="329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417680" y="418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417680" y="5154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friend knew the most about ancient Egypt and Tutankhamu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417680" y="42559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417680" y="4818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 Nefah’s state-of-mind when she met the time travel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400040" y="35701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400040" y="4106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405080" y="4649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405080" y="5199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new Pharaoh require so many  new work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uild the Great Pyram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epare King Tut’s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lean up damage caused by flooding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il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nstruct a new palace for him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3120" y="5245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41768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417680" y="5224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61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the best definition for "monarch" in the context of the sentence be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"I’ll give you a hint: it’s home to the world’s most famous teenage monarch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ereditary ru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rchitectural design resembling an 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brightly colored butterf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ar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41300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413000" y="4398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4176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417680" y="55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itude of the Overseer in the story is best described a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mptu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406520" y="3087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413000" y="3656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417680" y="422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417680" y="4773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ost likely source of the "stench from the encampment" referred to in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kers cook exotic meals that smell ba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.T. and her frie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int used to decorate the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ence of the open sewage ditch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ociated with the workers’ 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orses used to pull the chari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13000" y="3538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415880" y="44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414440" y="501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07960" y="5916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14:21:23Z</dcterms:created>
  <dc:creator>ITMD</dc:creator>
  <dc:description/>
  <dc:language>en-US</dc:language>
  <cp:lastModifiedBy>Vince Hardy</cp:lastModifiedBy>
  <dcterms:modified xsi:type="dcterms:W3CDTF">2007-10-30T14:52:40Z</dcterms:modified>
  <cp:revision>105</cp:revision>
  <dc:subject/>
  <dc:title>Investigator’s Challenge Quiz</dc:title>
</cp:coreProperties>
</file>