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F95A-BAA2-4286-BB02-5BDC0970DD99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CF42-92F4-4FC2-A656-A8ACAECF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9B7-DEE9-4B3F-8921-E1AFE5FD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6747-2D82-4908-8C5A-46E2F886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E9F-D1BC-45F7-A919-6CBF500C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124-988C-4E26-869C-A00DF9FB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FBFD-F097-47C8-9F67-68639A5E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12AD-F135-49A6-856E-674E7402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923-1818-42FD-8541-362FC63B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9C5B-5B97-471F-83C3-6E8CE7DF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ED0-6CDD-449B-A822-0DB3A591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EABB-38D9-43AA-8D5F-CC246E46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7F2B-894F-4A16-9816-C6346EDA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EAA8-BF68-4E9B-BF1A-976FED5760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en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ljlab</cp:lastModifiedBy>
  <dcterms:modified xsi:type="dcterms:W3CDTF">2004-02-12T17:05:58Z</dcterms:modified>
  <cp:revision>15</cp:revision>
  <dc:subject/>
  <dc:title>Informative Essay</dc:title>
</cp:coreProperties>
</file>