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1414-481A-4CB8-8CDE-FCC037F0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Explain geographic factors responsible for patterns of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terpret important events and ideas gathered from visual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opulation distribution, Nile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Use primary and secondary sources to learn about world cul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Connecting own experiences, information, and idea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Nile River floo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89000" y="0"/>
            <a:ext cx="6367320" cy="4775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an complete a T-chart, comparing physical 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ay contrast these pictures with their own physical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C) Identify how local saying reflect region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Nile River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021-6454-4D12-81A7-C4F7C018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AF4-7D72-471E-A657-A3A781A1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673-4A12-4A6D-A335-CA33A849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C62-4436-416F-9376-48215A21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D8C-5819-4267-B536-5416BFD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DBD-9B69-4D26-B1B7-437AE6A9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ADE-D51E-4B86-AC27-612637B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68A-28CB-44DF-9DE1-FB8C2E0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87F-17E5-437B-BC6D-CD2D6A3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0D9-A28F-4A0A-8DDA-E73C55B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F3A-F9F2-411E-9630-BB498DC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89B-CF62-4A96-857D-90DD6DD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57F-F9B2-421C-8874-06E481F53901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Learn about farming by the Nile River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Learn about different irrigation techniques that were used in the ancient world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1316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8840" y="444960"/>
            <a:ext cx="5773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fa2"/>
                </a:solidFill>
                <a:latin typeface="Times New Roman"/>
              </a:rPr>
              <a:t>Population Distribution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0120" y="1481040"/>
            <a:ext cx="5410440" cy="411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44680" y="982440"/>
            <a:ext cx="2971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The circled area is where the Nile River is located.  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Notice the dark purple along the Nile.  The dark purple shows that many people live near the Nile.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As you look away from the Nile River, the color on the map becomes much lighter.  This lighter color shows that few people live in that area.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Why?  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6680" y="1662120"/>
            <a:ext cx="802152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do you think so many people live along the Nile Riv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114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Do you think there are any problems with living close to the river?  Is there any reason why you  might not want to live too close to the riv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30440" y="4251240"/>
            <a:ext cx="3305160" cy="2203560"/>
          </a:xfrm>
          <a:prstGeom prst="rect">
            <a:avLst/>
          </a:prstGeom>
          <a:ln w="57240">
            <a:solidFill>
              <a:srgbClr val="e6cba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61560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Nile River Near Luxo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440" y="1431720"/>
            <a:ext cx="7997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at sort of physical features do you see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ompare these to what you see in your cit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                  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03480" cy="362592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3913200" cy="36352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4160" y="1174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spcAft>
                <a:spcPts val="15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Nile River is Egypt’s most important natural resource.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river provides irrigation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water for agriculture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Each year, the river floods and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brings a new layer of rich, fertile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soil to the surrounding farmland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people have depended on the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river for water, food, and transportation since ancient times. 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86280" y="1846440"/>
            <a:ext cx="3871800" cy="28764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Much of Egypt is a desert. 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re are mountains to the west of the Nile River.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1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52:23Z</dcterms:created>
  <dc:creator>Vince Hardy</dc:creator>
  <dc:description/>
  <dc:language>en-US</dc:language>
  <cp:lastModifiedBy>Vince Hardy</cp:lastModifiedBy>
  <dcterms:modified xsi:type="dcterms:W3CDTF">2008-04-08T06:15:19Z</dcterms:modified>
  <cp:revision>3</cp:revision>
  <dc:subject/>
  <dc:title>Tut’s Revenge</dc:title>
</cp:coreProperties>
</file>