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AE3F-0BFC-4142-8F9A-A90FFF8AB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48E-8A4C-4B2B-90F3-D5C171E5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64A-905C-41B6-86BB-9F30CF95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C73-1738-43E2-8A6B-8270D53F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1C5-ABA5-48C3-B483-E060E86F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1DB-E969-4956-97E9-AD140D15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918-FE7D-4146-85BB-C173573F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ED3-6894-40DC-A1F2-7C56EDEF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12C-6C53-4287-8588-D71A41F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FA6-BD4D-40B0-8959-FA3CE381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09E-0EA0-4C14-9A5D-6F108FDE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44D-1394-4A49-9928-CC0E1618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784-97A3-47C4-8CC5-FF989443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E91B-AA53-4A1A-9A06-63CB32AB5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ine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WeightLifting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ljlab</cp:lastModifiedBy>
  <dcterms:modified xsi:type="dcterms:W3CDTF">2003-06-19T18:56:08Z</dcterms:modified>
  <cp:revision>9</cp:revision>
  <dc:subject/>
  <dc:title>Volume &amp; Weight Conversions</dc:title>
</cp:coreProperties>
</file>