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918E-17F1-450D-A757-7CBD20F10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87E90-2952-4CFC-8CBB-5CDE8F4CE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2791-F481-4967-9E8E-0B40646C1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A112-97F8-4F59-8FBA-2E0E8F928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F45D-25F7-49D1-AA0F-E730CAE7C5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B88DC-ABDF-45C3-96A9-CB533507F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C5E8-3BC8-4DE3-889E-97BA918AC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F2B8-1600-4AC8-AAD2-858F09C52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C72E-453C-4EBF-BA3F-CB86A7D0F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B6181-C04D-4DBA-9D31-8590F24E4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4FE14-5219-47A9-9A47-0D8DC9A49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0351-8626-48A2-9CD8-AFB09CA35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55DD-C881-40A5-949F-D28AD070C52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1F20-D47A-4D1A-9018-24014B8EE8C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81C0-3393-442E-B5C7-F34FC009FF4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0:07Z</dcterms:modified>
  <cp:revision>207</cp:revision>
  <dc:subject/>
  <dc:title>VTPP 423 - PHYSIOLOGY</dc:title>
</cp:coreProperties>
</file>