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gif" ContentType="image/gi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0a5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26919-262A-4B65-9322-498A3BF6C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Slide Show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ew Show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 1323 years (B.C., before the birth of Christ) + 2006 years (A.D., since the birth of Christ)  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329 ye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change this answer to reflect changes in calendar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TEK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C) Represent real-life situations with integ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.11 (A) Identify and apply mathematics to everyday experienc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2 (A) Communicate mathematical ideas using words, graphs, mode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C) Use models to connect mathematical operations to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.13 (A) Identify and apply mathematics to everyday experien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.13 (B) Use a problem-solving model that solves a problem using a 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.13 (C) Select or develop an appropriate problem-solving strate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4 (A) Communicate mathematical ideas through various m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 (A) Compare and order rational numbers in various 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B) Add, subtract, multiply, and divide rational numbers in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.14 (A) Identify and apply mathematics to everyday experien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.14 (B) Use a problem-solving model that solves a problem using a 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.14 (C) Select or develop an appropriate problem-solving strate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5 (A) Communicate mathematical ideas using language, tools, and mod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(L) Represent text information in various 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(C) Monitor comprehension and modify when understanding breaks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timeline King Tutankhamen pyramids Great Pyram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1240" y="0"/>
            <a:ext cx="6637320" cy="4978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0" y="4978440"/>
            <a:ext cx="6858000" cy="37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Volume = length x width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B) Generate formulas for perimeter, area, and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4 (A) Make formulas for conversions, perimeter, area, volume, and sca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6 (C) Use properties to classify sol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8 (B) Connect models to formulas for volumes of different 3-D 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volume length width height rectangular pr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1240" y="0"/>
            <a:ext cx="6637320" cy="4978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0" y="4978440"/>
            <a:ext cx="6858000" cy="37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length x width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5.0 m x 3.0 m x 2.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7.5 cubic meters or 37.5 m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B) Generate formulas for perimeter, area, and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4 (A) Make formulas for conversions, perimeter, area, volume, and sca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6 (C) Use properties to classify sol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8 (B) Connect models to formulas for volumes of different 3-D 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8 (C) Estimate answers and use formulas to find surface area and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volume length width height rectangular prism me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1240" y="0"/>
            <a:ext cx="6637320" cy="4978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0" y="4978440"/>
            <a:ext cx="6858000" cy="37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of air (L) = Volume of room x 1000 L/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of air (L) = 37.5 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x 1000 L/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of air (L) =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7,500 li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C) Use multiplication and division in problems with equal ratios and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B) Generate formulas for perimeter, area, and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.8 (D) Convert measures within the same measurement syste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C) Use models to connect mathematical operations to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4 (A) Make formulas for conversions, perimeter, area, volume, and sca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6 (C) Use properties to classify sol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B) Add, subtract, multiply, and divide rational numbers in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D) Use multiplication by a unit rate to represent proportional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8 (B) Connect models to formulas for volumes of different 3-D 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8 (C) Estimate answers and use formulas to find surface area and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volume length width height rectangular prism meters li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slide introduces the activity that goes with this modu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F171-63EA-45D1-A605-3773C747D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1A68-7A79-406B-89D9-DF451C011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AF2C-1317-4D32-865A-C09AE21DE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3C8B-1C7E-40F4-9B73-366071C70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C1A3-96B4-49D0-B2BE-C4B8F1691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62F9-79A3-4233-AF6D-7CF1CD967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D48F-E577-4CBA-8752-1BA57BA00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0692-B6DC-43F8-9AFC-191D4ABD6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90DA-B4E7-4EF0-A61A-926D709BD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93F1-E396-46C2-9871-3318360D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F873-648C-435A-B660-05BA1EB4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C471-BBF9-4ACD-9F2A-04A0FD4E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0a5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lvl="1" marL="343080" indent="-343080">
              <a:lnSpc>
                <a:spcPct val="90000"/>
              </a:lnSpc>
              <a:spcBef>
                <a:spcPts val="799"/>
              </a:spcBef>
              <a:buClr>
                <a:srgbClr val="ebd0a5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lvl="2" marL="343080" indent="-343080">
              <a:lnSpc>
                <a:spcPct val="90000"/>
              </a:lnSpc>
              <a:spcBef>
                <a:spcPts val="799"/>
              </a:spcBef>
              <a:buClr>
                <a:srgbClr val="ebd0a5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lvl="3" marL="343080" indent="-343080">
              <a:lnSpc>
                <a:spcPct val="90000"/>
              </a:lnSpc>
              <a:spcBef>
                <a:spcPts val="799"/>
              </a:spcBef>
              <a:buClr>
                <a:srgbClr val="ebd0a5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lvl="4" marL="343080" indent="-343080">
              <a:lnSpc>
                <a:spcPct val="90000"/>
              </a:lnSpc>
              <a:spcBef>
                <a:spcPts val="799"/>
              </a:spcBef>
              <a:buClr>
                <a:srgbClr val="ebd0a5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lvl="5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lvl="6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0a5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0a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0a5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0a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0a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DFD2B-0368-46A8-A4AD-335F8CC1C189}" type="slidenum">
              <a:rPr b="0" lang="en-US" sz="1400" spc="-1" strike="noStrike">
                <a:solidFill>
                  <a:srgbClr val="ebd0a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" TargetMode="External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hyperlink" Target="file:///Appendices/TimeMeas.ppt" TargetMode="External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hyperlink" Target="file:///Appendices/Geometry.ppt" TargetMode="External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hyperlink" Target="file:///Appendices/Geometry.ppt" TargetMode="External"/><Relationship Id="rId5" Type="http://schemas.openxmlformats.org/officeDocument/2006/relationships/slideLayout" Target="../slideLayouts/slideLayout4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forms/Curricula_Survey.shtml" TargetMode="External"/><Relationship Id="rId3" Type="http://schemas.openxmlformats.org/officeDocument/2006/relationships/hyperlink" Target="http://peer.tamu.edu/forms/Curricula_Survey.shtml" TargetMode="External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11.jpeg"/><Relationship Id="rId8" Type="http://schemas.openxmlformats.org/officeDocument/2006/relationships/image" Target="../media/image12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ebd0a5"/>
                </a:solidFill>
                <a:latin typeface="Times New Roman"/>
              </a:rPr>
              <a:t>Tut’s Revenge</a:t>
            </a:r>
            <a:endParaRPr b="0" lang="en-US" sz="88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3123720"/>
            <a:ext cx="792504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peer.tamu.edu</a:t>
            </a: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9600"/>
            <a:ext cx="77724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0a5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d0a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Review or learn the formula for volume of a rectangular prism.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d0a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Apply this formula in real-life situations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d0a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Practice multiplying decimals.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0a5"/>
                </a:solidFill>
                <a:latin typeface="Times New Roman"/>
              </a:rPr>
              <a:t>Who Was King Tut?</a:t>
            </a: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375920"/>
            <a:ext cx="7772400" cy="17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0a5"/>
                </a:solidFill>
                <a:latin typeface="Times New Roman"/>
              </a:rPr>
              <a:t>King Tutankhamun was an Egyptian pharaoh. </a:t>
            </a:r>
            <a:endParaRPr b="0" lang="en-US" sz="2800" spc="-1" strike="noStrike">
              <a:solidFill>
                <a:srgbClr val="ebd0a5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0a5"/>
                </a:solidFill>
                <a:latin typeface="Times New Roman"/>
              </a:rPr>
              <a:t>If King Tut died in 1323 B.C., how many years has it been since King Tut’s death?</a:t>
            </a:r>
            <a:endParaRPr b="0" lang="en-US" sz="2800" spc="-1" strike="noStrike">
              <a:solidFill>
                <a:srgbClr val="ebd0a5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79440" y="3289320"/>
            <a:ext cx="8697600" cy="2967480"/>
            <a:chOff x="379440" y="3289320"/>
            <a:chExt cx="8697600" cy="2967480"/>
          </a:xfrm>
        </p:grpSpPr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379440" y="3544920"/>
              <a:ext cx="7875360" cy="209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2283840" y="5676120"/>
              <a:ext cx="2192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99"/>
                  </a:solidFill>
                  <a:latin typeface="Century Gothic"/>
                </a:rPr>
                <a:t>DEATH OF KING TU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259520" y="3289320"/>
              <a:ext cx="227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99"/>
                  </a:solidFill>
                  <a:latin typeface="Century Gothic"/>
                </a:rPr>
                <a:t>BIRTH OF CHRI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209360" y="5676120"/>
              <a:ext cx="186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99"/>
                  </a:solidFill>
                  <a:latin typeface="Century Gothic"/>
                </a:rPr>
                <a:t>TODAYS D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5960" y="4721040"/>
              <a:ext cx="7550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9966"/>
                  </a:solidFill>
                  <a:latin typeface="Century Gothic"/>
                </a:rPr>
                <a:t>3000                           2000                          1000                              0                              1000                          2000</a:t>
              </a:r>
              <a:r>
                <a:rPr b="1" lang="en-US" sz="1000" spc="-1" strike="noStrike">
                  <a:solidFill>
                    <a:srgbClr val="ff9966"/>
                  </a:solidFill>
                  <a:latin typeface="Wingdings"/>
                  <a:ea typeface="Wingdings"/>
                </a:rPr>
                <a:t>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19560" y="3289320"/>
              <a:ext cx="3004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99"/>
                  </a:solidFill>
                  <a:latin typeface="Century Gothic"/>
                </a:rPr>
                <a:t>GREAT PYRAMIDS BUILT</a:t>
              </a:r>
              <a:r>
                <a:rPr b="0" lang="en-US" sz="1600" spc="-1" strike="noStrike">
                  <a:solidFill>
                    <a:srgbClr val="00cc99"/>
                  </a:solidFill>
                  <a:latin typeface="Century Gothic"/>
                </a:rPr>
                <a:t>                   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7097760" y="2651040"/>
            <a:ext cx="1143000" cy="1141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09520" cy="68565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896120" y="6238800"/>
            <a:ext cx="534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6cbaf"/>
                </a:solidFill>
                <a:latin typeface="Times New Roman"/>
              </a:rPr>
              <a:t>For information on time measurements, click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here</a:t>
            </a:r>
            <a:r>
              <a:rPr b="0" lang="en-US" sz="2000" spc="-1" strike="noStrike" u="sng">
                <a:solidFill>
                  <a:srgbClr val="e6cbaf"/>
                </a:solidFill>
                <a:uFillTx/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G-1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4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0a5"/>
                </a:solidFill>
                <a:latin typeface="Times New Roman"/>
              </a:rPr>
              <a:t>Geometry Perspective</a:t>
            </a: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67840" y="1457280"/>
            <a:ext cx="8371080" cy="38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0a5"/>
                </a:solidFill>
                <a:latin typeface="Times New Roman"/>
              </a:rPr>
              <a:t>The shape of the Treasury room is a rectangular prism.</a:t>
            </a:r>
            <a:endParaRPr b="0" lang="en-US" sz="2800" spc="-1" strike="noStrike">
              <a:solidFill>
                <a:srgbClr val="ebd0a5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d0a5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0a5"/>
                </a:solidFill>
                <a:latin typeface="Times New Roman"/>
              </a:rPr>
              <a:t>Which of the following formulas is the correct formula for calculating the volume of the Treasury room?</a:t>
            </a:r>
            <a:endParaRPr b="0" lang="en-US" sz="2800" spc="-1" strike="noStrike">
              <a:solidFill>
                <a:srgbClr val="ebd0a5"/>
              </a:solidFill>
              <a:latin typeface="Times New Roman"/>
            </a:endParaRPr>
          </a:p>
          <a:p>
            <a:pPr lvl="1" marL="466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d0a5"/>
              </a:solidFill>
              <a:latin typeface="Times New Roman"/>
            </a:endParaRPr>
          </a:p>
          <a:p>
            <a:pPr lvl="1" marL="466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A.  Volume = 1/3 x length x height</a:t>
            </a:r>
            <a:endParaRPr b="0" lang="en-US" sz="2400" spc="-1" strike="noStrike">
              <a:solidFill>
                <a:srgbClr val="ebd0a5"/>
              </a:solidFill>
              <a:latin typeface="Times New Roman"/>
            </a:endParaRPr>
          </a:p>
          <a:p>
            <a:pPr lvl="1" marL="466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B.  Volume = length x width x height</a:t>
            </a:r>
            <a:endParaRPr b="0" lang="en-US" sz="2400" spc="-1" strike="noStrike">
              <a:solidFill>
                <a:srgbClr val="ebd0a5"/>
              </a:solidFill>
              <a:latin typeface="Times New Roman"/>
            </a:endParaRPr>
          </a:p>
          <a:p>
            <a:pPr lvl="1" marL="466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C.  Volume = 1/2 base x height</a:t>
            </a:r>
            <a:endParaRPr b="0" lang="en-US" sz="2400" spc="-1" strike="noStrike">
              <a:solidFill>
                <a:srgbClr val="ebd0a5"/>
              </a:solidFill>
              <a:latin typeface="Times New Roman"/>
            </a:endParaRPr>
          </a:p>
          <a:p>
            <a:pPr lvl="1" marL="466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D.  Volume = length x height x height</a:t>
            </a:r>
            <a:endParaRPr b="0" lang="en-US" sz="2400" spc="-1" strike="noStrike">
              <a:solidFill>
                <a:srgbClr val="ebd0a5"/>
              </a:solidFill>
              <a:latin typeface="Times New Roman"/>
            </a:endParaRPr>
          </a:p>
          <a:p>
            <a:pPr lvl="1" marL="466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d0a5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565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5533920" y="2886120"/>
            <a:ext cx="3389400" cy="37339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830880" y="6238800"/>
            <a:ext cx="407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6cbaf"/>
                </a:solidFill>
                <a:latin typeface="Times New Roman"/>
              </a:rPr>
              <a:t>Click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2000" spc="-1" strike="noStrike" u="sng">
                <a:solidFill>
                  <a:srgbClr val="e6cbaf"/>
                </a:solidFill>
                <a:uFillTx/>
                <a:latin typeface="Times New Roman"/>
              </a:rPr>
              <a:t> for information on volu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G-3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7480" y="813960"/>
            <a:ext cx="837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0a5"/>
                </a:solidFill>
                <a:latin typeface="Times New Roman"/>
              </a:rPr>
              <a:t>What’s the volume of the Treasury room?</a:t>
            </a: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87080" y="159084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ebd0a5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Calculate the volume of the Treasury room given the following dimensions: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lvl="1" marL="572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ight</a:t>
            </a:r>
            <a:r>
              <a:rPr b="0" lang="en-US" sz="2800" spc="-1" strike="noStrike">
                <a:solidFill>
                  <a:srgbClr val="ebd0a5"/>
                </a:solidFill>
                <a:latin typeface="Times New Roman"/>
              </a:rPr>
              <a:t> = 2.5 meters</a:t>
            </a:r>
            <a:endParaRPr b="0" lang="en-US" sz="2800" spc="-1" strike="noStrike">
              <a:solidFill>
                <a:srgbClr val="ebd0a5"/>
              </a:solidFill>
              <a:latin typeface="Times New Roman"/>
            </a:endParaRPr>
          </a:p>
          <a:p>
            <a:pPr lvl="1" marL="572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width</a:t>
            </a:r>
            <a:r>
              <a:rPr b="0" lang="en-US" sz="2800" spc="-1" strike="noStrike">
                <a:solidFill>
                  <a:srgbClr val="ebd0a5"/>
                </a:solidFill>
                <a:latin typeface="Times New Roman"/>
              </a:rPr>
              <a:t> = 3.0 meters</a:t>
            </a:r>
            <a:endParaRPr b="0" lang="en-US" sz="2800" spc="-1" strike="noStrike">
              <a:solidFill>
                <a:srgbClr val="ebd0a5"/>
              </a:solidFill>
              <a:latin typeface="Times New Roman"/>
            </a:endParaRPr>
          </a:p>
          <a:p>
            <a:pPr lvl="1" marL="572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ength</a:t>
            </a:r>
            <a:r>
              <a:rPr b="0" lang="en-US" sz="2800" spc="-1" strike="noStrike">
                <a:solidFill>
                  <a:srgbClr val="ebd0a5"/>
                </a:solidFill>
                <a:latin typeface="Times New Roman"/>
              </a:rPr>
              <a:t> = 5.0 meters</a:t>
            </a:r>
            <a:endParaRPr b="0" lang="en-US" sz="28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276440" y="4447800"/>
            <a:ext cx="106668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d0a5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bd0a5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ffcc99"/>
                </a:solidFill>
                <a:latin typeface="Times New Roman"/>
              </a:rPr>
              <a:t>eight</a:t>
            </a:r>
            <a:endParaRPr b="0" lang="en-US" sz="20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457200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565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5181480" y="2560680"/>
            <a:ext cx="3486240" cy="38401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G-3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30880" y="6238800"/>
            <a:ext cx="407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6cbaf"/>
                </a:solidFill>
                <a:latin typeface="Times New Roman"/>
              </a:rPr>
              <a:t>Click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2000" spc="-1" strike="noStrike" u="sng">
                <a:solidFill>
                  <a:srgbClr val="e6cbaf"/>
                </a:solidFill>
                <a:uFillTx/>
                <a:latin typeface="Times New Roman"/>
              </a:rPr>
              <a:t> for information on volu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59320" y="6107040"/>
            <a:ext cx="1036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"/>
              </a:rPr>
              <a:t>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881840" y="5869080"/>
            <a:ext cx="102240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"/>
              </a:rPr>
              <a:t>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82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0a5"/>
                </a:solidFill>
                <a:latin typeface="Times New Roman"/>
              </a:rPr>
              <a:t>What’s the volume of air in the Treasury room?</a:t>
            </a: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98432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If 1 cubic meter of volume can hold 1,000 liters of air, how much air (in liters) is in the Treasury room?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Treasury room dimensions: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ight</a:t>
            </a:r>
            <a:r>
              <a:rPr b="0" lang="en-US" sz="2800" spc="-1" strike="noStrike">
                <a:solidFill>
                  <a:srgbClr val="ebd0a5"/>
                </a:solidFill>
                <a:latin typeface="Times New Roman"/>
              </a:rPr>
              <a:t> = 2.5 meters</a:t>
            </a:r>
            <a:endParaRPr b="0" lang="en-US" sz="2800" spc="-1" strike="noStrike">
              <a:solidFill>
                <a:srgbClr val="ebd0a5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width</a:t>
            </a:r>
            <a:r>
              <a:rPr b="0" lang="en-US" sz="2800" spc="-1" strike="noStrike">
                <a:solidFill>
                  <a:srgbClr val="ebd0a5"/>
                </a:solidFill>
                <a:latin typeface="Times New Roman"/>
              </a:rPr>
              <a:t> =  3.0 meters</a:t>
            </a:r>
            <a:endParaRPr b="0" lang="en-US" sz="2800" spc="-1" strike="noStrike">
              <a:solidFill>
                <a:srgbClr val="ebd0a5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ength</a:t>
            </a:r>
            <a:r>
              <a:rPr b="0" lang="en-US" sz="2800" spc="-1" strike="noStrike">
                <a:solidFill>
                  <a:srgbClr val="ebd0a5"/>
                </a:solidFill>
                <a:latin typeface="Times New Roman"/>
              </a:rPr>
              <a:t> = 5.0 meters</a:t>
            </a:r>
            <a:endParaRPr b="0" lang="en-US" sz="2800" spc="-1" strike="noStrike">
              <a:solidFill>
                <a:srgbClr val="ebd0a5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396040" y="2813040"/>
            <a:ext cx="3485880" cy="3840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9240" cy="68565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G-3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0a5"/>
                </a:solidFill>
                <a:latin typeface="Times New Roman"/>
              </a:rPr>
              <a:t>Tomb Treasure Chests</a:t>
            </a: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Imagine you are an archeologist exploring the treasure chamber of King Tut’s tomb for the first time.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We will be doing an activity where you will search for Tut’s treasure inside boxes of different volume!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452920" y="4749840"/>
            <a:ext cx="1562400" cy="149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09480" y="441972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6cbaf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peer.tamu.edu/forms/Curricula_Survey.shtml</a:t>
            </a:r>
            <a:r>
              <a:rPr b="0" lang="en-US" sz="2000" spc="-1" strike="noStrike">
                <a:solidFill>
                  <a:srgbClr val="e6cba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7280" y="1344600"/>
            <a:ext cx="8551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9120" y="1285920"/>
            <a:ext cx="86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cbaf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380880" y="1981080"/>
            <a:ext cx="8570880" cy="4502160"/>
            <a:chOff x="380880" y="1981080"/>
            <a:chExt cx="8570880" cy="4502160"/>
          </a:xfrm>
        </p:grpSpPr>
        <p:pic>
          <p:nvPicPr>
            <p:cNvPr id="95" name="" descr=""/>
            <p:cNvPicPr/>
            <p:nvPr/>
          </p:nvPicPr>
          <p:blipFill>
            <a:blip r:embed="rId4"/>
            <a:stretch/>
          </p:blipFill>
          <p:spPr>
            <a:xfrm>
              <a:off x="380880" y="19861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5"/>
            <a:stretch/>
          </p:blipFill>
          <p:spPr>
            <a:xfrm>
              <a:off x="3808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6"/>
            <a:stretch/>
          </p:blipFill>
          <p:spPr>
            <a:xfrm>
              <a:off x="380880" y="5033880"/>
              <a:ext cx="1359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7"/>
            <a:stretch/>
          </p:blipFill>
          <p:spPr>
            <a:xfrm>
              <a:off x="47242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8"/>
            <a:stretch/>
          </p:blipFill>
          <p:spPr>
            <a:xfrm>
              <a:off x="4724280" y="50292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" name=""/>
            <p:cNvGrpSpPr/>
            <p:nvPr/>
          </p:nvGrpSpPr>
          <p:grpSpPr>
            <a:xfrm>
              <a:off x="4643280" y="1981080"/>
              <a:ext cx="1546560" cy="1371600"/>
              <a:chOff x="4643280" y="1981080"/>
              <a:chExt cx="1546560" cy="1371600"/>
            </a:xfrm>
          </p:grpSpPr>
          <p:sp>
            <p:nvSpPr>
              <p:cNvPr id="101" name=""/>
              <p:cNvSpPr/>
              <p:nvPr/>
            </p:nvSpPr>
            <p:spPr>
              <a:xfrm>
                <a:off x="4724280" y="1981080"/>
                <a:ext cx="137160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02" name=""/>
              <p:cNvGraphicFramePr/>
              <p:nvPr/>
            </p:nvGraphicFramePr>
            <p:xfrm>
              <a:off x="4643280" y="2170080"/>
              <a:ext cx="1546560" cy="101268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03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4643280" y="2170080"/>
                        <a:ext cx="1546560" cy="1012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04" name=""/>
            <p:cNvSpPr/>
            <p:nvPr/>
          </p:nvSpPr>
          <p:spPr>
            <a:xfrm>
              <a:off x="1898640" y="2206800"/>
              <a:ext cx="2617920" cy="42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6cbaf"/>
                  </a:solidFill>
                  <a:latin typeface="Times New Roman"/>
                </a:rPr>
                <a:t>National Institute of Environmental Health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6cbaf"/>
                  </a:solidFill>
                  <a:latin typeface="Times New Roman"/>
                </a:rPr>
                <a:t>Sci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6cbaf"/>
                  </a:solidFill>
                  <a:latin typeface="Times New Roman"/>
                </a:rPr>
                <a:t>Partnership for Environmental Education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6cbaf"/>
                  </a:solidFill>
                  <a:latin typeface="Times New Roman"/>
                </a:rPr>
                <a:t>College of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22960" y="2166840"/>
              <a:ext cx="2728800" cy="426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6cbaf"/>
                  </a:solidFill>
                  <a:latin typeface="Times New Roman"/>
                </a:rPr>
                <a:t>Department of Agricultural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6cbaf"/>
                  </a:solidFill>
                  <a:latin typeface="Times New Roman"/>
                </a:rPr>
                <a:t>The Center for Environmental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6cbaf"/>
                  </a:solidFill>
                  <a:latin typeface="Times New Roman"/>
                </a:rPr>
                <a:t>College of Veterinary Medicine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04:39:45Z</dcterms:created>
  <dc:creator>Vince Hardy</dc:creator>
  <dc:description/>
  <dc:language>en-US</dc:language>
  <cp:lastModifiedBy>Jeremiah McNichols</cp:lastModifiedBy>
  <dcterms:modified xsi:type="dcterms:W3CDTF">2008-06-26T17:35:35Z</dcterms:modified>
  <cp:revision>7</cp:revision>
  <dc:subject/>
  <dc:title>Tut’s Revenge</dc:title>
</cp:coreProperties>
</file>