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E1992-0205-490A-BAE2-45C48CDE75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2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present Ratios/Percents with Models, Fractions, Decima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246DB-D58B-4D50-B286-6B42E4B9D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28F27-3BAF-4A67-BC42-4F9F0CE4B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A345D-66F4-4C1B-841A-0F76637EF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0471D-2AC7-4872-B0A6-2CE78DF8B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680D5-8BCC-414F-A800-60776B51C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F94BE-39FE-4742-8233-D5B0D36B0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11146-D28B-419B-8FD7-5D2D5069A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BC1F8-8E36-4DF6-BBBB-E74F0859E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DE3EB-C9A4-43BB-974C-6ADCCC36B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514E2-F16F-4485-AF5B-0855A1D0E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35937-F115-4C84-916D-BD40D3444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0D773-E16A-4336-8B14-85B8BFBE8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C66D2-6912-4D0B-9AC8-BD2B3753EDD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09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emperature Convers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480" y="18241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ahrenheit to Celsius :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 = 5/9 x (</a:t>
            </a: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 - 3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elsius to Fahrenheit :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 = (9/5 x </a:t>
            </a: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) + 3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6705720" y="2327400"/>
            <a:ext cx="2114280" cy="34639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3T19:27:43Z</dcterms:created>
  <dc:creator>ITWorkstation</dc:creator>
  <dc:description/>
  <dc:language>en-US</dc:language>
  <cp:lastModifiedBy>Texas A&amp;M Veterinary Medicine</cp:lastModifiedBy>
  <dcterms:modified xsi:type="dcterms:W3CDTF">2005-04-12T18:38:05Z</dcterms:modified>
  <cp:revision>8</cp:revision>
  <dc:subject/>
  <dc:title>Temperature Conversion</dc:title>
</cp:coreProperties>
</file>