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5E09-DDDA-4786-B608-73EDC71C3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4FB12-1D95-44EB-871B-EB41AD411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32827-6402-48B4-8105-A21215B9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B9433-3756-476D-8F93-9318DCA93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14B05-7257-4C5E-AD63-96B97D124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0B912-1296-41F8-A2A8-EBB5DD787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25BF3-6BAD-48EE-824E-68FC5863D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BD073-A438-4EAF-9173-1B4CD429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3F483-4531-4505-A8C5-DF276E7A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82A54-2F95-4687-9BCC-14DB40FE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E32A-611C-4E69-9917-646B2399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1B5FE-A9A5-4578-9222-6A4E36CCB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9C1B4-D8AD-43E5-B90F-6AF92D751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FAC7-EE6D-41AF-A19E-EFECBA92CAB7}"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5-05-17T17:06:37Z</dcterms:modified>
  <cp:revision>32</cp:revision>
  <dc:subject/>
  <dc:title>When the children _____ in Egypt, they found a girl ______.</dc:title>
</cp:coreProperties>
</file>