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51D98-37D2-4AFC-9085-5328A062D3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3F0FD-0E31-4E5E-9A41-9EA4904DC5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8D1F9-091D-4C63-91CC-941F1FA840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1A0D4-0396-43C3-8C8C-718F6EDA96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EBBC6-8604-4454-BC6D-BC5E092A68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2EAF3-F6C0-40B2-91AD-E8A2B04235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F2252-F145-4B00-984F-60914CE4EC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1255A-9C7B-4BFD-8E31-112030A8F3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CC23E-D3FE-4825-951D-BF6373E097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AC0E5-BDEF-4F01-AEFD-7CE69EF09A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43C58-7016-405E-8032-FE5E657811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17D57-0313-448A-9767-4301C1B54F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B061-07EA-42F8-A149-B6CAD368241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82883-086A-4B33-A3A4-D8E80D7EF8E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1EA06-F4CB-4820-B47D-E6475182B0F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7-28T15:13:04Z</dcterms:modified>
  <cp:revision>207</cp:revision>
  <dc:subject/>
  <dc:title>VTPP 423 - PHYSIOLOGY</dc:title>
</cp:coreProperties>
</file>