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9FC0-6E83-416A-BE08-E16967DAD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5565-5C2F-41E8-8EB1-821EF63A1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1E1D-B5B1-4D4E-84D5-5B5D31DBE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5A23-CA95-4D4F-893D-20CF197A5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D08F-D3CC-4C74-9831-D2C3A7EFD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FCD9-6A4E-4F6D-B0B6-AC97B2870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315A-2F74-44CD-B643-DB57A0095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2156-E777-4381-8EAD-E875629C0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2947-A2A9-44C5-A9F5-053E3581C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F471-DC28-4BAF-AAAD-3874ECAB3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A5719-90FF-43CE-BEAD-96AD28DC5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1ABD7-4131-42CE-AF43-6EBA022E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0E04F-18E3-4965-B9DF-5DE1AD35C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1D431-09D7-459F-88AC-E75D4DD2B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1BB3B-1994-4ECB-B058-F918ACF80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32FFB-5C0F-4557-8C56-84101ACFF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ECD9-2974-4425-A0FB-AAE03756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94EB8-F7BB-4E06-91EC-BB12322C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6A01-EB0A-43A1-B18D-A0A361DC0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8E3A-8862-47C4-9C93-032FA32C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DEC3-D3DF-455F-B7C3-E96D9132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7A49-3FB4-49CA-9070-0DF7C71F7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E4CE-C4FB-446E-A414-84CB785F9E36}"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Texas A&amp;M Veterinary Medicine</cp:lastModifiedBy>
  <cp:lastPrinted>2002-01-24T23:01:28Z</cp:lastPrinted>
  <dcterms:modified xsi:type="dcterms:W3CDTF">2005-05-06T15:10:46Z</dcterms:modified>
  <cp:revision>52</cp:revision>
  <dc:subject/>
  <dc:title>Where in the world is Luxor?</dc:title>
</cp:coreProperties>
</file>