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DE7B-C882-4439-99AA-7592C944B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find a home for a stray kitt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using a boxtok computer devi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Summ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ups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o prepare King Tut’s tom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an hereditary rul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ntemptuou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he presence of the open sewage ditches associated with the worker’s te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were required for their return trav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been rude since he did not like foreigner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 Using study strategies to work on ide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 Recognizing how style, tone, and mood contribute to the affect of tex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ABCC-DE0B-42B2-B2AE-2D2528C1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E9FE-2C24-4A95-9ABE-9D2A49CF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892F-38BE-4A91-A922-66AA7837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1ABA-A9F0-471F-B498-1E22198B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9850-A1A3-4E30-B3E4-D3C8730D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0C6C-6AFB-42DB-9DDC-5A0D3142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C74E-EA70-42DB-AFAC-5971773F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7687-42B3-43C2-B9EF-5C94C164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27BC-F077-4261-B979-02BE91E6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39D2-8642-4EDA-94CB-14CA9331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5CB4-8164-4865-B0F5-694253EC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C9F4-436C-40D4-98F5-01159BA2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6C30-7800-40A7-B2B2-E58E6B22A316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9e4c9"/>
                </a:solidFill>
                <a:latin typeface="Times New Roman"/>
              </a:rPr>
              <a:t>Read “Tut’s Revenge” carefully.</a:t>
            </a:r>
            <a:endParaRPr b="0" lang="en-US" sz="3000" spc="-1" strike="noStrike">
              <a:solidFill>
                <a:srgbClr val="f9e4c9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9e4c9"/>
                </a:solidFill>
                <a:latin typeface="Times New Roman"/>
              </a:rPr>
              <a:t>Take the Investigator’s Challenge Quiz to determine how carefully you read the story.</a:t>
            </a:r>
            <a:endParaRPr b="0" lang="en-US" sz="3000" spc="-1" strike="noStrike">
              <a:solidFill>
                <a:srgbClr val="f9e4c9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9e4c9"/>
                </a:solidFill>
                <a:latin typeface="Times New Roman"/>
              </a:rPr>
              <a:t>After you complete the quiz and see your score, review each question. </a:t>
            </a:r>
            <a:endParaRPr b="0" lang="en-US" sz="3000" spc="-1" strike="noStrike">
              <a:solidFill>
                <a:srgbClr val="f9e4c9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9e4c9"/>
                </a:solidFill>
                <a:latin typeface="Times New Roman"/>
              </a:rPr>
              <a:t>Find the part of the story that provides the correct answer to the question.  </a:t>
            </a:r>
            <a:endParaRPr b="0" lang="en-US" sz="3000" spc="-1" strike="noStrike">
              <a:solidFill>
                <a:srgbClr val="f9e4c9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9e4c9"/>
                </a:solidFill>
                <a:latin typeface="Times New Roman"/>
              </a:rPr>
              <a:t>Underline or highlight the important details you find.</a:t>
            </a:r>
            <a:endParaRPr b="0" lang="en-US" sz="3000" spc="-1" strike="noStrike">
              <a:solidFill>
                <a:srgbClr val="f9e4c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Why were the travelers’ backpacks essential?  The backpacks …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800" spc="-1" strike="noStrike">
              <a:solidFill>
                <a:srgbClr val="f9e4c9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contained medicine in case any of them fell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ill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were the only way to carry home souvenirs of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Egypt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did not belong to them and needed to be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returned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were required for their return travel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60520" y="31240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60520" y="40514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60520" y="49910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60520" y="59436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If K.T. and her friends had advised the Overseer on how to fix some of the problems at the work site, he probably would have …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9e4c9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been rude since he did not like to feel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inferior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been so grateful that he would have given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m a treasure from the tomb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anked them nicely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quit his job and appointed them to oversee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construction site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60520" y="33782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0520" y="43178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60520" y="52322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60520" y="58165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48720" y="228600"/>
            <a:ext cx="990360" cy="380880"/>
          </a:xfrm>
          <a:custGeom>
            <a:avLst/>
            <a:gdLst>
              <a:gd name="textAreaLeft" fmla="*/ 24480 w 990360"/>
              <a:gd name="textAreaRight" fmla="*/ 965880 w 990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2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2" y="20200"/>
                </a:lnTo>
                <a:lnTo>
                  <a:pt x="54732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2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d5d5d"/>
                </a:solidFill>
                <a:latin typeface="Bookman Old Style"/>
              </a:rPr>
              <a:t>S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Why did the friends in this story travel to Egypt?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9e4c9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o gather information for a science project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It was an accident. They meant to go to the    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swimming pool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o find a home for a stray kitten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o scare their friend Travis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0520" y="37339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60520" y="46990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60520" y="5245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60520" y="31748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How did the friends travel to Egypt?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9e4c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9e4c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By using a boxtok computer device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By stepping through a mirror into another 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dimension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By passing through a time portal found in the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backyard tree house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By drinking a magic potion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60520" y="27176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60520" y="32893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60520" y="42418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60520" y="5181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Which friend knew the most about ancient Egypt and Tutankhamun?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ravis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60520" y="31370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60520" y="37209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60520" y="42800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60520" y="48513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Which of the following best describes  Nefah’s state-of-mind when she met the time travelers?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9e4c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9e4c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Happy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Bored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Upset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Content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73120" y="35942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73120" y="41781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73120" y="47372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73120" y="52833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Why did the new Pharaoh require so many  new workers?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9e4c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9e4c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o build the Great Pyramids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o prepare King Tut’s tomb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o clean up damage caused by flooding of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Nile River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o construct a new palace for himself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73120" y="31748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73120" y="3746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73120" y="43052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73120" y="5245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60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6.  Select the best definition for "monarch" in the context of the sentence below.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"I’ll give you a hint: it’s home to the world’s most famous teenage monarch."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A hereditary ruler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An architectural design resembling an arch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A large brightly colored butterfly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A warrior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73120" y="38736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73120" y="44449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73120" y="49910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73120" y="55497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e attitude of the Overseer in the story is best described as …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9e4c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9e4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9e4c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kind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eager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ired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contemptuous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73120" y="31622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73120" y="3746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73120" y="43052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73120" y="48639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What is the most likely source of the "stench from the encampment" referred to in the story?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9e4c9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workers cook exotic meals that smell bad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o K.T. and her friends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paint used to decorate the tomb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presence of the open sewage ditches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associated with the workers’ tents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horses used to pull the chariots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60520" y="44704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60520" y="50166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60520" y="59691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60520" y="35305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14:21:23Z</dcterms:created>
  <dc:creator>ITMD</dc:creator>
  <dc:description/>
  <dc:language>en-US</dc:language>
  <cp:lastModifiedBy>Texas A&amp;M Veterinary Medicine</cp:lastModifiedBy>
  <dcterms:modified xsi:type="dcterms:W3CDTF">2005-05-17T17:05:44Z</dcterms:modified>
  <cp:revision>87</cp:revision>
  <dc:subject/>
  <dc:title>Investigator’s Challenge Quiz</dc:title>
</cp:coreProperties>
</file>