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1289C-4ABE-41C1-B429-6CC3D0D04C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A958-2419-4E37-9C05-CE3CEF615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EBF0-8279-4025-9BB8-CE71731EC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66A7-B908-47A2-AF52-DBB2A9564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C411-BBB1-4A06-826D-E7F30F909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B7A3-BF20-4399-94E1-48B3AE555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998F-AE98-412C-BA8A-B080AA1C0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F88A-FFB6-494D-8351-61E009236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3965-733D-490D-BA91-D11EA863E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EB56-E416-4237-9D68-FFF95750F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1EFC-4712-4A5A-9D82-18E7542CA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D6D4-2567-4B90-9FFA-3948FB12D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57F5-FD59-49A5-97A5-EA067A3F0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C7F55-CBA5-429D-8A54-57EEC383EC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For example, over the past 40 years, New Jersey has had an average temperature of 32 º Fahrenheit and an average precipitation of 2.8 inches during the month of February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Weather is the state of the atmosphere at a 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given place and time</a:t>
            </a: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For example, the temperature right now in New Jersey is 56º F and it is snowing. 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Vince Hardy</cp:lastModifiedBy>
  <dcterms:modified xsi:type="dcterms:W3CDTF">2007-01-12T21:51:09Z</dcterms:modified>
  <cp:revision>19</cp:revision>
  <dc:subject/>
  <dc:title>What’s the difference between weather and climate?</dc:title>
</cp:coreProperties>
</file>