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1E8F-7E74-4338-9C2A-1193DA67E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A795-B0C2-44C0-9D1F-D46C625FF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6D97-6A34-4628-BD62-CE0D2F52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7843-4A54-4BD8-857E-68BABB13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2C3F-97CF-4845-8FAB-81CC062BB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B83E-B7C5-4E13-8A57-3A52ABD8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2803-5A93-4DB8-AE7D-BCE3A9B4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9942-5AC5-48EC-B4A4-BD5DA987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F2C7-CB18-47A9-97F9-9E5486B8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74C6-42D8-40C3-BD28-3255EACC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04B4-23F1-42EE-BDFC-3C686327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1E9E-1857-46AA-BD70-5D0E7E81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EF10-9AA9-418E-A397-7877CE3C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A8CB-EEF8-446A-A9DD-324B4254357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Texas A&amp;M Veterinary Medicine</cp:lastModifiedBy>
  <dcterms:modified xsi:type="dcterms:W3CDTF">2004-10-27T20:29:36Z</dcterms:modified>
  <cp:revision>24</cp:revision>
  <dc:subject/>
  <dc:title>What Do I Say?</dc:title>
</cp:coreProperties>
</file>