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8846-3C27-4030-9A33-8B8CB79FB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DDA0-31B4-4B33-B759-0D3DF3C2C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effects of physical processes and the physical environment on huma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FD33-20AA-436D-A48D-90E7C8921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3B6-FD78-4FFE-93E6-9E902FA9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B08-AECB-487D-A812-D6838D35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C0F-4083-4F1E-B97D-9459A5F0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A21-B4E8-4C43-BBCD-D7DA0591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A0B-485E-4BA4-BB7E-B283B6E4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769-CF8A-458E-A5AF-2C09D39E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7D0-4758-4FD9-9596-75EEBF74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CFB-4DAA-4068-9700-A29C69CC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E13-E722-44E7-AAE3-15A2A746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89B-4DC2-44BB-ACD0-D5416361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8B7-2BC9-4C5C-8F06-EAB8C50D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CCF7-BACC-4DE2-85B0-670BFE6A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BA4E-F20C-4327-97A1-E94DB4CFDFFA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 and the Nile River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is Egypt’s most important natural resource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river provides irrigation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water for agricultur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Each year, the river floods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and brings a new layer of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rich, fertile soil to the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surrounding farmlan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people have depended on the river for water, food, and transportation since ancient times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ost of the people of Egypt live along the Nile. The rest of the country is very thinly settle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172040" cy="24447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The Landscap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uch of Egypt is a desert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re are mountains to the west of the Nile River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runs through Egypt, watering the land and feeding its people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land along the Nile is green and fertile. Nearly all of Egypt’s farms are located along the Nil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216680" cy="365760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38:38Z</dcterms:created>
  <dc:creator>Charles C. Farnsworth, Ph.D. - Instructional Design</dc:creator>
  <dc:description/>
  <dc:language>en-US</dc:language>
  <cp:lastModifiedBy>ljlab</cp:lastModifiedBy>
  <dcterms:modified xsi:type="dcterms:W3CDTF">2007-08-20T17:03:43Z</dcterms:modified>
  <cp:revision>28</cp:revision>
  <dc:subject/>
  <dc:title>People along the Nile River</dc:title>
</cp:coreProperties>
</file>