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2DC3-9937-4002-B9A5-2FFF52B9F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4381-2B92-4E91-A7A8-234DE49BD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4FCF-F0F4-4E95-A975-9BC714E65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6006-BBF0-4C2F-9304-C0CA53CF4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9B07-FA4B-4493-939A-7AB675AFA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EC90-4472-4229-AD18-7C9CBA9FE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B762-8EBD-4295-9754-56F1ECDA2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3287-7E9A-4BC4-8D66-3C77C0238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FB73-E081-4B20-AF26-D9C6A0C1D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7FE3-9B83-434B-A799-B587F612E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9911-57D7-454C-AA87-A69F9420C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5327-0114-4771-89B8-3E9DC38AB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BB48-4701-47C7-8092-58CEE41B7C7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D57E-BD90-466B-B941-549D80E9441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1046-2557-477A-8238-DB218F8D78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2209-A1BB-462D-8C1B-356F5CE9BA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C9CA-7F0C-462A-BF03-DD3E634695D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11Z</dcterms:modified>
  <cp:revision>216</cp:revision>
  <dc:subject/>
  <dc:title>VTPP 423 - PHYSIOLOGY</dc:title>
</cp:coreProperties>
</file>