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9 (B) Describe Relationship Between Probabilities of Two Ev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9 (A, B)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Construct Sample Spaces using Lists, Tree Diagrams, Combin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Describe Relationship Between Probabilities of Two Ev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9 (A, B)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Construct Sample Spaces using Lists, Tree Diagrams, Combin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Describe Relationship Between Probabilities of Two Ev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0C66F8-EFF9-4FEA-8C45-BC2F057309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1CBD09-5708-4E3B-8C36-08E4CB55160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7A2C9B-5FC6-4B44-A03A-801C310E37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EA1022-4337-471B-B1CC-E85051CEDB3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349CA1-7BF8-445E-9F62-FEB6E318E6E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B0A05F-D429-4655-885F-97E52C22ED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5E3626-333A-45B0-AE03-31C290ECA7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C95D70-986A-4343-B3FF-0213E85AC8A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8DA7C7-28EE-4C60-BE05-AED0E10B0E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B16CE7-081F-45B7-B0E0-19242B54CD0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DD27F1-5C27-4435-B592-F0C8F284F1E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0BC44D-2BCC-4178-B905-29FA418F528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ABB9A-4AF8-4B9C-81F6-6AC804364E48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robability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822960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Theoretical Probability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- the ratio of the number of ways the event can occur to the number of possible outcomes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P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(event)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umber of ways the event can occur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umber of possible outcome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590920" y="4191120"/>
            <a:ext cx="601956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34D703-8B42-4796-872E-1A9EA89D8565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robability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63560" y="1213920"/>
            <a:ext cx="77709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	</a:t>
            </a: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Probability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Occurrence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0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Cannot occu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/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Not likely to occu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/2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50-50 chance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3/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Very likely to occu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Always occurs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625A1A-128C-4471-95F3-3225DD002784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robability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8580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815328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40080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43828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914400" y="2514600"/>
            <a:ext cx="7315200" cy="0"/>
          </a:xfrm>
          <a:prstGeom prst="line">
            <a:avLst/>
          </a:prstGeom>
          <a:ln w="5724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8390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annot      Not Likely     50-50      Very Likely      Certain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ccur        to Occur       Chance      to Occur         to Occu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 = 0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P = 1/4          P = 1/2           P = 3/4         P = 1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= 0 %      = 25%         = 50%         = 75%     = 100%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ote: The closer the probability is to 1, the more likely the event is to occur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9092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57200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55308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30592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04920" y="1295280"/>
            <a:ext cx="121896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828800" y="1295280"/>
            <a:ext cx="175248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809880" y="1295280"/>
            <a:ext cx="121932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81480" y="1295280"/>
            <a:ext cx="198144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391520" y="1295280"/>
            <a:ext cx="144756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6A80D5-FDCF-4115-8833-751811963B8B}" type="slidenum">
              <a:t>3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vhardy</cp:lastModifiedBy>
  <cp:lastPrinted>2001-01-16T19:55:21Z</cp:lastPrinted>
  <dcterms:modified xsi:type="dcterms:W3CDTF">2003-05-23T21:27:11Z</dcterms:modified>
  <cp:revision>206</cp:revision>
  <dc:subject/>
  <dc:title>VTPP 423 - PHYSIOLOGY</dc:title>
</cp:coreProperties>
</file>