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7369-7596-4F46-935F-85D9AE862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0EF3-5820-4236-9D9B-414CC473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4B7C-C989-47AA-9B65-823F88F2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8AB0-17AE-4D95-B5E6-E5937F0F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8678-A4DA-4A8B-8EDA-EB3556E4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909E-0FCF-4A30-937A-54AE2640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0DBE-2251-46D3-8E3D-1862AAD5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489C-A902-40F9-934A-AC9194F2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B72B-2EAD-40A9-81AD-5CDDEFBE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AA7F-A0ED-47C0-BCCF-0EE9C13F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A547-A373-4418-9AAF-F47979EF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9C38-1D92-4753-946E-28893B17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906A-0A35-49E4-B830-A2A2A712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8F39-F910-4BCD-921B-8DD76DB427C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itstudent</cp:lastModifiedBy>
  <dcterms:modified xsi:type="dcterms:W3CDTF">2002-08-06T19:40:55Z</dcterms:modified>
  <cp:revision>7</cp:revision>
  <dc:subject/>
  <dc:title>What’s the difference between weather and climate?</dc:title>
</cp:coreProperties>
</file>