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D871-BF4F-4F64-9207-C4EC62A77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82FE-FF06-443C-BC4F-EF59F5EE4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D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, B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Identifying and analyzing ways people adapt to the physical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 Identifying and analyzing how people have modified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ways societies organize production and distribu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C03D-1D16-4139-9E79-D1B41845C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D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, B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Identifying and analyzing ways people adapt to the physical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 Identifying and analyzing how people have modified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ways societies organize production and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F4EB-167E-4EE7-8425-91D6DD904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4F41-01BF-4539-94F0-AB679BAD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AE67-2590-47F5-AD0F-5CBF48F76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2E7F-E829-45C1-BE9D-7CA4F9BED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A5DD-7F22-4643-B048-6EF0F763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A843-3873-4D24-8978-6EB3C11A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663C-7F33-4637-BEB4-DE3A9E89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4349-6391-47F7-B755-D40DF058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E0DA-1EE8-472F-9252-1FEC2A3C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3DD0-02C0-43AD-A600-56CA3861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36D6-2498-4D45-8215-CE3A4D59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5D41-C463-482F-B6C1-8E828657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28B0-5CED-45CF-B7B2-95D566687E68}" type="slidenum"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9e4c9"/>
                </a:solidFill>
                <a:latin typeface="Times New Roman"/>
              </a:rPr>
              <a:t>Egyptian Food</a:t>
            </a:r>
            <a:br>
              <a:rPr sz="2400"/>
            </a:br>
            <a:endParaRPr b="0" lang="en-US" sz="41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94588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Egyptians ate mostly fish, poultry, and bread. 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y also enjoyed fruits and vegetables grown locally by farmers. 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se farmers depended on a yearly flood from the Nile River to restore nutrients to the soil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5791320"/>
            <a:ext cx="7924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172200"/>
            <a:ext cx="7924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7520" y="152388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Nile River was the source of nearly  all food in ancient Egypt. It provided water for irrigation and for daily u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48520" y="266760"/>
            <a:ext cx="2190600" cy="2705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Egyptian Food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main food crops, barley and emmer, were used to make bread, the main diet of Egyptians. 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Grains were harvested and stored in granaries until ready to be processed.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amount of grain harvested often was more than the needs of the country.  Grain was exported to neighboring countries, providing a source of income for the Egyptian treasury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257800" y="380880"/>
            <a:ext cx="2971800" cy="198756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20:46:28Z</dcterms:created>
  <dc:creator>Charles C. Farnsworth, Ph.D. - Instructional Design</dc:creator>
  <dc:description/>
  <dc:language>en-US</dc:language>
  <cp:lastModifiedBy>Texas A&amp;M Veterinary Medicine</cp:lastModifiedBy>
  <dcterms:modified xsi:type="dcterms:W3CDTF">2005-05-06T15:08:51Z</dcterms:modified>
  <cp:revision>21</cp:revision>
  <dc:subject/>
  <dc:title>No Slide Title</dc:title>
</cp:coreProperties>
</file>