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CE05B-FCA1-4E83-90B3-9348A0343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97EB6-9556-4AB9-BD16-E0EE432B2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BAEA8-9C4B-424D-95AE-B07A440E1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7F53-5A59-402A-B743-298B07B73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A206-90E0-45AF-BE99-2A142ADA1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B9C8-F834-49DC-A0AE-FE686474A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8777A-1341-432D-8214-DC284DBC1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7C432-1EFF-4111-B9F2-6F15F6BC2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C6B72-8C71-404E-A6BA-A332B37A8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5709B-2004-4234-A5C9-F7316C140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D9136-3148-4E81-85A5-F9A285AE7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1892D-B46D-4792-AC3A-6FE91B436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626E-9D7A-4D71-AD56-D24E2F0DAFE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Rectangle2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B156-63E3-4DF3-8E77-C9EEB5B9F85F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6:54Z</dcterms:modified>
  <cp:revision>205</cp:revision>
  <dc:subject/>
  <dc:title>VTPP 423 - PHYSIOLOGY</dc:title>
</cp:coreProperties>
</file>