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8A3C-F8BB-404E-88E6-74B055D01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8D0A-A72E-4F8B-9D25-75A7ABD30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20C5-3D50-44B3-BCC9-7A233762D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712-7E01-4AB1-989E-36054F8B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ED1-9095-42DD-B38E-3042675F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218-074E-4081-A48D-1F8268BF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B23-8EE9-4236-83B8-6C1F1AB6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61D-D54A-43DB-95AA-39A0301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42D-2E05-4493-A199-D02A6DF7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3E7-A6F8-47A2-9354-6BD465F6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1AB-50B9-45C6-A373-233C1C19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79C-A558-4209-B4DB-D08F48DD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66E-E8C4-49E8-9873-CCE0752D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DB1-A9AB-481E-B516-643DF805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27E-A9CC-40BA-A24C-45E1270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5ED6-ADAE-4F8E-8AB4-09B4BA2AF85D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Texas A&amp;M Veterinary Medicine</cp:lastModifiedBy>
  <dcterms:modified xsi:type="dcterms:W3CDTF">2005-05-06T15:09:52Z</dcterms:modified>
  <cp:revision>27</cp:revision>
  <dc:subject/>
  <dc:title>People along the Nile River</dc:title>
</cp:coreProperties>
</file>