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FA67-AC76-4FD6-A9AF-BEFD1F9AE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5AC5-1ECD-493D-9F14-0DD7672A9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1798-A15A-4174-BD81-D2868D289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AC492-7576-42E1-935B-E2861B033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E3C83-1015-4A4C-8CED-743F5B2DB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C1D69-3767-464E-9C26-4112FF3B2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F3BF9-D5B4-41CC-B960-5E2CA73C3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74FC-EC16-4361-833D-98E24399C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17388-D641-4E92-B417-19BA8DA19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5E5C2-6D6B-4C03-9696-E7F0869D8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94B2-DFA9-4A20-A715-E90AEF511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1536C-6E89-4EF6-9DB1-3C25B73BD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6B1B-8587-4DEB-8FEE-97A0938BBCE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1065-81CB-46C9-A3CD-53ABE45F613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9DACC-8536-4B3D-BECA-F3430F05A8C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94266-B5BC-43C7-AB12-C4BF7E707C0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3B34D-53EE-4CFB-A056-0A36C314213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74271-D0AF-42A0-94AF-BC64523E929D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6-19T18:46:08Z</dcterms:modified>
  <cp:revision>218</cp:revision>
  <dc:subject/>
  <dc:title>VTPP 423 - PHYSIOLOGY</dc:title>
</cp:coreProperties>
</file>