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19.gif" ContentType="image/gif"/>
  <Override PartName="/ppt/media/image10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9BB2-165E-413A-BD0D-CEF855A42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640E-EDBA-4701-9780-0291701B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1BDD-85A9-42FA-8900-0B10D8DD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6AFD-6797-4422-9648-59FC1AB8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D811-4BCE-4347-A948-C93696ED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5619-F647-429A-B0AA-57215057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1AF8-E29A-4EAB-AA72-D051F948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1DEC-C01D-427D-99C5-E2367C35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C91B-3155-4982-AE01-D409D13F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25D0-863C-4287-B28C-9AB18705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3D94-0E38-4E51-BE50-61B11C53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DEDA-644F-479F-A4AB-FBB9EC2D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5CC1-4461-433E-A352-A99730F4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F975-421B-4818-AC5F-EDF37E0A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EC48-6AF6-4425-997A-706DED7D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3459-BB92-40AD-9BDA-38C01323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753E-4FC1-4DAB-A7BA-D328736A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7C2C-4D3A-4A83-8B53-48CEE960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EA22-23C3-4FB5-8647-8082E936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2C5E-12CF-4B67-9F40-A265AC6F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AF30-C49D-4BDE-82A4-759A458A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8B7A-CEF1-4711-8639-FB8C2513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D6D1-FBA9-4786-9D1C-4AEF3368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D331-EE80-4FA8-9E66-56343AD9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ADE2-BEF6-48F2-AB4C-BF0B0821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5AFA-B57E-47D9-93BA-A56E1BA0DE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23E2-6FA3-4DCC-B2C3-F43EFFCAFE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hyperlink" Target="http://peer.tamu.edu/curriculum_modules/Cell_Biology/CellBiol/Proteins/whatweknow4.htm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Globe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3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smoker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4876920" y="1512720"/>
            <a:ext cx="4057560" cy="41259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4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CigsToBrain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SmokeInLungs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j0178822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NoSmoking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Airplane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Money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Playing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vhardy</cp:lastModifiedBy>
  <dcterms:modified xsi:type="dcterms:W3CDTF">2003-02-06T05:01:02Z</dcterms:modified>
  <cp:revision>28</cp:revision>
  <dc:subject/>
  <dc:title>Tobacco and the Cellular Mechanisms of Nicotine Addiction</dc:title>
</cp:coreProperties>
</file>