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6A24-DDCD-497E-B649-4EFF768B3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8E66-C74C-469D-A0E0-5ABF9D5E8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180F-CC85-431C-8EFC-C64807DB6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1D5-3082-4E64-A9C4-578727D3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91D-D29D-4053-BEB4-626F9706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C4A-E55B-431A-8832-5CCFA3C4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389-7D16-4A56-858E-3A77D2AE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800-AF30-4AE8-9743-22EF09B1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09F-BAA4-4799-A4F9-2F79E372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46D-0905-476F-AE6C-27B84665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825-E58C-42AA-A760-8503C522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4D7-927A-4C5A-A57F-90DDE9C6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789-8C5E-44AD-B656-13CF43E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F83-3097-46F3-B591-6A530ECF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CFC-359B-4D39-B04B-3F7D2047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AFC8-C972-4DA7-A6CE-C7B36DC9F8EA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Vince Hardy</cp:lastModifiedBy>
  <dcterms:modified xsi:type="dcterms:W3CDTF">2007-02-14T19:12:24Z</dcterms:modified>
  <cp:revision>21</cp:revision>
  <dc:subject/>
  <dc:title>No Slide Title</dc:title>
</cp:coreProperties>
</file>