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87FE-A232-4A97-824A-2B64C1EF5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F) Evaluate personal research and raise n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earch King Tutankhamen King Tut hist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fine obituary.  Provide examples of obituaries from the local paper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d appropriate form of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H) Produce cohesively writte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 appropriate form for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B) Capitalize and punctuate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C) Correctly spell syllable construction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D) Correctly spell roots in writing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F) Employ standard English usage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G) Use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King Tut King Tutankhamen obituary compare contra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D35B9-9382-4343-8A67-695BB95A4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C1A7-F2B2-4AB7-8662-92BE810EF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E3087-9024-439C-819D-B8000DEA9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CDEAD-78BE-495E-9135-322875263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A411-C790-49C1-A673-DD2AE4AC5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DFB3C-04F2-4BD6-ADC1-828941BF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9EFD7-6816-4344-9EF6-AFE8882C2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97A02-22FF-4E57-B8CC-BF054AF3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0FAE2-14A8-4F6A-94C9-5EC574835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3D4B-AC52-490B-B2F7-89C3B6C3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C6F1-7812-4418-A9B7-BB615031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C92B-6E76-4480-807A-5EBF0A6BA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8865-C6E9-4428-86DE-6871DB97C087}"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gHistor.ppt"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1880" y="205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96960" y="15476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dentify important events during King Tut’s reign.</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se research to write a summary of King Tut’s life.</a:t>
            </a:r>
            <a:endParaRPr b="0" lang="en-US" sz="32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3" name="PlaceHolder 2"/>
          <p:cNvSpPr>
            <a:spLocks noGrp="1"/>
          </p:cNvSpPr>
          <p:nvPr>
            <p:ph/>
          </p:nvPr>
        </p:nvSpPr>
        <p:spPr>
          <a:xfrm>
            <a:off x="762120" y="1628280"/>
            <a:ext cx="7772400" cy="319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u="sng">
                <a:solidFill>
                  <a:srgbClr val="ccccff"/>
                </a:solidFill>
                <a:uFillTx/>
                <a:latin typeface="Times New Roman"/>
                <a:hlinkClick r:id="rId2"/>
              </a:rPr>
              <a:t>Click here for a brief history</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4" name="" descr=""/>
          <p:cNvPicPr/>
          <p:nvPr/>
        </p:nvPicPr>
        <p:blipFill>
          <a:blip r:embed="rId3"/>
          <a:stretch/>
        </p:blipFill>
        <p:spPr>
          <a:xfrm>
            <a:off x="0" y="0"/>
            <a:ext cx="20952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1638360" y="1422360"/>
            <a:ext cx="5562720" cy="2889360"/>
          </a:xfrm>
          <a:prstGeom prst="rect">
            <a:avLst/>
          </a:prstGeom>
          <a:ln w="88920">
            <a:solidFill>
              <a:srgbClr val="e6cbaf"/>
            </a:solidFill>
            <a:miter/>
          </a:ln>
        </p:spPr>
      </p:pic>
      <p:sp>
        <p:nvSpPr>
          <p:cNvPr id="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8" name="PlaceHolder 2"/>
          <p:cNvSpPr>
            <a:spLocks noGrp="1"/>
          </p:cNvSpPr>
          <p:nvPr>
            <p:ph/>
          </p:nvPr>
        </p:nvSpPr>
        <p:spPr>
          <a:xfrm>
            <a:off x="517680" y="4486320"/>
            <a:ext cx="8084880" cy="2130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64"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66" name=""/>
          <p:cNvGrpSpPr/>
          <p:nvPr/>
        </p:nvGrpSpPr>
        <p:grpSpPr>
          <a:xfrm>
            <a:off x="380880" y="1981080"/>
            <a:ext cx="8570880" cy="4502160"/>
            <a:chOff x="380880" y="1981080"/>
            <a:chExt cx="8570880" cy="450216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4" name=""/>
              <p:cNvGraphicFramePr/>
              <p:nvPr/>
            </p:nvGraphicFramePr>
            <p:xfrm>
              <a:off x="4643280" y="2170080"/>
              <a:ext cx="1546560" cy="1012680"/>
            </p:xfrm>
            <a:graphic>
              <a:graphicData uri="http://schemas.openxmlformats.org/presentationml/2006/ole">
                <p:oleObj r:id="rId9" spid="">
                  <p:embed/>
                  <p:pic>
                    <p:nvPicPr>
                      <p:cNvPr id="75"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7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22:26Z</dcterms:modified>
  <cp:revision>7</cp:revision>
  <dc:subject/>
  <dc:title>Tut’s Revenge</dc:title>
</cp:coreProperties>
</file>