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59D7-3ABE-415B-BCED-B39424590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409680" y="0"/>
            <a:ext cx="6095880" cy="4572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0" y="5384880"/>
            <a:ext cx="68580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dry climate is good for preserving ancient artifacts.  For this reason, we are able to see many ancient buildings in Egypt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Egyptian climate temperature Fahrenheit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 Identify and describe a system that results from two or more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B) Describing how properties of a system are different from its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Studies TEK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-363600" y="0"/>
            <a:ext cx="7585200" cy="5689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0" y="5689440"/>
            <a:ext cx="68580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is information, make a chart or climograph to compare the climate of your city with Luxor.  (www.worldclimate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= Average = (High temp + Low temp) /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Jan 57.5, Feb 61.5, Mar 69.5, Apr 79.0, May 85.5, June 90.0, July 91.0, Aug 89.5, Sept 86.5, Oct 80.5, Nov 68.5, Dec 6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 Identify and describe a system that results from two or more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B) Describing how properties of a system are different from its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 Describe data using median, mode,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Select and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(A) Use concrete models to solve equations and symbols to record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2 (A) Describe data using mean, median, mode,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 Offer observations, connections, and questions in response to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D) Interpret and use graphic sources of information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G) Draw conclusions from information and knowledge to raise addition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limate temperature clim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-363600" y="0"/>
            <a:ext cx="7585200" cy="56894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0" y="5689440"/>
            <a:ext cx="68580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=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(57.5+61.5+69.5+79.0+85.5+90.0+91.0+89.5+86.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.5+68.5+60.5) / 12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6.625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 Identify and describe a system that results from two or more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B) Describing how properties of a system are different from its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 Describe data using median, mode,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Select and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(A) Use concrete models to solve equations and symbols to record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2 (A) Describe data using mean, median, mode,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 Offer observations, connections, and questions in response to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D) Interpret and use graphic sources of information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G) Draw conclusions from information and knowledge to raise addition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average temperature 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363600" y="0"/>
            <a:ext cx="7585200" cy="5689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0" y="5689440"/>
            <a:ext cx="68580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 / 9 x (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- 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 / 9 x (76.6 - 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 / 9 x (44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24.78 or 2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 Identify and describe a system that results from two or more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B) Describing how properties of a system are different from its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B) Use addition and subtraction in problems with fractions and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temperature scales Fahrenheit Celsius convers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-703440" y="0"/>
            <a:ext cx="8264880" cy="6197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0" y="6197760"/>
            <a:ext cx="6858000" cy="29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is information, make a chart or climograph to compare the climate of your city with Luxor. (www.worldclimate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important element of weather and climate is precipi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ion includes all forms of moisture falling to the surface of the earth. (Examples:  rain, sleet, snow, hail, frost or d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 Identify and describe a system that results from two or more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B) Describing how properties of a system are different from its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 Describe data using median, mode,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limate precipitation 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60200" y="0"/>
            <a:ext cx="6367680" cy="4775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0" y="50292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June/July(for Lux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re is no precipitation in Lux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iscuss lifestyle changes (clothing, diet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ing,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howstuffworks.com/food-preservation7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B) Collect data by observing and meas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Communicate valid conclus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E) Construct graphs, tables, maps, and charts to evaluate dat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 Identify and describe a system that results from two or more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B) Describing how properties of a system are different from its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2 (C, 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3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2 (C, 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3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eather climograph precipitation 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08B-6B69-42F2-B0E1-9EC65AFF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202-E987-4C31-AD4F-08463795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F10-8729-4135-837A-BCC77B56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91E-CA16-43DC-AB8D-C4D0BA1C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96A-5F4B-413B-9900-AF52C7CD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7D3-3B73-4792-BB79-F227398A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D9A-D304-4145-9419-8EA4E72C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881-37FC-4345-A11B-293FA4F3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0B0-CAB9-4DA3-A8F1-CFACC6E6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28D-9189-4EBB-8520-CF0C3B11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D54-131C-4DC5-90A2-31CDC7C9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622-B354-4949-B560-169456DE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2C82-9971-4E66-B81B-F48018B29636}" type="slidenum"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ClimWeat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limogra.ppt" TargetMode="External"/><Relationship Id="rId3" Type="http://schemas.openxmlformats.org/officeDocument/2006/relationships/hyperlink" Target="file:///Appendices/Climograph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TempConv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bd0a5"/>
                </a:solidFill>
                <a:latin typeface="Times New Roman"/>
              </a:rPr>
              <a:t>Tut’s Revenge</a:t>
            </a:r>
            <a:endParaRPr b="0" lang="en-US" sz="88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4360"/>
            <a:ext cx="7770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2052360"/>
            <a:ext cx="777096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Are the following examples of weather, climate, both or neither?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1274760" indent="-533520">
              <a:lnSpc>
                <a:spcPct val="90000"/>
              </a:lnSpc>
              <a:spcBef>
                <a:spcPts val="539"/>
              </a:spcBef>
              <a:spcAft>
                <a:spcPts val="539"/>
              </a:spcAft>
              <a:buClr>
                <a:srgbClr val="ebd0a5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Luxor is warm and dry and gets less than one inch of rain each year.</a:t>
            </a:r>
            <a:endParaRPr b="0" lang="en-US" sz="2900" spc="-1" strike="noStrike">
              <a:solidFill>
                <a:srgbClr val="ebd0a5"/>
              </a:solidFill>
              <a:latin typeface="Times New Roman"/>
            </a:endParaRPr>
          </a:p>
          <a:p>
            <a:pPr lvl="1" marL="1274760" indent="-533520">
              <a:lnSpc>
                <a:spcPct val="90000"/>
              </a:lnSpc>
              <a:spcBef>
                <a:spcPts val="726"/>
              </a:spcBef>
              <a:buClr>
                <a:srgbClr val="ebd0a5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The temperature in Luxor right now is 97 degrees Fahrenheit and there is no rain today.</a:t>
            </a:r>
            <a:endParaRPr b="0" lang="en-US" sz="29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52560" y="5762520"/>
            <a:ext cx="2185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00200" y="58770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Find out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9720" y="30456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What’s the climate like there?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7923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8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Create a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mograph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 using the charts from the data on this and the following page.  If you need to print out a blank graph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What is the average temperature for each month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 algn="ctr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d0a5"/>
                </a:solidFill>
                <a:uFillTx/>
                <a:latin typeface="Times New Roman"/>
              </a:rPr>
              <a:t>Mean Temperature in Luxor (high/low in Fahrenheit)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Jan.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70/45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July 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104/78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Feb.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74/49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Aug. 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102/77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Mar.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83/56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Sept. 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99/74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Apr. 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93/65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Oct. 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93/68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May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100/71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Nov. 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81/56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June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104/76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Dec. 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73/48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840" y="309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Mean (Average) Annual Temperatur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200" y="18237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Given the average monthly temperatures, what is the average yearly temperature?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d0a5"/>
                </a:solidFill>
                <a:uFillTx/>
                <a:latin typeface="Times New Roman"/>
              </a:rPr>
              <a:t>Mean Monthly Temperatures in Luxor (in Fahrenheit)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Jan.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57.5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July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91.0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Feb.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61.5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Aug.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89.5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Mar.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69.5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Sept.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86.5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Apr.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79.0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Oct.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80.5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May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85.5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Nov.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68.5</a:t>
            </a:r>
            <a:br>
              <a:rPr sz="2400"/>
            </a:b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June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90.0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Dec.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60.5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952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Temperature Scales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7960" y="1609560"/>
            <a:ext cx="792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o convert from a temperature in </a:t>
            </a:r>
            <a:r>
              <a:rPr b="0" lang="en-US" sz="3200" spc="-1" strike="noStrike" baseline="60000">
                <a:solidFill>
                  <a:srgbClr val="ebd0a5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 to a temperature in </a:t>
            </a:r>
            <a:r>
              <a:rPr b="0" lang="en-US" sz="3200" spc="-1" strike="noStrike" baseline="60000">
                <a:solidFill>
                  <a:srgbClr val="ebd0a5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, use the following equation: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1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0">
                <a:solidFill>
                  <a:srgbClr val="ebd0a5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 = 5/9 x (</a:t>
            </a:r>
            <a:r>
              <a:rPr b="0" lang="en-US" sz="3200" spc="-1" strike="noStrike" baseline="60000">
                <a:solidFill>
                  <a:srgbClr val="ebd0a5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-32)                              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123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lvl="1" marL="1238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Given the average yearly temperature in Luxor is 76.6 </a:t>
            </a:r>
            <a:r>
              <a:rPr b="0" lang="en-US" sz="3200" spc="-1" strike="noStrike" baseline="60000">
                <a:solidFill>
                  <a:srgbClr val="ebd0a5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, what is the average yearly temperature in Luxor in degrees Celsius, </a:t>
            </a:r>
            <a:r>
              <a:rPr b="0" lang="en-US" sz="3200" spc="-1" strike="noStrike" baseline="60000">
                <a:solidFill>
                  <a:srgbClr val="ebd0a5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2760" y="6024600"/>
            <a:ext cx="77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For more information on temperature conversions, 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6cba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972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What’s the climate like there?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676520"/>
            <a:ext cx="8420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118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d0a5"/>
                </a:solidFill>
                <a:latin typeface="Times New Roman"/>
              </a:rPr>
              <a:t>What is the average precipitation each month?</a:t>
            </a:r>
            <a:endParaRPr b="0" lang="en-US" sz="3400" spc="-1" strike="noStrike">
              <a:solidFill>
                <a:srgbClr val="ebd0a5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ebd0a5"/>
                </a:solidFill>
                <a:uFillTx/>
                <a:latin typeface="Times New Roman"/>
              </a:rPr>
              <a:t>Average Rainfall in Luxor ( in inches )</a:t>
            </a:r>
            <a:endParaRPr b="0" lang="en-US" sz="29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Jan. 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 0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July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0     </a:t>
            </a:r>
            <a:endParaRPr b="0" lang="en-US" sz="29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Feb.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 0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Aug.  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0  </a:t>
            </a:r>
            <a:endParaRPr b="0" lang="en-US" sz="29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Mar.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 0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Sept.  0</a:t>
            </a:r>
            <a:endParaRPr b="0" lang="en-US" sz="29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Apr.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 0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Oct.   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0.4</a:t>
            </a:r>
            <a:endParaRPr b="0" lang="en-US" sz="29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May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 0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Nov.  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0</a:t>
            </a:r>
            <a:endParaRPr b="0" lang="en-US" sz="2900" spc="-1" strike="noStrike">
              <a:solidFill>
                <a:srgbClr val="ebd0a5"/>
              </a:solidFill>
              <a:latin typeface="Times New Roman"/>
            </a:endParaRPr>
          </a:p>
          <a:p>
            <a:pPr marL="1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June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 0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Dec.  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0</a:t>
            </a:r>
            <a:endParaRPr b="0" lang="en-US" sz="29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4640" y="463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Let’s Talk About the Weather...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2880" y="1788840"/>
            <a:ext cx="815364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342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Use your climographs to answer these questions: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5342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Which are the warmest months in Luxor?  In your city?     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5342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2) 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Which place has the highest yearly precipitation?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534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3) 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f you had to go on a mission like K.T., but for an entire year, what changes would you make to adapt to the climate?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280" y="1344600"/>
            <a:ext cx="855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9120" y="12859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89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0" name=""/>
              <p:cNvGraphicFramePr/>
              <p:nvPr/>
            </p:nvGraphicFramePr>
            <p:xfrm>
              <a:off x="4643280" y="2170080"/>
              <a:ext cx="1546560" cy="10126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3280" y="21700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45:08Z</dcterms:created>
  <dc:creator>Vince Hardy</dc:creator>
  <dc:description/>
  <dc:language>en-US</dc:language>
  <cp:lastModifiedBy>Vince Hardy</cp:lastModifiedBy>
  <dcterms:modified xsi:type="dcterms:W3CDTF">2008-04-08T06:03:50Z</dcterms:modified>
  <cp:revision>3</cp:revision>
  <dc:subject/>
  <dc:title>Tut’s Revenge</dc:title>
</cp:coreProperties>
</file>