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9176-9896-4502-A7E5-C76CBEC9E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1CC-C1AB-4F1D-AE6A-D048853E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C82-06CD-4BD1-9A06-807F6D8A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4A0-8738-4A48-85A2-6DA62B2A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6FA-D44E-4A0F-A528-3C93641E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127-BE04-41D8-B3D8-D29F9FBE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D6B-2D79-4076-B83F-D3F0D038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5CD-24BA-4434-9D25-CC60AB84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073-9543-4DB1-81AA-5A645939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6D1-0B13-4BD4-ABED-D8F037C9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454-CA3A-4425-923D-B11820F4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28F-7245-4102-B401-2AA44183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989-8CE5-4DF0-88AA-D69CBDE5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3367-3B0D-4A78-A206-77808284752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itstudent</cp:lastModifiedBy>
  <dcterms:modified xsi:type="dcterms:W3CDTF">2002-08-06T19:40:15Z</dcterms:modified>
  <cp:revision>8</cp:revision>
  <dc:subject/>
  <dc:title>What’s the difference between weather and climate?</dc:title>
</cp:coreProperties>
</file>