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DA1-A475-489A-95BD-738F154E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167-A610-4380-ADA2-6B6621CE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0E5-44F4-4706-98F7-CCA8F70A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786-87DD-4B25-8D09-5C3BD874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6B8-57CB-4164-9C8C-2E16FE7F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675-A9A9-47BB-98CC-3EDC1E14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477-3CD0-471E-AF70-AE58FFBC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548-D17E-4E41-9EBB-8C698707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0AB-0664-4EB6-BC26-F2AFED69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311-6595-480C-9AD5-C155D312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27F-0D1C-4E5A-90E3-1BDFA1B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329-A9FF-4849-AC4D-5BA71AE0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E63-DA83-4C89-BC38-50489A10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8B6F-27B0-4C93-A739-FE8D0EDD0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meter = 1.6 m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ljlab</cp:lastModifiedBy>
  <dcterms:modified xsi:type="dcterms:W3CDTF">2003-06-19T18:38:52Z</dcterms:modified>
  <cp:revision>6</cp:revision>
  <dc:subject/>
  <dc:title>Length Conversions</dc:title>
</cp:coreProperties>
</file>