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50BE-0B96-4359-B415-8CDD16FA4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773A8-BA8A-4B09-9D4B-FF1A41D2F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001C6-1951-40DE-892F-990DAADA1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82A61-AF3A-4E3E-BD03-D199DBB39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B8F82-DA6D-4FB3-81C0-7FCB4A07C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76FCB-61B5-4BF6-BA73-27323234D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A0669-5115-4A2C-92FC-3B92BD702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126AF-DF18-4ED3-97E1-5722CFD56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21B0F-BB8A-4780-8DB6-79DB0CF0A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8BC66-22E4-49F7-9B10-7514A76D8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101F1-73AA-415E-9D45-314B88066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C8982-C2BD-47C4-B4A9-C2573DEEE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41616-BF33-4654-AF2B-DC4EE8AED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8972-BA83-4C48-BDA3-C71BDD0009B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vhardy</cp:lastModifiedBy>
  <dcterms:modified xsi:type="dcterms:W3CDTF">2003-05-28T22:05:18Z</dcterms:modified>
  <cp:revision>105</cp:revision>
  <dc:subject/>
  <dc:title>Locating Places</dc:title>
</cp:coreProperties>
</file>