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A0E0-41BF-4885-BD60-9BBAAA0D0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5551-C6E0-45D4-9D2A-A7275752A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bing and measuring levels of economic develop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B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examples of governments with rule by one, few, or man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A, B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Explaining aspects that link or separate cultures and socie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Explaining the impact of political boundaries that cut across culture regio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7179-76CF-45E4-B909-72765C8A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1B03-CA36-4C71-B6A4-8BE1A0C6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FE8B-2369-421F-A5E5-802670DC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9071-8E11-4C28-8EB4-EE73CF2F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A08C-8593-45FA-AF83-35486657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500F-B478-41CF-A380-7B2C8548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7B72-14BA-4F96-AAAA-1C6A1832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8B4A-796A-41BB-8957-D34C3166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12B9-980A-4A68-87BC-39B4ECE4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D32C-D224-4A7E-9BD5-4B24E3EC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6BEA-8F79-4C41-83D7-9FE97B74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B3E3-0C8D-4226-AEF4-7F7854E7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5A66-6535-4D53-823B-9BED3133E19E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Work and Social Class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In ancient Egypt, a person’s job determined his or her social classification.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Most people in ancient Egypt were soldiers, farmers, and tomb builders.  These people were at the bottom of the social pyramid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Priests, scribes, and other skilled workers held a higher social classification.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highest position on the social pyramid was held by the pharaoh.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0:13:39Z</dcterms:created>
  <dc:creator>Charles C. Farnsworth, Ph.D. - Instructional Design</dc:creator>
  <dc:description/>
  <dc:language>en-US</dc:language>
  <cp:lastModifiedBy>Texas A&amp;M Veterinary Medicine</cp:lastModifiedBy>
  <dcterms:modified xsi:type="dcterms:W3CDTF">2005-05-06T15:11:08Z</dcterms:modified>
  <cp:revision>15</cp:revision>
  <dc:subject/>
  <dc:title>Work</dc:title>
</cp:coreProperties>
</file>