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5303-D006-4543-B109-481175743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A7FE-8785-44B0-BA80-E5AC972B5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FC04-6024-495C-B1F6-AB8C1A158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F081-4BFD-4074-908C-01CF50C0C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616B-63C5-4FF0-9743-98B5D4CFF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2AC2-BEA3-46F8-8BCF-3E51A75F2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5F15-E87C-42AF-885A-BAED99E5B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D7A6-43CE-410E-8185-3B5DE0089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70A38-2FD0-4735-809F-78B4A20D3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105D-F1C5-44D0-9707-18DE19E97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2A92-62C9-4B14-B889-BD18D2F3D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56E6-0603-4D91-A196-6CC708499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F86F-81B4-4004-9A12-077BD970426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6F77-D881-4E29-9400-8248A4AEB31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0644-AD2B-4534-812D-67778D46BC9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25Z</dcterms:modified>
  <cp:revision>210</cp:revision>
  <dc:subject/>
  <dc:title>VTPP 423 - PHYSIOLOGY</dc:title>
</cp:coreProperties>
</file>