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F606D-997B-4283-9CD1-1C3F46FA54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Ratios/Percents with Models, Fractions, Decima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C972-2AA6-4CC9-8F79-FCA48C7BE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5B35-CF05-44A1-9526-F93143ECC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1AD9-EFF4-426A-873B-38F3F2EFE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D321-7650-4CA9-BE48-97F0DA412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BE79-90BC-4D6E-8832-0409440B4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EF8D-5201-4EF7-A1B4-3550D19A0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32C3-EF0A-47DD-8C98-1BE9274CC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7E0F-5F62-4B61-8203-90BDBC8D5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B88D-BDDA-40A7-AE3C-CD691858B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D98D-B61E-4ABB-814F-F20764915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1207-A830-4413-BA51-A5D4487B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1B72-20D8-45DD-BFBD-C2B12554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3EA9D-9C04-4BD4-B46D-0F9F9D99E5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mperature Conver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8241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hrenheit to Celsius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 = 5/9 x (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-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lsius to Fahrenheit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= (9/5 x 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) +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705720" y="2327400"/>
            <a:ext cx="2114280" cy="346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7:43Z</dcterms:created>
  <dc:creator>ITWorkstation</dc:creator>
  <dc:description/>
  <dc:language>en-US</dc:language>
  <cp:lastModifiedBy>Texas A&amp;M Veterinary Medicine</cp:lastModifiedBy>
  <dcterms:modified xsi:type="dcterms:W3CDTF">2005-04-12T18:38:05Z</dcterms:modified>
  <cp:revision>8</cp:revision>
  <dc:subject/>
  <dc:title>Temperature Conversion</dc:title>
</cp:coreProperties>
</file>