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7A00-D3B4-4679-9B37-35FB6B49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E2AF-0A9A-4769-AA83-78F2D73D1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6AFA-AD2D-457D-9293-879051867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8DAE-BBE5-4EA7-A741-DB7B292E4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A25D-F040-4438-89FC-D1ED6EE90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A56-C0E5-4E42-82F9-9A67610C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51D-3B1E-4C8C-B8B0-500AA238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B5F-9865-4733-8A29-862FB0E5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8DF-BE76-47B8-8385-E589C407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F47-6DDF-4C75-A9B5-EB74B2E9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D38-828A-476A-93E5-6DFBC2EE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AD1-2373-4A4A-B6B7-16656E50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49D-2CEF-421D-AE64-D9CBC31F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C4A-3F9C-4CC9-B6CA-2C1F730F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735-D355-4F84-9C85-D335176B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E8F-6736-463A-837F-8A3E1EE5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DA6-0ABB-4179-89ED-52242961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E551-5A99-4338-9900-6DCB7169824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vhardy</cp:lastModifiedBy>
  <dcterms:modified xsi:type="dcterms:W3CDTF">2003-05-23T21:24:10Z</dcterms:modified>
  <cp:revision>31</cp:revision>
  <dc:subject/>
  <dc:title>Fractions to Decimals</dc:title>
</cp:coreProperties>
</file>