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DDA2-0264-429D-A898-AE4065F62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7408-5C5A-4CC3-B7D3-16BBE1FDB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117C-355B-4285-B0A8-356AAB611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4AD2-5A3F-4841-8831-C416698BC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FA29-3A64-4E3B-8BB0-AC507BD9D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9B71-CE3A-45DB-8B21-7ED2925F4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E422-0FC9-4413-99B5-F47588D92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A784-9B57-4836-A4FA-709F08115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D384-7255-4827-B741-AC6BC2377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3502-5BEB-4575-AF1A-8146545FA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BE02-698A-4BAC-9A4E-98943629C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185D-9C53-4074-B351-3BFA47BBC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13A7-8989-476C-A1D4-F81F0554E39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D16C-765C-4AAB-9C16-EE71F1BC44F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4ABF7-D196-4FDC-A992-DCC817A75B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EBA7-9291-4A3E-A1FD-B5E91F65810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7AE0-4DC8-4E36-8BE4-32C7E839FAB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3A68-F1B5-41DB-BBB1-42F95E8A2D8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33DE-0C04-465D-BA92-62A1200B05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55B78-FE79-4925-8804-A726D17D18B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DF4E-E7C7-45E0-9CF2-F4E2FC4B16DC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Ljlab</cp:lastModifiedBy>
  <cp:lastPrinted>2001-01-16T19:55:21Z</cp:lastPrinted>
  <dcterms:modified xsi:type="dcterms:W3CDTF">2007-07-17T21:20:53Z</dcterms:modified>
  <cp:revision>241</cp:revision>
  <dc:subject/>
  <dc:title>VTPP 423 - PHYSIOLOGY</dc:title>
</cp:coreProperties>
</file>