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472D-9993-4011-A58E-2B295FD8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2B9A-8193-45B4-97FC-4C05965B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3EE3-45EF-4510-995F-484C3CEAC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4 (A) Connect experiences and information through speaking and lis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5 (A) Adapt spoken language to the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5 (C) Write to inform such as to explain, describe, report, and nar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5 (E)  Select and use voice and style appropriate to audience and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5 (F)  Choose the appropriate form for the writing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6 (A–F), Writing / penmanship / capitalization / punctuation / sp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7 (H), Proofread own writing and that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8 (A), Generate ideas and plans for writing by using prewriting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C8F-EDA8-4F7F-B10B-EB4684B6C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marriage marriages newlyweds honey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3A3-53BF-4570-BF7A-8596C6481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questions the students might propose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How old am I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Where was I bo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at are my hobb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hat subjects do I like best in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at subjects do I like least in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Do I have brothers and sister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Do I have any pe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 like spor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4 (A), Connect experiences and information through speaking and list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5 (A), Adapt spoken language to the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8 (A), Generate ideas and plans for writing by using prewriting strate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A43F-BB7C-43F8-AADA-A3BD82A20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ure the letter begins with an appropriate greeting such as “Dear Dr. Patel,” and ends with a polite closing such as “Sincerel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e ideas logically within the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diting, check for spelling, punctuation, capitalization, and usage err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5 (C, E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Write to inform such as to explain, describe, report, and nar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 Select and use voice and style appropriate to audience and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 Choose the appropriate form for the writing purp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6  (A–F), Writing / penmanship / capitalization / punctuation / sp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.17 (H), Proofread own writing and that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dentity letter wri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D009-359A-4699-B500-B50157054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B, 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Draw on experiences to bring meanings to words in con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Determine meanings of derivatives by applying knowledge of the meanings of root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vocabulary word meanings challenge quiz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3ACB-93C9-4C5A-9D1B-5335EADF2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E55-0385-4FE9-A822-CF1F7AEE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822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520" y="3902040"/>
            <a:ext cx="822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6B9-5B9F-4073-BEDE-5609F9C2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96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9520" y="390204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960" y="390204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F8C0-F28A-4634-81C1-341E698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9800" y="175248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175248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520" y="390204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9800" y="390204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3902040"/>
            <a:ext cx="264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F8D-A84A-44A1-8424-8460F47D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9520" y="1752480"/>
            <a:ext cx="8223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F09-0ED1-45E5-B202-801FE2AD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822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D46-1FC2-4224-894B-4695CDA7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401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960" y="1752480"/>
            <a:ext cx="401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B27-913C-4989-9A72-80BC9B30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2B7-C297-4152-A6FC-ACBF3A0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0F9-89E8-479E-A791-AA755DAB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960" y="1752480"/>
            <a:ext cx="401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9520" y="390204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4FA-5330-45B4-B211-BB48276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401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96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960" y="390204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91E-22DB-4EA8-81A9-C301CD9E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960" y="1752480"/>
            <a:ext cx="4012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520" y="3902040"/>
            <a:ext cx="822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382-089A-4A1E-8E88-429D8DFA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9520" y="1752480"/>
            <a:ext cx="822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810A-37C8-49DC-A093-83A26DEB3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http://peer.tamu.edu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9520" y="1752480"/>
            <a:ext cx="822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different cultures and their views on meeting people and marri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list of questions that you would ask or answer when trying to get to know some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descriptive letter using multiple drafts and peer editin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to Know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onsider_01"/>
          <p:cNvPicPr/>
          <p:nvPr/>
        </p:nvPicPr>
        <p:blipFill>
          <a:blip r:embed="rId1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339840" y="1447920"/>
            <a:ext cx="84279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tional marriages in India were often arranged by the parents of the bride and g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the newlyweds were just getting to know each other as they departed for their honey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1071_068"/>
          <p:cNvPicPr/>
          <p:nvPr/>
        </p:nvPicPr>
        <p:blipFill>
          <a:blip r:embed="rId2"/>
          <a:stretch/>
        </p:blipFill>
        <p:spPr>
          <a:xfrm>
            <a:off x="2340000" y="3664080"/>
            <a:ext cx="4444920" cy="2984400"/>
          </a:xfrm>
          <a:prstGeom prst="rect">
            <a:avLst/>
          </a:prstGeom>
          <a:ln w="76320">
            <a:solidFill>
              <a:srgbClr val="547052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20760" y="1754280"/>
            <a:ext cx="435456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introducing yourself to someone new, what things might you want them to k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160" indent="-111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list of eight questions that you would answer as you describe yourself.  An example of a question you might answer is “Where do I live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1071_039"/>
          <p:cNvPicPr/>
          <p:nvPr/>
        </p:nvPicPr>
        <p:blipFill>
          <a:blip r:embed="rId1"/>
          <a:srcRect l="0" t="0" r="-56" b="-87"/>
          <a:stretch/>
        </p:blipFill>
        <p:spPr>
          <a:xfrm>
            <a:off x="4924440" y="1760400"/>
            <a:ext cx="3894120" cy="4314960"/>
          </a:xfrm>
          <a:prstGeom prst="rect">
            <a:avLst/>
          </a:prstGeom>
          <a:ln w="76320">
            <a:solidFill>
              <a:srgbClr val="547052"/>
            </a:solidFill>
            <a:miter/>
          </a:ln>
        </p:spPr>
      </p:pic>
      <p:sp>
        <p:nvSpPr>
          <p:cNvPr id="59" name="Text Box 4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85800" y="31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to Know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tting to Know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2171880"/>
            <a:ext cx="4168800" cy="36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ine that you are introducing yourself in writing to Dr. Pate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one page letter that provides her with a good idea of who you 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1071_049"/>
          <p:cNvPicPr/>
          <p:nvPr/>
        </p:nvPicPr>
        <p:blipFill>
          <a:blip r:embed="rId1"/>
          <a:srcRect l="0" t="0" r="46" b="0"/>
          <a:stretch/>
        </p:blipFill>
        <p:spPr>
          <a:xfrm>
            <a:off x="4848120" y="2195640"/>
            <a:ext cx="3733920" cy="3510000"/>
          </a:xfrm>
          <a:prstGeom prst="rect">
            <a:avLst/>
          </a:prstGeom>
          <a:ln w="76320">
            <a:solidFill>
              <a:srgbClr val="547052"/>
            </a:solidFill>
            <a:miter/>
          </a:ln>
        </p:spPr>
      </p:pic>
      <p:pic>
        <p:nvPicPr>
          <p:cNvPr id="64" name="Picture 5" descr="Imagine_01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3535"/>
                </a:solidFill>
                <a:latin typeface="Verdana"/>
              </a:rPr>
              <a:t>IN-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483000" y="6095880"/>
            <a:ext cx="56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here for help with let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47840" y="2068560"/>
            <a:ext cx="4376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see in this pictur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3232fa"/>
                </a:solidFill>
                <a:latin typeface="Times New Roman"/>
              </a:rPr>
              <a:t>contex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es to help you learn new vocabul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Vocabulary Challenge quiz to test your skill at finding word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071_078"/>
          <p:cNvPicPr/>
          <p:nvPr/>
        </p:nvPicPr>
        <p:blipFill>
          <a:blip r:embed="rId1"/>
          <a:stretch/>
        </p:blipFill>
        <p:spPr>
          <a:xfrm>
            <a:off x="5014800" y="1517760"/>
            <a:ext cx="3237120" cy="4884480"/>
          </a:xfrm>
          <a:prstGeom prst="rect">
            <a:avLst/>
          </a:prstGeom>
          <a:ln w="76320">
            <a:solidFill>
              <a:srgbClr val="547052"/>
            </a:solidFill>
            <a:miter/>
          </a:ln>
        </p:spPr>
      </p:pic>
      <p:pic>
        <p:nvPicPr>
          <p:cNvPr id="70" name="Picture 5" descr="Explain_01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b4d39"/>
                </a:solidFill>
                <a:latin typeface="Verdana"/>
              </a:rPr>
              <a:t>IN-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NIEHS"/>
          <p:cNvPicPr/>
          <p:nvPr/>
        </p:nvPicPr>
        <p:blipFill>
          <a:blip r:embed="rId1"/>
          <a:stretch/>
        </p:blipFill>
        <p:spPr>
          <a:xfrm>
            <a:off x="380880" y="1982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Peer"/>
          <p:cNvPicPr/>
          <p:nvPr/>
        </p:nvPicPr>
        <p:blipFill>
          <a:blip r:embed="rId2"/>
          <a:stretch/>
        </p:blipFill>
        <p:spPr>
          <a:xfrm>
            <a:off x="3808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ollegeofEdu"/>
          <p:cNvPicPr/>
          <p:nvPr/>
        </p:nvPicPr>
        <p:blipFill>
          <a:blip r:embed="rId3"/>
          <a:stretch/>
        </p:blipFill>
        <p:spPr>
          <a:xfrm>
            <a:off x="380880" y="503064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4760" y="2130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48160" y="2201760"/>
            <a:ext cx="259380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CERH"/>
          <p:cNvPicPr/>
          <p:nvPr/>
        </p:nvPicPr>
        <p:blipFill>
          <a:blip r:embed="rId4"/>
          <a:stretch/>
        </p:blipFill>
        <p:spPr>
          <a:xfrm>
            <a:off x="4724280" y="350676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New CVM logo_ any color"/>
          <p:cNvPicPr/>
          <p:nvPr/>
        </p:nvPicPr>
        <p:blipFill>
          <a:blip r:embed="rId5"/>
          <a:stretch/>
        </p:blipFill>
        <p:spPr>
          <a:xfrm>
            <a:off x="4724280" y="50259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0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4643280" y="1981080"/>
            <a:ext cx="1546560" cy="1371600"/>
            <a:chOff x="4643280" y="1981080"/>
            <a:chExt cx="1546560" cy="1371600"/>
          </a:xfrm>
        </p:grpSpPr>
        <p:sp>
          <p:nvSpPr>
            <p:cNvPr id="83" name="Rectangle 13"/>
            <p:cNvSpPr/>
            <p:nvPr/>
          </p:nvSpPr>
          <p:spPr>
            <a:xfrm>
              <a:off x="4724280" y="19810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4" name="Object 14"/>
            <p:cNvGraphicFramePr/>
            <p:nvPr/>
          </p:nvGraphicFramePr>
          <p:xfrm>
            <a:off x="4643280" y="2170080"/>
            <a:ext cx="1546560" cy="10126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5" name="Object 1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643280" y="21700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" name="Text Box 15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1:15:09Z</dcterms:created>
  <dc:creator>Vince Hardy</dc:creator>
  <dc:description/>
  <dc:language>en-US</dc:language>
  <cp:lastModifiedBy>Hannah</cp:lastModifiedBy>
  <dcterms:modified xsi:type="dcterms:W3CDTF">2009-03-02T18:57:23Z</dcterms:modified>
  <cp:revision>13</cp:revision>
  <dc:subject/>
  <dc:title>Slide 1</dc:title>
</cp:coreProperties>
</file>