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A8D2-A86F-46DB-AD5A-6DE51D0C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0F8-0549-43B8-AC09-41C63C1F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729-71B1-4867-8AEE-7CB83814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BE95-7E49-4BC0-8EBD-C9EC514C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E55-C8A2-4403-9FC1-A23E2F10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50B-0B5E-4F80-B84C-12B8D016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B06-92F2-4E7E-8463-27F6D90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384-85F9-4A85-883A-7CCF345A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850-412B-4DF3-B283-2C6E0B7B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FFBC-F790-42C7-B6A7-75675D7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D25-4E2A-4B60-8C22-2D101D35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D410-5513-463A-B352-27E2573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9456-BDFF-4655-A5C7-DD42FE3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5F95-6005-4AE6-BCE2-38EF2A4EC9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College of Veterinary Medicine</cp:lastModifiedBy>
  <dcterms:modified xsi:type="dcterms:W3CDTF">2007-11-19T18:43:30Z</dcterms:modified>
  <cp:revision>80</cp:revision>
  <dc:subject/>
  <dc:title>Investigator Challenge Quiz</dc:title>
</cp:coreProperties>
</file>