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3D2F-8C8A-4E05-8400-B02C1CCB9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BFE-94A2-4EBE-8E22-55352178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46B-1A9B-4E81-93A5-C51061BE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CA1-E045-478C-89D7-2399F818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B1E-5894-4675-ADDD-01574249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E88-55C5-47AD-B643-2E8310E7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07B-D2FC-4CDD-8014-A4971F5A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FE2-76F0-45E1-868E-EEDB1E69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FFC-8180-4E3E-95F3-EEA4F587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2B8-79D3-4425-B930-3CEF92F2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519-B5AF-4DF8-8291-99E3689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024-19EC-4212-9ECC-4A6276B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BD7-65FF-4932-8BDC-3B1543F2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6DFC-F56C-4EAD-8A1C-09C3C4639D0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College of Veterinary Medicine</cp:lastModifiedBy>
  <dcterms:modified xsi:type="dcterms:W3CDTF">2007-11-19T18:43:30Z</dcterms:modified>
  <cp:revision>80</cp:revision>
  <dc:subject/>
  <dc:title>Investigator Challenge Quiz</dc:title>
</cp:coreProperties>
</file>