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618E1-23A3-4FC6-B838-A30C977304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2E39-5E48-403D-A645-3D07EE028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13EA-7235-4F03-B854-BCE9E7A0F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FC1C-B07E-4FA7-89CD-A61A774C0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5F80-B597-4DAA-99DC-09232D637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8753-A449-4923-BBED-438F5CA5B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949F-3EAF-4629-BCD3-19B6E9CBF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83D5-9012-4883-BFF0-6CB9F69BA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68B3-C0BA-4901-9528-EB418E00E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DD6D-5C30-4E43-8B24-386A0B90D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08E6-486B-4AC3-B3F9-A9A2246BD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D4A2-B3C3-4741-A336-9E475ED00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7BB1-7265-4357-8145-8F2C7AD0D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17C54-F4A7-4ED6-A135-9C690D42F703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1016" t="1031" r="254" b="262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Vince Hardy</cp:lastModifiedBy>
  <dcterms:modified xsi:type="dcterms:W3CDTF">2007-01-12T21:47:12Z</dcterms:modified>
  <cp:revision>29</cp:revision>
  <dc:subject/>
  <dc:title>Descriptive Writing</dc:title>
</cp:coreProperties>
</file>