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B288D-E17F-4394-9D02-30411A5DDB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rder text: Append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E8C2-F956-4763-B670-B68467364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177C-E4AF-4A43-8191-8026B63C0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5ED3-1371-40F2-9E3E-5B4F09348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B363-0F35-41B3-8ED8-8A53F1F97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D9AE-EA33-4E6F-ADA7-85CDC49F6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1933-B8B0-4EE3-A085-BE16E8C62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A290-F841-4A12-AD32-43F4A40ED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D08B-93BA-43DF-9A67-4702674D6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1D8B-8F7B-4D89-B56C-A077001E2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879E-4F06-46B0-A00F-E9F320181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9EAF-882C-49BA-951D-9A5CCBFEA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EF0B-BCA0-48CC-8F8F-3AF38610C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6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B344D-2AAB-41A0-8272-2E2BA9135E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8002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time of day is it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is the landscap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kind of animals are thes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re do these animals naturally liv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you guess where this picture was taken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1143000"/>
            <a:ext cx="7696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observations can you make from looking at this picture?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" name="Africa%20344" descr="Africa"/>
          <p:cNvPicPr/>
          <p:nvPr/>
        </p:nvPicPr>
        <p:blipFill>
          <a:blip r:embed="rId2"/>
          <a:stretch/>
        </p:blipFill>
        <p:spPr>
          <a:xfrm>
            <a:off x="469800" y="2438280"/>
            <a:ext cx="3962520" cy="26384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ext is the information that surrounds a particular word or passage that helps determine the meaning of the word or passage.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examining the context of the previous picture, you were able to guess that the picture was probably taken in Africa.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questions might you ask yourself when assessing the context of a passage of text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47960" y="1727280"/>
            <a:ext cx="388620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is the author or speaker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is the reader or audience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the passage about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re does the action take place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n you identify emotions that are expressed in the text? 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</p:txBody>
      </p:sp>
      <p:pic>
        <p:nvPicPr>
          <p:cNvPr id="56" name="QuestionMark" descr=""/>
          <p:cNvPicPr/>
          <p:nvPr/>
        </p:nvPicPr>
        <p:blipFill>
          <a:blip r:embed="rId2"/>
          <a:stretch/>
        </p:blipFill>
        <p:spPr>
          <a:xfrm>
            <a:off x="762120" y="2044800"/>
            <a:ext cx="3325680" cy="32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04:03:32Z</dcterms:created>
  <dc:creator>Gina Balducci</dc:creator>
  <dc:description/>
  <dc:language>en-US</dc:language>
  <cp:lastModifiedBy>vhardy</cp:lastModifiedBy>
  <dcterms:modified xsi:type="dcterms:W3CDTF">2002-12-19T23:00:29Z</dcterms:modified>
  <cp:revision>16</cp:revision>
  <dc:subject/>
  <dc:title>Context Clues</dc:title>
</cp:coreProperties>
</file>