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FD96-B4D7-4A1A-B4F0-C64193BB9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4269-38FE-43B8-9497-03C20D3B9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CE8D-F2E1-448B-BEB0-F3537802F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BD3D-C4D5-477E-9729-7F8CF71C2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1D9AD-C31E-4DA2-9EBA-8F5FB5EF1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BD901-F1C0-4D93-A92A-5FC16ADB8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9E19E-9BCF-4E3A-A476-9B27EB737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02C8B-4A05-4299-A0B2-21DE5FDEF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4C46D-1D48-4892-B39A-57C573566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BE777-7913-4E6E-A89D-41B9B2097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F93BA-7E08-4DDB-A14E-8518CD944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051FB-9F2A-4FD5-9DAB-273BDFA8D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375CC-321B-443B-ABC0-27D5A88FC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2FD8-82A1-4A90-B2BA-0E416667B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73C17-ED24-4816-9189-419B461E3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08FD4-498D-476D-84BB-9C1BAE5AF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315E-D578-489A-9E7A-9FB9BF22BAA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040"/>
            <a:ext cx="7772400" cy="399708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bserving and reflecting on what other scientists have don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ne’s own careful and thoughtful observations (seeing what others do not se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05120"/>
            <a:ext cx="830592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ased on something you think you know</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logical conclusion (de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creative synthesis (in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hould be testable</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perimental design should predict certain results</a:t>
            </a:r>
            <a:endParaRPr b="0" lang="en-US" sz="3200" spc="-1" strike="noStrike">
              <a:solidFill>
                <a:srgbClr val="ebebeb"/>
              </a:solidFill>
              <a:latin typeface="Times New Roman"/>
            </a:endParaRPr>
          </a:p>
        </p:txBody>
      </p:sp>
      <p:sp>
        <p:nvSpPr>
          <p:cNvPr id="62" name=""/>
          <p:cNvSpPr/>
          <p:nvPr/>
        </p:nvSpPr>
        <p:spPr>
          <a:xfrm>
            <a:off x="533520" y="1600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ranges from an educated guess to an inspired ins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Ljlab</cp:lastModifiedBy>
  <dcterms:modified xsi:type="dcterms:W3CDTF">2007-07-17T21:22:56Z</dcterms:modified>
  <cp:revision>75</cp:revision>
  <dc:subject/>
  <dc:title>Science Appendix</dc:title>
</cp:coreProperties>
</file>