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13.wmf" ContentType="image/x-wmf"/>
  <Override PartName="/ppt/media/image10.jpeg" ContentType="image/jpeg"/>
  <Override PartName="/ppt/media/image9.png" ContentType="image/png"/>
  <Override PartName="/ppt/media/image8.wmf" ContentType="image/x-wmf"/>
  <Override PartName="/ppt/media/image11.png" ContentType="image/png"/>
  <Override PartName="/ppt/media/image19.png" ContentType="image/png"/>
  <Override PartName="/ppt/media/image17.jpeg" ContentType="image/jpeg"/>
  <Override PartName="/ppt/media/image16.png" ContentType="image/png"/>
  <Override PartName="/ppt/media/image14.jpeg" ContentType="image/jpeg"/>
  <Override PartName="/ppt/media/image1.jpeg" ContentType="image/jpeg"/>
  <Override PartName="/ppt/media/image15.jpeg" ContentType="image/jpeg"/>
  <Override PartName="/ppt/media/image3.wmf" ContentType="image/x-wmf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18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F1B14-AD92-47E3-947E-A23C96ABC8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04439-6AEF-4D70-B614-78BF6FBAF1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elcome 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This “NOTES” section contains teacher notes for each slide including a variety of inform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h as activity instructions, quiz answers, etc.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se notes identify the specific TEK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ddressed on each slid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 Identified TEKS in these notes are intended to be a guide to, no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ubstitute for, the full text of the TEK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To view in Slide Show mode, one must select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lide Show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nd th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View Show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on the PowerPoint pull down menu.  The ESC key will allow one to “escape” ou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the Slide Show vie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E3948-E67D-4F04-BE53-F4C55C1A7C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 up proble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cent of population infec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/200) = 0.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bability of exposure: 1/2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Jace has a one out of 200 chance of being exposed to hepatitis though an infected need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 Math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 (C), Solve ratios/rates using multiplication/division of whole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3 (A), Describe proportions using rati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3 (B) Represent ratios and percents with models, fractions, decimal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9 (B) Find the probabilities of a simple event and its compl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1 (A), Identify/apply mathematics to everyday experi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2 (A) Use appropriate operations to solve probl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2 (B) Add, subtract, multiply, and divide fractions and decimals to find answ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13 (A) Identify and apply mathematics to everyday experi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2 (A) Use appropriate operations to solve probl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2 (B) Add, subtract, multiply, and divide rational numbers in probl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14 (A) Identify and apply mathematics to everyday experi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WORDS: ratio ratios rate rates probability probabilities percent percent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D6286-5A4B-4E25-BF1D-BD8B48F722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tattoo: ¼ = 2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tattoo: 2/4 = ½ = 5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tattoo: 2/6 = 1/3 = 33.3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 Math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3 (B) Represent ratios and percents with models, fractions, decimal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2 (A) Communicate mathematical ideas using words, graphs, and mod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3 (B) Estimate and find solutions to application problems involving propor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14 (A) Communicate mathematical ideas through various me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3 (B) Find solutions to problems involving percents and r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15 (A) Communicate mathematical ideas using language, tools, and mod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3B6EE-1678-4C17-B471-4CDDCCBAEE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slide is a lead in to the activ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E4B7E-7AFA-4EB5-92EA-206D31F3B0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07944-47ED-4447-9C5E-301714432F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is presentation will cover the following TEKS: Mat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 (C) Integers in real-lif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 (B) Equivalent forms of number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 (C) Solve ratios/rates using multiplication/division of whole numb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3 (A) Describe proportions using rati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3 (B) Represent ratios and percents with models, fractions, decimal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5 Formulate equation from problem situ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B) Find the probabilities of a simple event and its com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 (B) Describe data using median, mode, and r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1 (A) Identify/apply mathematics to everyday experien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2 (A) Communicate mathematical ideas using words, graphs, and mode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2 (A) Use appropriate operations to solve proble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2 (B) Add, subtract, multiply, and divide fractions and decimals to find answ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3 (B) Estimate and find solutions to application problems involving propor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2 (A) Describe a set of data using mean, median, mode, and r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3 (A) Identify and apply mathematics to everyday experien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2 (A) Use appropriate operations to solve proble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2 (B) Add, subtract, multiply, and divide rational numbers in proble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3 (B) Find solutions to problems involving percents and r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14 (A) Identify and apply mathematics to everyday experien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15 (A) Communicate mathematical ideas using language, tools, and mode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79DD8-2E88-4970-B0CC-EFB548BAE8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 up exchange rate propor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USD/48.9INR = X/2445IN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X equals the amount of money in U.S. dollars for a tattoo of the Taj Mah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e for 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8.9 x X = 24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 = 2445/48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= 50 U.S. doll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 Math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 (C), Integers in real-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 (C), Solve ratios/rates using multiplication/division of whole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3 (A), Describe proportions using rati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5, Formulate equation from problem situ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1 (A), Identify/apply mathematics to everyday experi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2 (A) Use appropriate operations to solve probl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2 (B) Add, subtract, multiply, and divide fractions and decimals to find answ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13 (A) Identify and apply mathematics to everyday experi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2 (A) Use appropriate operations to solve probl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2 (B) Add, subtract, multiply, and divide rational numbers in probl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14 (A) Identify and apply mathematics to everyday experi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WORDS: ratio ratios rates proportions rupees us dollars exchange 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5D8FB-2D28-43AF-843D-071A361351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blem should be solved using the cost of the tattoo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$50 x 100 = 5,000 c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5,000 cent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x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1 m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1,401 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57 c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 Math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 (C), Integers in real-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5, Formulate equation from problem situ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1 (A), Identify/apply mathematics to everyday experi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2 (A) Use appropriate operations to solve probl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2 (B) Add, subtract, multiply, and divide fractions and decimals to find answ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13 (A) Identify and apply mathematics to everyday experi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2 (A) Use appropriate operations to solve probl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2 (B) Add, subtract, multiply, and divide rational numbers in probl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14 (A) Identify and apply mathematics to everyday experi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WORDS: ratio ratios rates propor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DBF55-4185-404C-83A8-1F710ECAD8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 up proble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y 50 kg by 1.4%.  (1.4%=. 01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0 kg x .014 = .7 kg 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your answer is still in kilograms it needs to be converted to grams.  Do this using a conversion of 1,000g = 1k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7kg x (1,000g/1kg) = 700 grams or 700 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is equation the kg cancel leaving you with the final answer in gra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Jace needs to donate 1,400 ml of plasma so he would not be able to safely donate enough plasma for his Taj Mahal souveni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 Math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 (C), Integers in real-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 (B), Equivalent forms of number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5, Formulate equation from problem situ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1 (A), Identify/apply mathematics to everyday experi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2 (A) Use appropriate operations to solve probl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2 (B) Add, subtract, multiply, and divide fractions and decimals to find answ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3 (A) Estimate and find solutions to application problems involving perc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13 (A) Identify and apply mathematics to everyday experi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2 (A) Use appropriate operations to solve probl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2 (B) Add, subtract, multiply, and divide rational numbers in probl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14 (A) Identify and apply mathematics to everyday experi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WORDS: ratio ratios rates proportions percent percents conversion conversions volume mass percent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DADB3-47E8-47A9-8561-8E931147F3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 up proble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gure the amount his friends can safely dona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nie: 36kg x .014 =  .504, 504 grams, or 504 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vis: 45kg x .014 = .63kg, 630 grams, or 630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an: 41kg x .014 = .574kg , 574 grams, or 574 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n = (504 + 630 + 574)/3 = 569.3 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dian = 5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 Math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 (C),  Integers in real-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 (B), Equivalent forms of number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5,  Formulate equation from problem situ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0 (B), Describe data using median, mode, and r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1 (A), Identify/apply mathematics to everyday experi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2 (A) Use appropriate operations to solve probl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2 (B) Add, subtract, multiply, and divide fractions and decimals to find answ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3 (B) Estimate and find solutions to application problems involving propor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12 (A) Describe a set of data using mean, median, mode, and r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2 (A) Use appropriate operations to solve probl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2 (B) Add, subtract, multiply, and divide rational numbers in probl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WORDS: percent mean median rang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F6E11-67DC-489F-ADD1-BB16E55532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vers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ml = 1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00g = 700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gure how many ounces are in 700m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00ml x (1oz/29.57) = 23.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vide the answer by 12oz to solve for the number of ca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3.67oz/12oz = 1.97c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ace can safely donate almost 2 full, 12 oz soda cans in plasm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 Math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 (B), Equivalent forms of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 (C), Integers in real-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5, Formulate equation from problem sit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1, Identify/apply mathematics to everyday experi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WORDS: volume conversions conver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4C0C3-FD5B-4B77-8F1F-EBB7954A3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2C905-F2F4-4B1E-B88E-7A36653C8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A0040-A0C3-4B43-9316-CB2119B03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B3896-46A1-4FDC-BB6F-409B6523C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89A36-8C2A-4D79-B927-341981DE6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DF015-C13E-43F8-8F35-1991A5034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FAC06-06EB-4EF2-9472-A0B847EBF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0A29F-4DFE-47C0-81EE-E96F28B36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4437A-9057-4E02-83AA-095B8294D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A4E81-B36D-4509-A70D-FDFFE4D9D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864B7-212B-4B69-8566-EF57A710F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3EF41-6A65-4C7E-831E-E0CE4091A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18960" indent="-3189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18960" indent="-3189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18960" indent="-3189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18960" indent="-3189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18960" indent="-3189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18960" indent="-3189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8216C-EB58-4973-B73E-E5E4144FBE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image" Target="../media/image17.jpeg"/><Relationship Id="rId5" Type="http://schemas.openxmlformats.org/officeDocument/2006/relationships/image" Target="../media/image18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9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mid"/>
          <p:cNvPicPr/>
          <p:nvPr/>
        </p:nvPicPr>
        <p:blipFill>
          <a:blip r:embed="rId1"/>
          <a:stretch/>
        </p:blipFill>
        <p:spPr>
          <a:xfrm>
            <a:off x="1219320" y="533520"/>
            <a:ext cx="6591240" cy="27525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609480" y="3718080"/>
            <a:ext cx="792504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grated Middle School Curricul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0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tnership for Environmental Education and Rural Health (PEER; http://peer.tamu.edu)                Texas A&amp;M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984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 a Serious No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3" descr="InSolve_01"/>
          <p:cNvPicPr/>
          <p:nvPr/>
        </p:nvPicPr>
        <p:blipFill>
          <a:blip r:embed="rId1"/>
          <a:stretch/>
        </p:blipFill>
        <p:spPr>
          <a:xfrm>
            <a:off x="0" y="0"/>
            <a:ext cx="21924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Text Box 4"/>
          <p:cNvSpPr/>
          <p:nvPr/>
        </p:nvSpPr>
        <p:spPr>
          <a:xfrm>
            <a:off x="620640" y="1397160"/>
            <a:ext cx="79027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India about 1 in 200 people are infected with hepatitis.  What percent of the population is infected with hepatitis?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would Jace’s probability of being exposed to hepatitis be, if he got a tattoo and the needle was not cleaned between him and the last custom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53535"/>
                </a:solidFill>
                <a:latin typeface="Verdana"/>
              </a:rPr>
              <a:t>IN-52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6" descr="MCj00787080000[1]"/>
          <p:cNvPicPr/>
          <p:nvPr/>
        </p:nvPicPr>
        <p:blipFill>
          <a:blip r:embed="rId2"/>
          <a:stretch/>
        </p:blipFill>
        <p:spPr>
          <a:xfrm>
            <a:off x="2584440" y="4527720"/>
            <a:ext cx="6362640" cy="2195280"/>
          </a:xfrm>
          <a:prstGeom prst="rect">
            <a:avLst/>
          </a:prstGeom>
          <a:ln w="0">
            <a:noFill/>
          </a:ln>
        </p:spPr>
      </p:pic>
      <p:sp>
        <p:nvSpPr>
          <p:cNvPr id="91" name="Text Box 7"/>
          <p:cNvSpPr/>
          <p:nvPr/>
        </p:nvSpPr>
        <p:spPr>
          <a:xfrm>
            <a:off x="923760" y="6195960"/>
            <a:ext cx="57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d out more information on ratios and probabiliti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685800" y="1924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tattoo shop in India had these 3 tattoos to offer.  What percent of each tattoo is covered by ink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Group 3"/>
          <p:cNvGrpSpPr/>
          <p:nvPr/>
        </p:nvGrpSpPr>
        <p:grpSpPr>
          <a:xfrm>
            <a:off x="363960" y="4123800"/>
            <a:ext cx="7433640" cy="2185560"/>
            <a:chOff x="363960" y="4123800"/>
            <a:chExt cx="7433640" cy="2185560"/>
          </a:xfrm>
        </p:grpSpPr>
        <p:grpSp>
          <p:nvGrpSpPr>
            <p:cNvPr id="94" name="Group 4"/>
            <p:cNvGrpSpPr/>
            <p:nvPr/>
          </p:nvGrpSpPr>
          <p:grpSpPr>
            <a:xfrm>
              <a:off x="3250800" y="4317840"/>
              <a:ext cx="4546800" cy="1599480"/>
              <a:chOff x="3250800" y="4317840"/>
              <a:chExt cx="4546800" cy="1599480"/>
            </a:xfrm>
          </p:grpSpPr>
          <p:sp>
            <p:nvSpPr>
              <p:cNvPr id="95" name="Rectangle 5"/>
              <p:cNvSpPr/>
              <p:nvPr/>
            </p:nvSpPr>
            <p:spPr>
              <a:xfrm>
                <a:off x="3251160" y="4424400"/>
                <a:ext cx="1585800" cy="1492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AutoShape 6"/>
              <p:cNvSpPr/>
              <p:nvPr/>
            </p:nvSpPr>
            <p:spPr>
              <a:xfrm>
                <a:off x="3251160" y="5170680"/>
                <a:ext cx="1585800" cy="746640"/>
              </a:xfrm>
              <a:prstGeom prst="triangle">
                <a:avLst>
                  <a:gd name="adj" fmla="val 50000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AutoShape 7"/>
              <p:cNvSpPr/>
              <p:nvPr/>
            </p:nvSpPr>
            <p:spPr>
              <a:xfrm rot="10800000">
                <a:off x="3250800" y="4424040"/>
                <a:ext cx="1585800" cy="746280"/>
              </a:xfrm>
              <a:prstGeom prst="triangle">
                <a:avLst>
                  <a:gd name="adj" fmla="val 50000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AutoShape 8"/>
              <p:cNvSpPr/>
              <p:nvPr/>
            </p:nvSpPr>
            <p:spPr>
              <a:xfrm>
                <a:off x="6105600" y="4317840"/>
                <a:ext cx="1691640" cy="1492920"/>
              </a:xfrm>
              <a:prstGeom prst="hexagon">
                <a:avLst>
                  <a:gd name="adj" fmla="val 28328"/>
                  <a:gd name="vf" fmla="val 11547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AutoShape 9"/>
              <p:cNvSpPr/>
              <p:nvPr/>
            </p:nvSpPr>
            <p:spPr>
              <a:xfrm>
                <a:off x="6105600" y="4317840"/>
                <a:ext cx="845640" cy="746640"/>
              </a:xfrm>
              <a:prstGeom prst="triangle">
                <a:avLst>
                  <a:gd name="adj" fmla="val 50000"/>
                </a:avLst>
              </a:prstGeom>
              <a:solidFill>
                <a:srgbClr val="cc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AutoShape 10"/>
              <p:cNvSpPr/>
              <p:nvPr/>
            </p:nvSpPr>
            <p:spPr>
              <a:xfrm>
                <a:off x="6951600" y="4317840"/>
                <a:ext cx="846000" cy="746640"/>
              </a:xfrm>
              <a:prstGeom prst="triangle">
                <a:avLst>
                  <a:gd name="adj" fmla="val 50000"/>
                </a:avLst>
              </a:prstGeom>
              <a:solidFill>
                <a:srgbClr val="cc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Line 11"/>
              <p:cNvSpPr/>
              <p:nvPr/>
            </p:nvSpPr>
            <p:spPr>
              <a:xfrm flipH="1">
                <a:off x="6528600" y="5064480"/>
                <a:ext cx="422280" cy="746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Line 12"/>
              <p:cNvSpPr/>
              <p:nvPr/>
            </p:nvSpPr>
            <p:spPr>
              <a:xfrm>
                <a:off x="6951600" y="5064480"/>
                <a:ext cx="423000" cy="746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" name="Group 13"/>
            <p:cNvGrpSpPr/>
            <p:nvPr/>
          </p:nvGrpSpPr>
          <p:grpSpPr>
            <a:xfrm>
              <a:off x="363960" y="4123800"/>
              <a:ext cx="2188800" cy="2185560"/>
              <a:chOff x="363960" y="4123800"/>
              <a:chExt cx="2188800" cy="2185560"/>
            </a:xfrm>
          </p:grpSpPr>
          <p:sp>
            <p:nvSpPr>
              <p:cNvPr id="104" name="Freeform 14"/>
              <p:cNvSpPr/>
              <p:nvPr/>
            </p:nvSpPr>
            <p:spPr>
              <a:xfrm rot="2333400">
                <a:off x="1626120" y="4744800"/>
                <a:ext cx="763920" cy="787320"/>
              </a:xfrm>
              <a:prstGeom prst="pie">
                <a:avLst/>
              </a:prstGeom>
              <a:solidFill>
                <a:srgbClr val="ff99cc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Freeform 15"/>
              <p:cNvSpPr/>
              <p:nvPr/>
            </p:nvSpPr>
            <p:spPr>
              <a:xfrm rot="2333400">
                <a:off x="689040" y="4429080"/>
                <a:ext cx="1528560" cy="1575000"/>
              </a:xfrm>
              <a:prstGeom prst="pie">
                <a:avLst/>
              </a:pr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Line 16"/>
              <p:cNvSpPr/>
              <p:nvPr/>
            </p:nvSpPr>
            <p:spPr>
              <a:xfrm flipV="1">
                <a:off x="1464120" y="4606200"/>
                <a:ext cx="496800" cy="6105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Line 17"/>
              <p:cNvSpPr/>
              <p:nvPr/>
            </p:nvSpPr>
            <p:spPr>
              <a:xfrm flipV="1">
                <a:off x="1464120" y="4606200"/>
                <a:ext cx="496800" cy="610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8" name="PlaceHolder 2"/>
          <p:cNvSpPr>
            <a:spLocks noGrp="1"/>
          </p:cNvSpPr>
          <p:nvPr>
            <p:ph type="title"/>
          </p:nvPr>
        </p:nvSpPr>
        <p:spPr>
          <a:xfrm>
            <a:off x="6984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attoos in Ind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958680" y="1981080"/>
            <a:ext cx="7229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 you think it would be safe to get a tattoo in Indi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’s do an activity, and think about getting a tattoo by doing some math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6984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etting a Tattoo in Ind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NIEHS"/>
          <p:cNvPicPr/>
          <p:nvPr/>
        </p:nvPicPr>
        <p:blipFill>
          <a:blip r:embed="rId1"/>
          <a:stretch/>
        </p:blipFill>
        <p:spPr>
          <a:xfrm>
            <a:off x="380880" y="198288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3" descr="Peer"/>
          <p:cNvPicPr/>
          <p:nvPr/>
        </p:nvPicPr>
        <p:blipFill>
          <a:blip r:embed="rId2"/>
          <a:stretch/>
        </p:blipFill>
        <p:spPr>
          <a:xfrm>
            <a:off x="380880" y="3506760"/>
            <a:ext cx="1371600" cy="13827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4" descr="CollegeofEdu"/>
          <p:cNvPicPr/>
          <p:nvPr/>
        </p:nvPicPr>
        <p:blipFill>
          <a:blip r:embed="rId3"/>
          <a:stretch/>
        </p:blipFill>
        <p:spPr>
          <a:xfrm>
            <a:off x="380880" y="5030640"/>
            <a:ext cx="1359000" cy="137160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7800" y="944280"/>
            <a:ext cx="8469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product is available through the cooperation of the following: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904760" y="2130480"/>
            <a:ext cx="2514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tional Institute of Environmental Health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ien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tnership for Environmental Education and Rural Heal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llege of Education, Texas A&amp;M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6248160" y="2152440"/>
            <a:ext cx="2593800" cy="46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artment of Agricultural Education, Texas A&amp;M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enter for Environmental and Rural Heal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llege of Veterinary Medicine, Texas A&amp;M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8" descr="CERH"/>
          <p:cNvPicPr/>
          <p:nvPr/>
        </p:nvPicPr>
        <p:blipFill>
          <a:blip r:embed="rId4"/>
          <a:stretch/>
        </p:blipFill>
        <p:spPr>
          <a:xfrm>
            <a:off x="4724280" y="3506760"/>
            <a:ext cx="1371600" cy="13827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9" descr="New CVM logo_ any color"/>
          <p:cNvPicPr/>
          <p:nvPr/>
        </p:nvPicPr>
        <p:blipFill>
          <a:blip r:embed="rId5"/>
          <a:stretch/>
        </p:blipFill>
        <p:spPr>
          <a:xfrm>
            <a:off x="4724280" y="502596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10"/>
          <p:cNvSpPr/>
          <p:nvPr/>
        </p:nvSpPr>
        <p:spPr>
          <a:xfrm>
            <a:off x="609480" y="4419720"/>
            <a:ext cx="2514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11"/>
          <p:cNvSpPr/>
          <p:nvPr/>
        </p:nvSpPr>
        <p:spPr>
          <a:xfrm>
            <a:off x="6027840" y="1805040"/>
            <a:ext cx="2862000" cy="26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Group 12"/>
          <p:cNvGrpSpPr/>
          <p:nvPr/>
        </p:nvGrpSpPr>
        <p:grpSpPr>
          <a:xfrm>
            <a:off x="4643280" y="1981080"/>
            <a:ext cx="1546560" cy="1371600"/>
            <a:chOff x="4643280" y="1981080"/>
            <a:chExt cx="1546560" cy="1371600"/>
          </a:xfrm>
        </p:grpSpPr>
        <p:sp>
          <p:nvSpPr>
            <p:cNvPr id="122" name="Rectangle 13"/>
            <p:cNvSpPr/>
            <p:nvPr/>
          </p:nvSpPr>
          <p:spPr>
            <a:xfrm>
              <a:off x="4724280" y="1981080"/>
              <a:ext cx="1371600" cy="1371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23" name="Object 14"/>
            <p:cNvGraphicFramePr/>
            <p:nvPr/>
          </p:nvGraphicFramePr>
          <p:xfrm>
            <a:off x="4643280" y="2170080"/>
            <a:ext cx="1546560" cy="101268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124" name="Object 14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4643280" y="2170080"/>
                      <a:ext cx="1546560" cy="1012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25" name="Text Box 15"/>
          <p:cNvSpPr/>
          <p:nvPr/>
        </p:nvSpPr>
        <p:spPr>
          <a:xfrm>
            <a:off x="304920" y="304920"/>
            <a:ext cx="845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achers, please click on this link to complete a short survey concerning this module: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http://peer.tamu.edu/forms/Curricula_Survey.shtml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actice using ratios for exchange ra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ine percents and probabilit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view or learn graphing on the positive coordinate plan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the S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14240" y="1979640"/>
            <a:ext cx="7772400" cy="433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 the kids were walking through the alley in India with Dr. Patel, they saw a tattoo shop containing a man who was getting a tatto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r. Patel noticed that the man had yellow eyes, and told the kids it was probably due to a disease called hepatiti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uld tattoos and hepatitis be connected?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4" descr="MCj03980930000[1]"/>
          <p:cNvPicPr/>
          <p:nvPr/>
        </p:nvPicPr>
        <p:blipFill>
          <a:blip r:embed="rId1"/>
          <a:stretch/>
        </p:blipFill>
        <p:spPr>
          <a:xfrm>
            <a:off x="7621560" y="237960"/>
            <a:ext cx="1176480" cy="1468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507440" cy="79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.S. Dollars to Rupe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7924680" cy="339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ace is thinking about getting a tattoo of the Taj Mahal as a souvenir for the tri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tattoo of the Taj Mahal costs 2445 Indian rupees.  The exchange rate between U.S. dollars and Indian rupees is: 1 USD (US dollars) = 48.9 INR (Indian rupee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much will Jace’s souvenir tattoo cost in U.S. dollar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4" descr="InConvert_01"/>
          <p:cNvPicPr/>
          <p:nvPr/>
        </p:nvPicPr>
        <p:blipFill>
          <a:blip r:embed="rId1"/>
          <a:stretch/>
        </p:blipFill>
        <p:spPr>
          <a:xfrm>
            <a:off x="0" y="0"/>
            <a:ext cx="219240" cy="68580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5" descr="rupees2"/>
          <p:cNvPicPr/>
          <p:nvPr/>
        </p:nvPicPr>
        <p:blipFill>
          <a:blip r:embed="rId2"/>
          <a:stretch/>
        </p:blipFill>
        <p:spPr>
          <a:xfrm>
            <a:off x="2359080" y="4657680"/>
            <a:ext cx="4646520" cy="1997280"/>
          </a:xfrm>
          <a:prstGeom prst="rect">
            <a:avLst/>
          </a:prstGeom>
          <a:ln w="88920">
            <a:solidFill>
              <a:srgbClr val="547052"/>
            </a:solidFill>
            <a:miter/>
          </a:ln>
        </p:spPr>
      </p:pic>
      <p:sp>
        <p:nvSpPr>
          <p:cNvPr id="59" name="Text Box 6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53535"/>
                </a:solidFill>
                <a:latin typeface="Verdana"/>
              </a:rPr>
              <a:t>IN-47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37800" y="744120"/>
            <a:ext cx="7342200" cy="93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orking Hard for my Mone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14060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ce can earn 3.57 cents per 1 ml of his plasma he donates.  How much plasma would Jace need to donate to pay for his Taj Mahal tattoo?  (Round to the nearest hundred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898560" y="1716120"/>
            <a:ext cx="6416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5" descr="Plasma"/>
          <p:cNvPicPr/>
          <p:nvPr/>
        </p:nvPicPr>
        <p:blipFill>
          <a:blip r:embed="rId1"/>
          <a:stretch/>
        </p:blipFill>
        <p:spPr>
          <a:xfrm>
            <a:off x="2330280" y="4208400"/>
            <a:ext cx="4658040" cy="24098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6" descr="InSolve_01"/>
          <p:cNvPicPr/>
          <p:nvPr/>
        </p:nvPicPr>
        <p:blipFill>
          <a:blip r:embed="rId2"/>
          <a:stretch/>
        </p:blipFill>
        <p:spPr>
          <a:xfrm>
            <a:off x="0" y="0"/>
            <a:ext cx="21924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Text Box 7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53535"/>
                </a:solidFill>
                <a:latin typeface="Verdana"/>
              </a:rPr>
              <a:t>IN-48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sma Don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3" descr="InSolve_01"/>
          <p:cNvPicPr/>
          <p:nvPr/>
        </p:nvPicPr>
        <p:blipFill>
          <a:blip r:embed="rId1"/>
          <a:stretch/>
        </p:blipFill>
        <p:spPr>
          <a:xfrm>
            <a:off x="0" y="0"/>
            <a:ext cx="21924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Text Box 4"/>
          <p:cNvSpPr/>
          <p:nvPr/>
        </p:nvSpPr>
        <p:spPr>
          <a:xfrm>
            <a:off x="609480" y="1752480"/>
            <a:ext cx="7966080" cy="441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is safe for a person to donate 1.4% of their total body mass in plasma per week.  If Jace has a mass of 50 kg and 1 ml of plasma has a mass of 1 gram, how much plasma could he donate in one week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it possible for Jace to earn enough money from donating plasma to purchase the Taj Mahal tattoo if he only stays in India for one da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d more information on percents and convers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5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53535"/>
                </a:solidFill>
                <a:latin typeface="Verdana"/>
              </a:rPr>
              <a:t>IN-49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6" descr="MCj04080080000[1]"/>
          <p:cNvPicPr/>
          <p:nvPr/>
        </p:nvPicPr>
        <p:blipFill>
          <a:blip r:embed="rId2"/>
          <a:stretch/>
        </p:blipFill>
        <p:spPr>
          <a:xfrm>
            <a:off x="6073920" y="4444920"/>
            <a:ext cx="3006720" cy="2874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113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are friends fo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79000" y="1066320"/>
            <a:ext cx="777564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18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Jace’s friends decided to donate plasma as well, how much could each safely donat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4" descr="InSolve_01"/>
          <p:cNvPicPr/>
          <p:nvPr/>
        </p:nvPicPr>
        <p:blipFill>
          <a:blip r:embed="rId1"/>
          <a:stretch/>
        </p:blipFill>
        <p:spPr>
          <a:xfrm>
            <a:off x="0" y="0"/>
            <a:ext cx="219240" cy="68580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5" descr="Kids Sitting"/>
          <p:cNvPicPr/>
          <p:nvPr/>
        </p:nvPicPr>
        <p:blipFill>
          <a:blip r:embed="rId2"/>
          <a:stretch/>
        </p:blipFill>
        <p:spPr>
          <a:xfrm>
            <a:off x="7331040" y="617400"/>
            <a:ext cx="1600200" cy="1509840"/>
          </a:xfrm>
          <a:prstGeom prst="rect">
            <a:avLst/>
          </a:prstGeom>
          <a:ln w="0">
            <a:noFill/>
          </a:ln>
        </p:spPr>
      </p:pic>
      <p:sp>
        <p:nvSpPr>
          <p:cNvPr id="75" name="Text Box 6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53535"/>
                </a:solidFill>
                <a:latin typeface="Verdana"/>
              </a:rPr>
              <a:t>IN-5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1143000" y="2743200"/>
          <a:ext cx="6858000" cy="2414520"/>
        </p:xfrm>
        <a:graphic>
          <a:graphicData uri="http://schemas.openxmlformats.org/drawingml/2006/table">
            <a:tbl>
              <a:tblPr/>
              <a:tblGrid>
                <a:gridCol w="2286000"/>
                <a:gridCol w="2286000"/>
                <a:gridCol w="2286000"/>
              </a:tblGrid>
              <a:tr h="86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ss (kg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ount Can Donate (mL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ni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 k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avi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 k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om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1 k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7" name="Rectangle 29"/>
          <p:cNvSpPr/>
          <p:nvPr/>
        </p:nvSpPr>
        <p:spPr>
          <a:xfrm>
            <a:off x="303120" y="5486400"/>
            <a:ext cx="8156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1880" indent="-4618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would be the mean and median of the amount these three can donat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lling up with Plas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741240" y="2306520"/>
            <a:ext cx="4507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many of your favorite 12 oz soda cans could Jace’s plasma fill? 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1 oz = 29.57 ml)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Picture 4" descr="InSolve_01"/>
          <p:cNvPicPr/>
          <p:nvPr/>
        </p:nvPicPr>
        <p:blipFill>
          <a:blip r:embed="rId1"/>
          <a:stretch/>
        </p:blipFill>
        <p:spPr>
          <a:xfrm>
            <a:off x="0" y="0"/>
            <a:ext cx="219240" cy="6858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5" descr="Soda Can 03"/>
          <p:cNvPicPr/>
          <p:nvPr/>
        </p:nvPicPr>
        <p:blipFill>
          <a:blip r:embed="rId2"/>
          <a:stretch/>
        </p:blipFill>
        <p:spPr>
          <a:xfrm>
            <a:off x="5791320" y="1981080"/>
            <a:ext cx="1977840" cy="3921120"/>
          </a:xfrm>
          <a:prstGeom prst="rect">
            <a:avLst/>
          </a:prstGeom>
          <a:ln w="0">
            <a:noFill/>
          </a:ln>
        </p:spPr>
      </p:pic>
      <p:sp>
        <p:nvSpPr>
          <p:cNvPr id="82" name="Text Box 6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b4d39"/>
                </a:solidFill>
                <a:latin typeface="Verdana"/>
              </a:rPr>
              <a:t>IN-5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393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attoos and Hepatit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73200" y="1511280"/>
            <a:ext cx="7772400" cy="481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patitis is a dangerous disease where a person’s liver becomes inflamed due to a virus or toxi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 types hepatitis can be transmitted through needles that have infected blood on them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til recently, many tattoo parlors would commonly reuse needles, and cases of both AIDS and hepatitis have been traced to them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4" descr="MCj02375950000[1]"/>
          <p:cNvPicPr/>
          <p:nvPr/>
        </p:nvPicPr>
        <p:blipFill>
          <a:blip r:embed="rId1"/>
          <a:stretch/>
        </p:blipFill>
        <p:spPr>
          <a:xfrm>
            <a:off x="7248600" y="220680"/>
            <a:ext cx="1530360" cy="1293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2T04:43:42Z</dcterms:created>
  <dc:creator>Vince Hardy</dc:creator>
  <dc:description/>
  <dc:language>en-US</dc:language>
  <cp:lastModifiedBy>Hannah</cp:lastModifiedBy>
  <dcterms:modified xsi:type="dcterms:W3CDTF">2009-03-08T00:58:34Z</dcterms:modified>
  <cp:revision>17</cp:revision>
  <dc:subject/>
  <dc:title>Slide 1</dc:title>
</cp:coreProperties>
</file>