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E87-0382-4FFF-B1E4-B0079722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73D-E04D-4575-B3EB-57BCA119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2F02-4DE0-4659-9469-933630BC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will cover the following 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Generate equivalent forms of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 Use ratios to make predictions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Sketch circle graphs to display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Evaluate the effectiveness of different representations to prese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B) Evaluate the effectiveness of different representations to commun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C8B6-7CD0-49DA-9B73-BA8498EA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would be 3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India would be estimated to be around 9,631,400 sq. km / 3 = 3,210,467 sq km, or about 3,200,000 sq. k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ctual area of India is  3,287,600 sq. k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rea percent percents percentages decimals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Use ratios to make prediction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1B5-2751-4A7A-BFBB-C7AC4BFF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 - 56% - 23% = 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Sketch circle graphs to displa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B) Evaluate the effectiveness of different representations to presen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B) Evaluate the effectiveness of different representations to commun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147-737E-4AC9-9B41-81F13BD3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’s total land mass was estimated to be around 3,200,000 sq. km.  You can grow food on 56% of this land, so around 1,792,000 sq km could be used to grow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5)*(1,000,000,000) = 200,000,000 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2FE1-3D18-4B6F-B7A0-5BA3E4DA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a lead in to the Activity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054-85EA-4BFF-8AF4-01D3A2E6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02A-EABC-4D8D-8F1C-4D52D3A9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610-60B5-4605-8873-A5D7C7F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F84-F801-41C6-A11F-3B570B22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3C6-8539-4047-A174-40199F1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D66-B33B-46A5-8C23-EF50B59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384-5013-466F-BA9D-46AF5654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1F1-9FB5-4E43-B1B6-B58048FE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BBF-146E-40DC-988C-81F73A2F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EB4-3E10-4773-BE93-1996AE7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629-39BE-4E71-8F9B-3CEB049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744-E45D-45BB-A0C2-EC6E0B3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429-6010-456F-B098-84D2754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824-528F-4F7C-87D5-7BF0DAE2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Appendices/PerDec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9800" y="3718080"/>
            <a:ext cx="8204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232fa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culture and economy of India using ratios and perc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ximizing area with a given peri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70040" y="5508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andmass-USA2"/>
          <p:cNvPicPr/>
          <p:nvPr/>
        </p:nvPicPr>
        <p:blipFill>
          <a:blip r:embed="rId1"/>
          <a:srcRect l="0" t="0" r="3123" b="4309"/>
          <a:stretch/>
        </p:blipFill>
        <p:spPr>
          <a:xfrm>
            <a:off x="4226040" y="2070000"/>
            <a:ext cx="4449600" cy="2868840"/>
          </a:xfrm>
          <a:prstGeom prst="rect">
            <a:avLst/>
          </a:prstGeom>
          <a:ln w="76320">
            <a:solidFill>
              <a:srgbClr val="547052"/>
            </a:solidFill>
            <a:miter/>
          </a:ln>
        </p:spPr>
      </p:pic>
      <p:pic>
        <p:nvPicPr>
          <p:cNvPr id="53" name="Object 3" descr=""/>
          <p:cNvPicPr/>
          <p:nvPr/>
        </p:nvPicPr>
        <p:blipFill>
          <a:blip r:embed="rId2"/>
          <a:stretch/>
        </p:blipFill>
        <p:spPr>
          <a:xfrm>
            <a:off x="5589720" y="2201760"/>
            <a:ext cx="2349360" cy="2651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47760" y="1614600"/>
            <a:ext cx="381312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ia is about one-third as large as the United Sta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would be the ratio of the landmass of U.S. to the landmass of India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 U.S. has a total landmass of about 9,631,400 sq. km, approximately how large is India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70040" y="5508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’s Landma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22360" y="5189400"/>
            <a:ext cx="801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nSolve_01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.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8522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56% of India’s land is fit for cultivation, while roughly 23% is woodland or for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land is not fit or not available for cultivation.  What percent of the land would this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draw a rough pie chart showing this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MCj01010540000[1]"/>
          <p:cNvPicPr/>
          <p:nvPr/>
        </p:nvPicPr>
        <p:blipFill>
          <a:blip r:embed="rId1"/>
          <a:stretch/>
        </p:blipFill>
        <p:spPr>
          <a:xfrm>
            <a:off x="7238880" y="380880"/>
            <a:ext cx="1363680" cy="1382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770040" y="5508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d Use in Ind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information from the previous slide, approximately how many square kilometers of India’s land could potentially be used to grow f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ago there was widespread famine in India.  However, India has undergone a “Green Revolution” and has become a great success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's food-grains production has been around a fifth of a billion tons in recent years.  Write down how many tons this w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MCj02461770000[1]"/>
          <p:cNvPicPr/>
          <p:nvPr/>
        </p:nvPicPr>
        <p:blipFill>
          <a:blip r:embed="rId1"/>
          <a:stretch/>
        </p:blipFill>
        <p:spPr>
          <a:xfrm>
            <a:off x="7238880" y="304920"/>
            <a:ext cx="101304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327480" y="6245280"/>
            <a:ext cx="5587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out more about </a:t>
            </a:r>
            <a:r>
              <a:rPr b="0" lang="en-US" sz="2400" spc="-1" strike="noStrike" u="sng">
                <a:solidFill>
                  <a:srgbClr val="3232fa"/>
                </a:solidFill>
                <a:uFillTx/>
                <a:latin typeface="Times New Roman"/>
                <a:hlinkClick r:id="rId2"/>
              </a:rPr>
              <a:t>percents and decim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70040" y="5508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 Growth in Ind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517320"/>
            <a:ext cx="59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680" y="1712880"/>
            <a:ext cx="77724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 it would be lik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farmer in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s of crops would you grow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hat kinds of fields would you grow them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you make a good profit from these cro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xperiment in groups and do some math to find 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MCj03317170000[1]"/>
          <p:cNvPicPr/>
          <p:nvPr/>
        </p:nvPicPr>
        <p:blipFill>
          <a:blip r:embed="rId1"/>
          <a:stretch/>
        </p:blipFill>
        <p:spPr>
          <a:xfrm>
            <a:off x="6775560" y="630360"/>
            <a:ext cx="2058840" cy="26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206 L 0.77899 0.73055 E">
                                      <p:cBhvr>
                                        <p:cTn id="96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48160" y="2230200"/>
            <a:ext cx="25938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80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232fa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44:24Z</dcterms:modified>
  <cp:revision>14</cp:revision>
  <dc:subject/>
  <dc:title>Slide 1</dc:title>
</cp:coreProperties>
</file>