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DFF4D-FEF7-48B0-8603-EE87DD7905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75AA1-5219-4213-BE85-D0F360D01C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0D091-2D34-40A2-9AF8-3AD74D7B2E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617B8-BC4D-47B0-823D-C936FEDDAD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0834A-E66C-4962-8D42-DB815F5182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D8A51-DF9A-4085-815E-50458D765F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315C0-9114-4D50-94E0-55E393C48D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3BF57-2C57-474E-ABBD-9FFE6DFD8C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51366-0905-46CC-8242-08A4F10D4C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38A8E-0215-45E4-B3F1-A480A80804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F52BA-0423-4F91-9F32-497FCF00AC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7267A-5648-409C-A016-C13418FF12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9E6BA-379B-464E-821C-D3144985FE6C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C56DA-BC68-4F1E-8BEB-BB42F27463A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6FC99-6280-4E17-845A-E4056D71026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AD72F-FA0C-4029-94AD-8DEEB995B69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41E68-A34C-47BD-ACD8-745DB56EE34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7C64E-D3B8-421E-9D26-A41664CDBEC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34E66-8F3D-4461-A081-F92DADCDD64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50226-7335-4367-AB2D-C33089A6861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66023-5A44-48E6-89CA-BA578127664E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Ljlab</cp:lastModifiedBy>
  <cp:lastPrinted>2001-01-16T19:55:21Z</cp:lastPrinted>
  <dcterms:modified xsi:type="dcterms:W3CDTF">2007-07-17T21:20:53Z</dcterms:modified>
  <cp:revision>241</cp:revision>
  <dc:subject/>
  <dc:title>VTPP 423 - PHYSIOLOGY</dc:title>
</cp:coreProperties>
</file>