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8F1-C480-4BF0-88AD-B3A210AA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CEC6-F2B2-47DF-AF9D-30FDA830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F43-62FF-4639-B8C9-848FB7FA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B40-57E2-4900-9F4D-86DC5C7E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covers the following TEKS: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Solve ratios/rates using multiplication/division of whole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B83-1BBF-4525-B0D1-4DEE58BA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the total number of people who could be seated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5) + 3(2) + 5 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x (2/3)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B570-AD0B-4D23-9AC0-62D1068F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problem in parts then add to get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10 m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 x (1 hour/ 60 min) x (5 kilometers/ 1 hour) = .8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ds did not move at all the next four minutes but we use this time in calculating the time spent traveling the last part of the al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– 10 – 4 = 6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in x (1 hour/ 60 min.) x (3 kilometers/ 1 hour) =.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two distances together for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83 + .3 = 1.1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y was 1.13 km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38CB-79C6-465B-AA4E-4F07B84E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amount of water by the concentration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ml x (1,000,000 bacteria/1ml) = 2,000,000,000 bacteria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ratio ratios rat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AA9-0486-4CBE-9178-3B071DCE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the problem bye setting up a propor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/x=40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total number of animals by cross multiplication and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chickens * 100 = 40 * x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6000/4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number of camels multiply 150 by .1 or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x .1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cam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ie chart represents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fraction fractions proportion proportions percent percents percentages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EC65-19F3-46F8-84ED-F00BBAB1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hexagon is a regular polygon, all of its sides must be of equal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ravis traveled a total of (0.3 miles) x 3 = .9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minutes to hou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min x (1hour/ 60min) = .25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ime by the average 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25hour x (8 km/1hour) = 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 walked 2 k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, Convert measures within the same measur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t measures rate rates ratio ratios proportion proportions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29A-32F1-431B-B712-BB293A1A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ead-in slide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86E-22C5-408B-9A7D-B4AA7ABA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77A-9304-43C8-81D2-6F2A917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C10-8047-40BD-9D5F-F80D83B8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E56-5ECE-4165-8661-0528996F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BA1-DEFA-4465-A933-A881E85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4E3-F8BD-4207-95BD-326FF7B0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15F-3377-4C29-9D14-E9A9FF5D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D25-5DAF-48EE-927D-2D64E03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B51-3A3E-400C-A692-706F9548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3BD-B851-4447-90DB-4FD8998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649-8B3E-4D57-83E6-5A881BE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D08-9025-4570-BE63-FFDADB38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027-BDAB-4E59-A1AE-0ED5FA31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PerDec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232fa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48160" y="191448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4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232fa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ates using distances and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percents and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ory, once the BPC members are transported to the Taj Mahal, they travel through an alley near Shahjahan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ead towards a bus station, where they plan to wait for Travis to rescu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has to first travel home to get his BPC, and then must locate his friends so he can transport to them in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383160" y="223920"/>
            <a:ext cx="2482560" cy="1634760"/>
            <a:chOff x="6383160" y="223920"/>
            <a:chExt cx="2482560" cy="1634760"/>
          </a:xfrm>
        </p:grpSpPr>
        <p:sp>
          <p:nvSpPr>
            <p:cNvPr id="55" name="Freeform 5"/>
            <p:cNvSpPr/>
            <p:nvPr/>
          </p:nvSpPr>
          <p:spPr>
            <a:xfrm>
              <a:off x="7670160" y="223920"/>
              <a:ext cx="1050480" cy="747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6740280" y="1186920"/>
              <a:ext cx="301680" cy="87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8245440" y="868680"/>
              <a:ext cx="125640" cy="108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6383160" y="964800"/>
              <a:ext cx="2482560" cy="8200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8229600" y="1062720"/>
              <a:ext cx="89280" cy="142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6546240" y="791280"/>
              <a:ext cx="630000" cy="1425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194960" y="89136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499160" y="875160"/>
              <a:ext cx="11844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347240" y="82188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008480" y="97272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6814080" y="94644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6853680" y="709200"/>
              <a:ext cx="81000" cy="97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6766560" y="711720"/>
              <a:ext cx="63000" cy="939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7000560" y="736200"/>
              <a:ext cx="44640" cy="83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7084800" y="783000"/>
              <a:ext cx="49680" cy="712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6640200" y="746280"/>
              <a:ext cx="52920" cy="65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7331400" y="1009800"/>
              <a:ext cx="312480" cy="2973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6766560" y="1037880"/>
              <a:ext cx="567360" cy="303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6937560" y="1677240"/>
              <a:ext cx="1002960" cy="1814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5400" y="580680"/>
            <a:ext cx="660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Get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inpcrch11"/>
          <p:cNvPicPr/>
          <p:nvPr/>
        </p:nvPicPr>
        <p:blipFill>
          <a:blip r:embed="rId1"/>
          <a:stretch/>
        </p:blipFill>
        <p:spPr>
          <a:xfrm>
            <a:off x="4756320" y="3484440"/>
            <a:ext cx="4103640" cy="2384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520560" y="1754280"/>
            <a:ext cx="804240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he kids arrived in front of the Taj Mahal, a police officer told them to catch a bus back to their hot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bus had 5 benches that held 2 people each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benches that held 3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back seat that held 5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had additional stand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om for 2/3 the amount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otal number seated.  </a:t>
            </a:r>
            <a:br>
              <a:rPr sz="26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many people are 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to stand on the b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nvestigate_01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ll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27"/>
          <p:cNvPicPr/>
          <p:nvPr/>
        </p:nvPicPr>
        <p:blipFill>
          <a:blip r:embed="rId1"/>
          <a:srcRect l="0" t="0" r="3783" b="0"/>
          <a:stretch/>
        </p:blipFill>
        <p:spPr>
          <a:xfrm>
            <a:off x="6072120" y="2273400"/>
            <a:ext cx="2685960" cy="3698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1" name="Text Box 4"/>
          <p:cNvSpPr/>
          <p:nvPr/>
        </p:nvSpPr>
        <p:spPr>
          <a:xfrm>
            <a:off x="338040" y="1262160"/>
            <a:ext cx="563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ook the kids 20 minutes to travel through the notorious alley to the bus stop.  Find the length of the alley if  th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traveled at a speed of 5 kilometers per hour for the first 10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stopped to talk to their doctor friend for 4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continued through the alley at a speed of 3 kilometers per hour until they reached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u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Connie was walking down the alley, about 2,000 mls of water splattered next to her feet from a pipe in the wall.  What she did not want to know was that the water contained human waste that had a concentration of 1 million pathogenic bacteria per milliliter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athogenic bacteria were in the water that splattered next to Connie’s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ater Splash"/>
          <p:cNvPicPr/>
          <p:nvPr/>
        </p:nvPicPr>
        <p:blipFill>
          <a:blip r:embed="rId2"/>
          <a:stretch/>
        </p:blipFill>
        <p:spPr>
          <a:xfrm>
            <a:off x="2884320" y="4213080"/>
            <a:ext cx="3440160" cy="2264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0720" y="1333440"/>
            <a:ext cx="822168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kids were walking down the alley, Summer counted the number of animals.  She counted 60 chickens, which accounted for 40% of the total number of animals in the alley. What was the total number of animals counted by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mels made up 10% of the animals seen in the alley, how many camels we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ie chart would show the number of camels vs. the number of other animals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544680"/>
            <a:ext cx="8275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ounting Camel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180030[1]"/>
          <p:cNvPicPr/>
          <p:nvPr/>
        </p:nvPicPr>
        <p:blipFill>
          <a:blip r:embed="rId1"/>
          <a:stretch/>
        </p:blipFill>
        <p:spPr>
          <a:xfrm>
            <a:off x="6591240" y="268200"/>
            <a:ext cx="2238480" cy="106056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pic>
        <p:nvPicPr>
          <p:cNvPr id="91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81760" y="599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nform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32fa"/>
                </a:solidFill>
                <a:uFillTx/>
                <a:latin typeface="Times New Roman"/>
                <a:hlinkClick r:id="rId3"/>
              </a:rPr>
              <a:t>percents and decim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44440" y="4989600"/>
            <a:ext cx="6838920" cy="1868400"/>
            <a:chOff x="244440" y="4989600"/>
            <a:chExt cx="6838920" cy="1868400"/>
          </a:xfrm>
        </p:grpSpPr>
        <p:grpSp>
          <p:nvGrpSpPr>
            <p:cNvPr id="95" name="Group 9"/>
            <p:cNvGrpSpPr/>
            <p:nvPr/>
          </p:nvGrpSpPr>
          <p:grpSpPr>
            <a:xfrm>
              <a:off x="2286000" y="5081760"/>
              <a:ext cx="2662200" cy="1776240"/>
              <a:chOff x="2286000" y="5081760"/>
              <a:chExt cx="2662200" cy="177624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2286000" y="5081760"/>
                <a:ext cx="2662200" cy="17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3613320" y="5241960"/>
                <a:ext cx="423720" cy="723960"/>
              </a:xfrm>
              <a:prstGeom prst="pie">
                <a:avLst/>
              </a:prstGeom>
              <a:solidFill>
                <a:srgbClr val="ffcc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2892600" y="5245200"/>
                <a:ext cx="1446120" cy="1446120"/>
              </a:xfrm>
              <a:prstGeom prst="pie">
                <a:avLst/>
              </a:prstGeom>
              <a:solidFill>
                <a:srgbClr val="00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3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4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5"/>
            <p:cNvGrpSpPr/>
            <p:nvPr/>
          </p:nvGrpSpPr>
          <p:grpSpPr>
            <a:xfrm>
              <a:off x="244440" y="4989600"/>
              <a:ext cx="2590920" cy="1868400"/>
              <a:chOff x="244440" y="4989600"/>
              <a:chExt cx="2590920" cy="1868400"/>
            </a:xfrm>
          </p:grpSpPr>
          <p:sp>
            <p:nvSpPr>
              <p:cNvPr id="102" name="AutoShape 16"/>
              <p:cNvSpPr/>
              <p:nvPr/>
            </p:nvSpPr>
            <p:spPr>
              <a:xfrm>
                <a:off x="244440" y="4989600"/>
                <a:ext cx="2590920" cy="18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536840" y="5213520"/>
                <a:ext cx="706320" cy="1414440"/>
              </a:xfrm>
              <a:prstGeom prst="pie">
                <a:avLst/>
              </a:pr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828720" y="5213520"/>
                <a:ext cx="708120" cy="1414440"/>
              </a:xfrm>
              <a:prstGeom prst="pi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1"/>
            <p:cNvGrpSpPr/>
            <p:nvPr/>
          </p:nvGrpSpPr>
          <p:grpSpPr>
            <a:xfrm>
              <a:off x="4573440" y="5043600"/>
              <a:ext cx="2509920" cy="1814400"/>
              <a:chOff x="4573440" y="5043600"/>
              <a:chExt cx="2509920" cy="1814400"/>
            </a:xfrm>
          </p:grpSpPr>
          <p:sp>
            <p:nvSpPr>
              <p:cNvPr id="108" name="AutoShape 22"/>
              <p:cNvSpPr/>
              <p:nvPr/>
            </p:nvSpPr>
            <p:spPr>
              <a:xfrm>
                <a:off x="4573440" y="5043600"/>
                <a:ext cx="2509920" cy="18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5143680" y="5265720"/>
                <a:ext cx="1361880" cy="1362240"/>
              </a:xfrm>
              <a:prstGeom prst="pie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5143680" y="5265720"/>
                <a:ext cx="680760" cy="681120"/>
              </a:xfrm>
              <a:prstGeom prst="pie">
                <a:avLst/>
              </a:prstGeom>
              <a:solidFill>
                <a:srgbClr val="00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9840" y="363600"/>
            <a:ext cx="8435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ing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320" y="1601280"/>
            <a:ext cx="536724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vis had to go home to get his BPC, he walked a path around a heavily crowded park.  How far did he travel around the park if the park was the regular polygon pictu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ravis walked at a average speed of 8 km per hour, and it only took him 15 minutes to get home, how far had he walked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WalkBoy"/>
          <p:cNvPicPr/>
          <p:nvPr/>
        </p:nvPicPr>
        <p:blipFill>
          <a:blip r:embed="rId1"/>
          <a:stretch/>
        </p:blipFill>
        <p:spPr>
          <a:xfrm>
            <a:off x="6249960" y="963720"/>
            <a:ext cx="2462400" cy="24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867280" y="3733920"/>
            <a:ext cx="2667240" cy="2881080"/>
            <a:chOff x="5867280" y="3733920"/>
            <a:chExt cx="2667240" cy="2881080"/>
          </a:xfrm>
        </p:grpSpPr>
        <p:sp>
          <p:nvSpPr>
            <p:cNvPr id="119" name="AutoShape 8"/>
            <p:cNvSpPr/>
            <p:nvPr/>
          </p:nvSpPr>
          <p:spPr>
            <a:xfrm>
              <a:off x="5867280" y="4038480"/>
              <a:ext cx="2590920" cy="2133720"/>
            </a:xfrm>
            <a:prstGeom prst="hexagon">
              <a:avLst>
                <a:gd name="adj" fmla="val 30357"/>
                <a:gd name="vf" fmla="val 115470"/>
              </a:avLst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9" descr="MCj04063900000[1]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7113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6781680" y="6248520"/>
              <a:ext cx="914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705720" y="624852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.3 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6172200" y="37339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629400" y="388620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8001000" y="4114800"/>
              <a:ext cx="53352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8001000" y="5257800"/>
              <a:ext cx="53352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8001000" y="62485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024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to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" y="193968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anted to travel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dn’t have a BPC to trans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, how would you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kinds of transport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uld use to get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some would be faster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, and take les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play a game with som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s, and look at the mat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MPj03992990000[1]"/>
          <p:cNvPicPr/>
          <p:nvPr/>
        </p:nvPicPr>
        <p:blipFill>
          <a:blip r:embed="rId1"/>
          <a:stretch/>
        </p:blipFill>
        <p:spPr>
          <a:xfrm>
            <a:off x="6638760" y="2044800"/>
            <a:ext cx="211320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56:11Z</dcterms:modified>
  <cp:revision>17</cp:revision>
  <dc:subject/>
  <dc:title>Slide 1</dc:title>
</cp:coreProperties>
</file>