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A0DB3-FDED-4D6D-AD5E-EEF6F9523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D39A1-E899-48A1-BD61-EB9105449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5A8B6-2F1C-45DE-B3AA-B04733BFA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F7A22-6777-4D9B-B528-4D753068E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4A144-914A-4B2B-B4B6-7033991D6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CEE3E-F407-4149-862F-DA37E600D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3A8F4-BD6A-4FC5-80D8-2FA6E9AF2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E18D7-98D5-4EB2-89B4-25E0DB915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4586B-2EA3-42F6-BAAA-B65D4CB5C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3DA4A-1FEB-45A0-A4A4-5DB8BFE5E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59107-7ACF-461E-AA0B-626C4BE38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33E2B-31AB-4260-A91F-3D1BFCCB5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EBAB3-01FD-4F08-B9B0-0C69A4A3C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C578-75D8-49D2-979E-5C72C7CFDB0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233600"/>
            <a:ext cx="7772400" cy="1600200"/>
          </a:xfrm>
          <a:prstGeom prst="rect">
            <a:avLst/>
          </a:prstGeom>
          <a:noFill/>
          <a:ln w="0">
            <a:noFill/>
          </a:ln>
        </p:spPr>
        <p:txBody>
          <a:bodyPr anchor="t">
            <a:normAutofit fontScale="73000"/>
          </a:bodyPr>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do you find a city or other location on a world map or globe?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might be easy to find Dallas, Texas, but what if you were asked to find San Miguel, Argentina?  Where would you begin to look?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50" name="" descr=""/>
          <p:cNvPicPr/>
          <p:nvPr/>
        </p:nvPicPr>
        <p:blipFill>
          <a:blip r:embed="rId2"/>
          <a:stretch/>
        </p:blipFill>
        <p:spPr>
          <a:xfrm>
            <a:off x="3516480" y="1428840"/>
            <a:ext cx="2158920" cy="254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388800"/>
            <a:ext cx="7772400" cy="61819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en geographers use the term “absolute location” they are referring to the global address of a place.  </a:t>
            </a:r>
            <a:endParaRPr b="0" lang="en-US" sz="3200" spc="-1" strike="noStrike">
              <a:solidFill>
                <a:srgbClr val="ebebeb"/>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Absolute location</a:t>
            </a:r>
            <a:r>
              <a:rPr b="0" lang="en-US" sz="2800" spc="-1" strike="noStrike">
                <a:solidFill>
                  <a:srgbClr val="ebebeb"/>
                </a:solidFill>
                <a:latin typeface="Times New Roman"/>
              </a:rPr>
              <a:t> is the location of a place on the earth’s surface stated in terms of latitude and longitude.  </a:t>
            </a:r>
            <a:endParaRPr b="0" lang="en-US" sz="28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find the absolute location of a place on the earth’s surfac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look to see if it is in the Northern Hemisphere or the Southern Hemispher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n, look to see if it is in the Western Hemisphere or the Eastern Hemisphere.</a:t>
            </a:r>
            <a:endParaRPr b="0" lang="en-US" sz="2400" spc="-1" strike="noStrike">
              <a:solidFill>
                <a:srgbClr val="ebebeb"/>
              </a:solidFill>
              <a:latin typeface="Times New Roman"/>
            </a:endParaRPr>
          </a:p>
          <a:p>
            <a:pPr marL="343080" indent="-343080">
              <a:lnSpc>
                <a:spcPct val="8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find its exact location using lines of latitude and longitude.</a:t>
            </a:r>
            <a:r>
              <a:rPr b="0" lang="en-US" sz="2000" spc="-1" strike="noStrike">
                <a:solidFill>
                  <a:srgbClr val="ebebeb"/>
                </a:solidFill>
                <a:latin typeface="Times New Roman"/>
              </a:rPr>
              <a:t>  </a:t>
            </a:r>
            <a:endParaRPr b="0" lang="en-US" sz="2000" spc="-1" strike="noStrike">
              <a:solidFill>
                <a:srgbClr val="ebebeb"/>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sp>
        <p:nvSpPr>
          <p:cNvPr id="189" name=""/>
          <p:cNvSpPr/>
          <p:nvPr/>
        </p:nvSpPr>
        <p:spPr>
          <a:xfrm>
            <a:off x="611280" y="5710320"/>
            <a:ext cx="7916760" cy="1535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0" name="" descr=""/>
          <p:cNvPicPr/>
          <p:nvPr/>
        </p:nvPicPr>
        <p:blipFill>
          <a:blip r:embed="rId2"/>
          <a:stretch/>
        </p:blipFill>
        <p:spPr>
          <a:xfrm>
            <a:off x="311040" y="665280"/>
            <a:ext cx="8521920" cy="499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11040" y="243000"/>
            <a:ext cx="8521920" cy="4997160"/>
            <a:chOff x="311040" y="243000"/>
            <a:chExt cx="8521920" cy="4997160"/>
          </a:xfrm>
        </p:grpSpPr>
        <p:pic>
          <p:nvPicPr>
            <p:cNvPr id="197" name="" descr=""/>
            <p:cNvPicPr/>
            <p:nvPr/>
          </p:nvPicPr>
          <p:blipFill>
            <a:blip r:embed="rId2"/>
            <a:stretch/>
          </p:blipFill>
          <p:spPr>
            <a:xfrm>
              <a:off x="311040" y="243000"/>
              <a:ext cx="8521920" cy="4997160"/>
            </a:xfrm>
            <a:prstGeom prst="rect">
              <a:avLst/>
            </a:prstGeom>
            <a:ln w="0">
              <a:noFill/>
            </a:ln>
          </p:spPr>
        </p:pic>
        <p:sp>
          <p:nvSpPr>
            <p:cNvPr id="198" name=""/>
            <p:cNvSpPr/>
            <p:nvPr/>
          </p:nvSpPr>
          <p:spPr>
            <a:xfrm rot="21267000">
              <a:off x="2117520" y="1955520"/>
              <a:ext cx="352440" cy="415800"/>
            </a:xfrm>
            <a:prstGeom prst="ellipse">
              <a:avLst/>
            </a:prstGeom>
            <a:noFill/>
            <a:ln w="414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360360" y="5372280"/>
            <a:ext cx="85215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ook for the circle around Mexico.  Were you correc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s global address is about 25° North Latitude and 110° West Longitud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o the absolute location for Mexico is 25° North Latitude and 110° West Longitu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1"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earching for places on a world map or a globe can be time consuming and frustrating.  Sometimes you don’t know where to begin looking! </a:t>
            </a:r>
            <a:endParaRPr b="0" lang="en-US" sz="2800" spc="-1" strike="noStrike">
              <a:solidFill>
                <a:srgbClr val="ebebeb"/>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find a place more quickly if you know its address:  </a:t>
            </a:r>
            <a:endParaRPr b="0" lang="en-US" sz="2800" spc="-1" strike="noStrike">
              <a:solidFill>
                <a:srgbClr val="ebebeb"/>
              </a:solidFill>
              <a:latin typeface="Times New Roman"/>
            </a:endParaRPr>
          </a:p>
          <a:p>
            <a:pPr marL="312120" indent="-31212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12120" indent="-31212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a:t>
            </a: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800" spc="-1" strike="noStrike">
                <a:solidFill>
                  <a:srgbClr val="ebebeb"/>
                </a:solidFill>
                <a:latin typeface="Times New Roman"/>
              </a:rPr>
              <a:t>All places on Earth have a specific address.  This address makes it easy to find a plac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Places on Earth do not have addresses like Row M, Seat 9 or 4120 Viola Driv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addresses of places on the Earth are given in latitude and longitude.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509400"/>
            <a:ext cx="7772400" cy="5257800"/>
          </a:xfrm>
          <a:prstGeom prst="rect">
            <a:avLst/>
          </a:prstGeom>
          <a:noFill/>
          <a:ln w="0">
            <a:noFill/>
          </a:ln>
        </p:spPr>
        <p:txBody>
          <a:bodyPr anchor="t">
            <a:normAutofit fontScale="95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    </a:t>
            </a:r>
            <a:r>
              <a:rPr b="0" lang="en-US" sz="2600" spc="-1" strike="noStrike">
                <a:solidFill>
                  <a:srgbClr val="ebebeb"/>
                </a:solidFill>
                <a:latin typeface="Times New Roman"/>
              </a:rPr>
              <a:t>The coordinates of a location are like an address for that place.  If you know the coordinates (like 34</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North Latitude and 58</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West Longitude), you can easily find any place on the earth’s surface.  </a:t>
            </a:r>
            <a:endParaRPr b="0" lang="en-US" sz="26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bebeb"/>
              </a:solidFill>
              <a:latin typeface="Times New Roman"/>
            </a:endParaRPr>
          </a:p>
        </p:txBody>
      </p:sp>
      <p:pic>
        <p:nvPicPr>
          <p:cNvPr id="56" name="" descr=""/>
          <p:cNvPicPr/>
          <p:nvPr/>
        </p:nvPicPr>
        <p:blipFill>
          <a:blip r:embed="rId2"/>
          <a:stretch/>
        </p:blipFill>
        <p:spPr>
          <a:xfrm>
            <a:off x="2209680" y="300024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07-17T21:30:20Z</dcterms:modified>
  <cp:revision>111</cp:revision>
  <dc:subject/>
  <dc:title>Locating Places</dc:title>
</cp:coreProperties>
</file>