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2BD4-0BB1-4516-8702-D0C633D5A7CB}"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1C51C-A56C-4BFA-ADC2-CE6B0E8BF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E6BE7-6A73-4868-9E41-4EFC87DAF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E4BC6-51B2-40DF-B49C-0C41CE48E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EBAA3-27F7-4EA4-B72A-E6975714D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2C936-F592-4DA6-B8F4-B886AC605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EA577-66E2-4E91-9D48-A20B80DCB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D8FFF-3DE5-4B1A-ACDB-34563771E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FF3B1-BA9D-4E83-8CDD-3DCE34A80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3354C-1D38-4BE2-B67C-D016B2C10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CFF39-4877-438E-AC78-25FBAFF1E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9C26C-61BD-4583-812C-54C4B339A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9C3B0-BE21-4B28-AD46-F53B1091D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446D1-9BA6-4EE5-866D-CBD35493AFC6}"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572000" y="1351080"/>
            <a:ext cx="4464000" cy="4525920"/>
          </a:xfrm>
          <a:prstGeom prst="rect">
            <a:avLst/>
          </a:prstGeom>
          <a:noFill/>
          <a:ln w="0">
            <a:noFill/>
          </a:ln>
        </p:spPr>
        <p:txBody>
          <a:bodyPr lIns="90000" rIns="90000" tIns="46800" bIns="46800" anchor="t">
            <a:normAutofit fontScale="90000"/>
          </a:bodyPr>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488880" y="1523880"/>
            <a:ext cx="2000160" cy="2067120"/>
          </a:xfrm>
          <a:prstGeom prst="rect">
            <a:avLst/>
          </a:prstGeom>
          <a:ln w="0">
            <a:noFill/>
          </a:ln>
        </p:spPr>
      </p:pic>
      <p:pic>
        <p:nvPicPr>
          <p:cNvPr id="100" name="" descr=""/>
          <p:cNvPicPr/>
          <p:nvPr/>
        </p:nvPicPr>
        <p:blipFill>
          <a:blip r:embed="rId2"/>
          <a:stretch/>
        </p:blipFill>
        <p:spPr>
          <a:xfrm>
            <a:off x="2470320" y="3581280"/>
            <a:ext cx="2000160" cy="2486160"/>
          </a:xfrm>
          <a:prstGeom prst="rect">
            <a:avLst/>
          </a:prstGeom>
          <a:ln w="0">
            <a:noFill/>
          </a:ln>
        </p:spPr>
      </p:pic>
      <p:sp>
        <p:nvSpPr>
          <p:cNvPr id="101" name=""/>
          <p:cNvSpPr/>
          <p:nvPr/>
        </p:nvSpPr>
        <p:spPr>
          <a:xfrm>
            <a:off x="10800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446200" y="6019200"/>
            <a:ext cx="1981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Ljlab</cp:lastModifiedBy>
  <dcterms:modified xsi:type="dcterms:W3CDTF">2007-07-17T21:20:16Z</dcterms:modified>
  <cp:revision>286</cp:revision>
  <dc:subject/>
  <dc:title>Combating Infections</dc:title>
</cp:coreProperties>
</file>