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3C2D-6136-4CDA-92D5-4F8E3FA8A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C: The student is expected to: monitor his/her own comprehension and make modifications when understanding breaks down such as by rereading a portion aloud, using reference aids, searching for clues, and asking question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use the text’s structure or progression of ideas such as cause and effect or chronology to locate and recall information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: draw inferences such as conclusions or generalizations and support them with text evidence and experienc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: Answer different types and levels of questions such as open-ended, literal, and interpretative as well as test-like questions such as multiple choice, true-false, and short answer(4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, including letters, news, records, and form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0B6-A43D-4B42-84D4-DD65A2B6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FE1-5140-4E9E-874C-146597A5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2E8-1773-49AF-853C-26CEC045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B8FB-D131-4A75-BDA4-A965E811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BD8-4DFF-4DD8-97F0-EB64BDAA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634-15E3-4DE2-8321-D8BD36BF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7D8-9D93-486E-B4C7-D4DC514A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AD9-46DA-4592-ADBA-C38CF4BA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E9C-4C9D-458F-BAE5-7CF3D948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610-1AA5-412E-B195-D1F7E509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08F-DBBB-4F06-B666-BAA71AAA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DFE-7651-4075-8CB7-DE2B96F7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CCF7-2CE5-45F4-A992-F32CCEB6CF7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9880" y="195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 Which one of the following presented a contrast to the sickness and poverty the friends saw in the alleyway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spcBef>
                <a:spcPts val="224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ld woman selling vegetabl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little girl begging for mon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visiting the Taj Maha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lderly man clutching his stomac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7480" y="3308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51000" y="498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254240" y="387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55120" y="1596960"/>
            <a:ext cx="799164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friends were able to travel together back to their home b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 new Backpack Comput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ke them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ying on a commercial airli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iding on a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ting a magical incantation. grasping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rasping 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257480" y="2978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251000" y="5030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251000" y="4416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25424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254240" y="592308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18040" y="28353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230720" y="51879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472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beginning of the story, who do you learn is bored by the moonlight fishing adventur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57480" y="3348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51000" y="4991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51000" y="4424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54240" y="3882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Travis left on the fishing pier by himself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got tired and went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gone for a midnight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w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PC accident teleported the oth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other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a major exam the next 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 had no more time to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7480" y="2841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251000" y="5343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251000" y="441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254240" y="34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find themselves transported to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lace of Versail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great wall of Chin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ckingham Palace in Lond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aj Mahal in Ind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7480" y="2362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2510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251000" y="3467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254240" y="2911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7472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oes NOT correctly match a place from the story with a partial description of the plac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hjahan Park:  filled with sweet smelling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w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eyway:  lined with shops and vend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shing pier:  moonl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dens:  includes four, long reflecting poo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57480" y="324468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251000" y="5180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251000" y="461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254240" y="4057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id the friends see as they traveled through the alleywa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 including donkeys, goats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ad chickens hung upside dow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food shop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7480" y="28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251000" y="474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251000" y="418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254240" y="3629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254240" y="5308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saw several people who did not seem well. Which of the following were not well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Pat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young couple on their honeymo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n who was being tattoo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our gu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eenage gir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46320" y="3157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251000" y="4829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1000" y="427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25424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254240" y="5389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ithout the BPC language translator, how were the friends understood by the people they me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spoke Hind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used sign langua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acted as translat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econd language of the country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ngl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57480" y="3121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51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251000" y="422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54240" y="36702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076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le walking through the alley, the friends were surprised to see a sign advertising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st 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 do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s of the tomb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acci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7480" y="3311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251000" y="4992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254240" y="3873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4T18:03:11Z</dcterms:modified>
  <cp:revision>79</cp:revision>
  <dc:subject/>
  <dc:title>Investigator Challenge Quiz</dc:title>
</cp:coreProperties>
</file>