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.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66688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CE2FF-4516-43FF-B99D-E46586405D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29D05-742F-4419-8C32-73F8E3D750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FAEDA-F305-4993-B6DF-785457BA5E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DC102-3854-4D9F-81EE-FE4F1410ED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EBEBA-9F77-495D-AA4B-21F04E2BA6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89360-9D46-4845-B0A5-F59D4C514C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A84F8-2A20-44FA-B13B-7EBF465568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BA320-854C-4B38-B735-973C78FADA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B6D24-ECB3-4D35-A627-7DEC71556D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ACA0C-BA7B-47F4-B4DB-D7C1356F74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7C9B4-4A3C-4DFE-BA6D-59B887A8EE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34A34-6346-4CC5-A574-EB20DC69AD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96DE1-72E8-4E3C-B079-71BF808BF46F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8153280" cy="510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width, height, and length of a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ox or rectangular prism can b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fferent. If all three are the same,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n the box is a cub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volume, or the amount of space inside a box, is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 × 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urface area of a box i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(h × w) + 2(h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+ 2(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A shoe box is a rectangular prism with a volume of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6287 cm</a:t>
            </a:r>
            <a:r>
              <a:rPr b="0" i="1" lang="en-US" sz="28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486400" y="990720"/>
            <a:ext cx="3200400" cy="1766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7200" y="990720"/>
            <a:ext cx="464832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129528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848720" y="2286000"/>
            <a:ext cx="1522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2971800"/>
            <a:ext cx="8153640" cy="29718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93DFD-C54F-4D1A-A2E1-48BCE24C98BF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jewelry box by using the equation for a rectangular prism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Jewelry Box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Length = 3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Width = 18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4 x 30 x 18  =  7,56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276720" y="2514600"/>
            <a:ext cx="2479680" cy="235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24C39-6DF1-451D-9A38-FA412D62BAC7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079960" y="974880"/>
            <a:ext cx="3225960" cy="2073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or the dis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rom the center of a sphere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, is the defining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perty of a spher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sphere that passes    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 sphere is 4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enclosed by a sphere is 4/3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=3.1415926535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basketball has a volume of 7700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276720"/>
            <a:ext cx="8076960" cy="28191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990720"/>
            <a:ext cx="3809880" cy="16002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1295280"/>
            <a:ext cx="152388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DF50F-9AE3-4024-8E8D-61C2BB94466F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basketball by using the equation for a sphere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Basketball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1.9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4/3 x 3.14 x 11.9 x 11.9 x 11.9  =  7,05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505320" y="2514600"/>
            <a:ext cx="2193840" cy="221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E6B02-0C7C-4440-8651-5E36611ECB73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352680" y="914400"/>
            <a:ext cx="2737080" cy="1542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172200" y="609480"/>
            <a:ext cx="2743200" cy="19051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914400"/>
            <a:ext cx="27432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76280" y="13320"/>
            <a:ext cx="7848720" cy="271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is the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a cone to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.</a:t>
            </a: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576360"/>
            <a:ext cx="8763120" cy="586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height, h, is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tip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f the cone to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the base of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con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diameter, or the distance across the base of the con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rough the center, is 2r (twice the radius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surface area of a cone is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   h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+ 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volume of a cone is 1/3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5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=3.1415926535! But you can round to the 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hundredths place and use 3.14.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An ice cream cone is a cone with a volume of 180cm</a:t>
            </a:r>
            <a:r>
              <a:rPr b="0" i="1" lang="en-US" sz="24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1143000"/>
            <a:ext cx="685800" cy="30492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715000" y="1295280"/>
            <a:ext cx="45720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960" y="342900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24280" y="4114800"/>
            <a:ext cx="81000" cy="763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800600" y="3885840"/>
            <a:ext cx="81000" cy="3049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2666880"/>
            <a:ext cx="8076960" cy="33530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AC1EF-CB75-411C-840A-E2EE20068D43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ice cream cone by using the equation for a cone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Ice Cream Cone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3.5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/3 x 3.14 x 3.5 x 3.5 x 14  =  179.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962520" y="2286000"/>
            <a:ext cx="1074600" cy="286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A43C6-BA6E-433C-AC10-D5256D09C720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505320" y="914400"/>
            <a:ext cx="2577960" cy="14778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4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If your cylinder is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The radius, r, is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standing upright, you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might call the “length”,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center of a cylinder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  a "height" instead.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its edg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26668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cylinder that passes 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n open ended cylinder (as shown)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If the cylinder has caps on the ends, then the surface area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+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of a cylinder is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soda can has a volume of 335 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371600"/>
            <a:ext cx="914400" cy="38088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5791320" y="1294920"/>
            <a:ext cx="457200" cy="38124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6765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762120"/>
            <a:ext cx="29718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762120"/>
            <a:ext cx="259056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2666880"/>
            <a:ext cx="8153280" cy="35053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67CDC-B45B-4232-89CE-821403E99824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7240" y="1066680"/>
            <a:ext cx="7770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spray can by using the equation for a cylinder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Spray Can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 = 50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3.14 x 10 x 10 x 50  =  15,70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114800" y="2362320"/>
            <a:ext cx="949320" cy="284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904A6-59BE-4912-A552-C1B1C3231363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cp:keywords/>
  <dc:language>en-US</dc:language>
  <cp:lastModifiedBy>Ljlab</cp:lastModifiedBy>
  <cp:lastPrinted>2001-01-16T19:55:21Z</cp:lastPrinted>
  <dcterms:modified xsi:type="dcterms:W3CDTF">2007-07-17T21:20:53Z</dcterms:modified>
  <cp:revision>241</cp:revision>
  <dc:subject/>
  <dc:title>VTPP 423 - PHYSIOLOGY</dc:title>
</cp:coreProperties>
</file>