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DB5C-B51C-4528-976B-2EEF32D39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C753-BFF4-4323-B16D-50118255A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EE62-8E05-424E-BDBE-1B942CE82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110C-3D89-49A3-AAFF-EBC70A9C8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F408-7365-422E-A302-22FD57E5C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97B0-10BF-40B8-8F9F-28744660D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8673-5583-420B-90CE-1544436C6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FA9C-85A9-45A0-8723-A2E8A9B8B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36E2-A3D9-4AED-AFA8-E7CC7DB12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6AF6-8C4B-4507-A993-BA763BD58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71BB-A779-4D22-91CC-3F1AEA098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9563-AC48-4EC0-BA82-C0666461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333E1-F4A6-4DD5-8704-7AA72A7162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Comparisons: the Positive Degre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simple form of an adjective or adverb that does not compare one thing to any specific thing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I woke up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early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 tod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Comparisons: the Comparative Degre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ndicates a higher or lower quality or manner. Two things are being compared and the comparison is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usually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formed by adding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-er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o the positive form of  a word or by adding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more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les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o the positive form of longer word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I woke up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earlier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 than you. 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You should talk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more quietly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isons: the </a:t>
            </a: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Superlativ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Degre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perlative degree indicates the highest or lowest level of quality or manner. It is used when more than two things are compared and is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usuall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med by adding -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es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the end of the positive form or by adding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most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or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least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before the positive for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I woke up the </a:t>
            </a: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earliest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 today.  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You talk </a:t>
            </a: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most quietly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 of al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4T05:26:25Z</dcterms:created>
  <dc:creator>Gina Balducci</dc:creator>
  <dc:description/>
  <dc:language>en-US</dc:language>
  <cp:lastModifiedBy>Instructional Tech Student</cp:lastModifiedBy>
  <dcterms:modified xsi:type="dcterms:W3CDTF">2002-05-29T16:40:50Z</dcterms:modified>
  <cp:revision>7</cp:revision>
  <dc:subject/>
  <dc:title>PowerPoint Presentation</dc:title>
</cp:coreProperties>
</file>