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EFB9-D6AD-4CE2-93AA-95D08E6D2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3C1B3-EB0C-4872-B08A-91A11C10C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9D72D-0634-4091-86D6-9FE877E04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A8D28-8CDE-497C-8928-044AD5762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B9BAA-DE91-43A5-AD8A-A2617B8E3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3AAF9-9159-43D3-AC85-2BC0E0D87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B9D9A-D8A9-4807-A814-B52F32FA7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6E9B7-249C-4F1B-9ADA-D5BB7AD56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709BF-81AD-42DC-97DC-9B66BD8E6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BE95D-E35E-4C84-B674-E0D5FB8D9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9ED1-C52B-4DED-9C74-A1D76FEFB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6C149-B278-4E52-B84F-08C925E19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08C1F-73A5-4719-8E09-35F84B39F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C512-FA6E-4102-BCF4-31798598E61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4"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85"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88"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89"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2"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3"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96"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97" name="" descr=""/>
          <p:cNvPicPr/>
          <p:nvPr/>
        </p:nvPicPr>
        <p:blipFill>
          <a:blip r:embed="rId2"/>
          <a:stretch/>
        </p:blipFill>
        <p:spPr>
          <a:xfrm>
            <a:off x="714240" y="1508040"/>
            <a:ext cx="3184560" cy="4710240"/>
          </a:xfrm>
          <a:prstGeom prst="rect">
            <a:avLst/>
          </a:prstGeom>
          <a:ln w="88920">
            <a:solidFill>
              <a:srgbClr val="547052"/>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0"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1"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4"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05"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08"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09"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4"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15"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16"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19"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3"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4"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7"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28"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pic>
        <p:nvPicPr>
          <p:cNvPr id="72"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5"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pic>
        <p:nvPicPr>
          <p:cNvPr id="76"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77" name="" descr=""/>
          <p:cNvPicPr/>
          <p:nvPr/>
        </p:nvPicPr>
        <p:blipFill>
          <a:blip r:embed="rId3"/>
          <a:stretch/>
        </p:blipFill>
        <p:spPr>
          <a:xfrm>
            <a:off x="434880" y="1509840"/>
            <a:ext cx="4967280" cy="3725640"/>
          </a:xfrm>
          <a:prstGeom prst="rect">
            <a:avLst/>
          </a:prstGeom>
          <a:ln w="88920">
            <a:solidFill>
              <a:srgbClr val="547052"/>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0"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pic>
        <p:nvPicPr>
          <p:cNvPr id="81"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Vince Hardy</cp:lastModifiedBy>
  <dcterms:modified xsi:type="dcterms:W3CDTF">2007-01-11T21:11:25Z</dcterms:modified>
  <cp:revision>122</cp:revision>
  <dc:subject/>
  <dc:title>Tour of the Ukraine</dc:title>
</cp:coreProperties>
</file>