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3.jpeg" ContentType="image/jpeg"/>
  <Override PartName="/ppt/media/image8.jpeg" ContentType="image/jpeg"/>
  <Override PartName="/ppt/media/image11.wmf" ContentType="image/x-wmf"/>
  <Override PartName="/ppt/media/image18.png" ContentType="image/png"/>
  <Override PartName="/ppt/media/image17.png" ContentType="image/png"/>
  <Override PartName="/ppt/media/image16.jpeg" ContentType="image/jpeg"/>
  <Override PartName="/ppt/media/image14.jpeg" ContentType="image/jpeg"/>
  <Override PartName="/ppt/media/image9.jpeg" ContentType="image/jpeg"/>
  <Override PartName="/ppt/media/image4.jpeg" ContentType="image/jpeg"/>
  <Override PartName="/ppt/media/image2.png" ContentType="image/png"/>
  <Override PartName="/ppt/media/image5.jpeg" ContentType="image/jpeg"/>
  <Override PartName="/ppt/media/image15.png" ContentType="image/png"/>
  <Override PartName="/ppt/media/image3.jpeg" ContentType="image/jpeg"/>
  <Override PartName="/ppt/media/image7.png" ContentType="image/png"/>
  <Override PartName="/ppt/media/image1.jpeg" ContentType="image/jpeg"/>
  <Override PartName="/ppt/media/image10.png" ContentType="image/pn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322F7-8934-4B88-890F-0B06F6FF83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AD3FA-1CB8-4A63-98E5-564B5702E4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lcome 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This “NOTES” section contains teacher notes for each slide including a variety of inform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as activity instructions, quiz answers, etc.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se notes identify the specific TEK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dressed on each slid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 Identified TEKS in these notes are intended to be a guide to, no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ubstitute for, the full text of the TEK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To view in Slide Show mode, one must select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lide Sho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nd 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View Sho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n the PowerPoint pull down menu.  The ESC key will allow one to “escape” ou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Slide Show vie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AAE6F-5F00-4C4E-A4CF-972C933AB4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A3B63-4A2C-4CA5-B613-BEBF7F517C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s presentation covers the following TEKS: Ma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 (B), Equivalent forms of number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 (C) Integers in real-lif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 (C) Solve ratios/rates using multiplication/division of whole numb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3 (A) Describe proportions using rati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5 Formulate equation from problem situ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8 (D) Convert measures within the same measurement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1 (A), Identify/apply mathematics to everyday experi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 (B) Convert between fractions, decimals, whole numbers, and perc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 (A) Represent multiplication and division with fractions and decima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 (B) Add, subtracts, multiply, and divide fractions and decimals to find answ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4 (A) Communicate mathematical ideas through various mea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 (B) Use the correct form of rational numbers to solve real-life proble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2 (A) Use appropriate operations to solve proble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2 (B) Add, subtract, multiply, and divide rational numbers in proble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3 (B) Find solutions to problems involving percents and r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5 (A) Communicate mathematical ideas using language, tools, and mode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8F805-72F0-47A5-A3C4-8BEB307D39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up proble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the total number of people who could be seated on the b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(5) + 3(2) + 5 = 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Stan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1 x (2/3) =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Math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 (C), Integers in real-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 (C), Solve ratios/rates using multiplication/division of whole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3 (A), Describe proportions using rati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5, Formulate equation from problem situ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1 (A), Identify/apply mathematics to everyday experi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 (B) Convert between fractions, decimals, whole numbers, and per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 (A) Represent multiplication and division with fractions and dec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 (B) Add, subtracts, multiply, and divide fractions and decimals to find ans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 (B) Use the correct form of rational numbers to solve real-life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2 (A) Use appropriate operations to solve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2 (B) Add, subtract, multiply, and divide rational numbers in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ratio ratios proportion propor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E02E2-EC40-4DC8-95AE-894FE6E00B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up proble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is problem in parts then add to get the tot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the first 10 mi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min x (1 hour/ 60 min) x (5 kilometers/ 1 hour) = .83 kilome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kids did not move at all the next four minutes but we use this time in calculating the time spent traveling the last part of the alle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– 10 – 4 = 6 m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min x (1 hour/ 60 min.) x (3 kilometers/ 1 hour) =.3 kilome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the two distances together for the tot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83 + .3 = 1.13 k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lley was 1.13 km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Mat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 (C), Integers in real-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 (C), Solve ratios/rates using multiplication/division of whole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3 (A), Describe proportions using rati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5, Formulate equation from problem situ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1 (A), Identify/apply mathematics to everyday experi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 (B) Add, subtracts, multiply, and divide fractions and decimals to find ans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 (B) Use the correct form of rational numbers to solve real-life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2 (A) Use appropriate operations to solve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2 (B) Add, subtract, multiply, and divide rational numbers in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3 (B) Find solutions to problems involving percents and 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ratio ratios rate rates proportion propor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8DF86-E198-40EE-9534-07C91137B1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up proble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y the amount of water by the concentration of bacter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,000ml x (1,000,000 bacteria/1ml) = 2,000,000,000 bacteria in the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Mat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 (C), Integers in real-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5, Formulate equation from problem situ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1 (A), Identify/apply mathematics to everyday experi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volume ratio ratios rate 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29DE8-5C10-466B-93E1-431ED34BEC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up the problem bye setting up a propor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0/x=40/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total number of animals by cross multiplication and divi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0 chickens * 100 = 40 * x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= 6000/40 =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50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find the number of camels multiply 150 by .1 or 10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0 x .10 =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5 cam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dd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ie chart represents 10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Mat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 (C), Solve ratios/rates using multiplication/division of whole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3 (A), Describe proportions using rati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3 (B),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5, Formulate equation from problem sit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1 (A), Identify/apply mathematics to everyday experi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 (B) Convert between fractions, decimals, whole numbers, and per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4 (A) Communicate mathematical ideas through various me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 (B) Use the correct form of rational numbers to solve real-life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5 (A) Communicate mathematical ideas using language, tools, and mod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ratio ratios rate rates fraction fractions proportion proportions percent percents percentages dec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FF4E1-CE8C-45D5-BE06-CF275F628F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Par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the hexagon is a regular polygon, all of its sides must be of equal leng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Travis traveled a total of (0.3 miles) x 3 = .9 m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Par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vert minutes to hou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min x (1hour/ 60min) = .25 h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y time by the average spe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25hour x (8 km/1hour) = 2 k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vis walked 2 km ho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Math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 (C), Integers in real-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 (B), Equivalent forms of numbe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5, Formulate equation from problem situ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8 (D), Convert measures within the same measurement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1 (A), Identify/apply mathematics to everyday experi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 (B) Add, subtracts, multiply, and divide fractions and decimals to find ans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 (B) Use the correct form of rational numbers to solve real-life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2 (A) Use appropriate operations to solve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2 (B) Add, subtract, multiply, and divide rational numbers in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3 (B) Find solutions to problems involving percents and 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convert measures rate rates ratio ratios proportion proportions conver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067EA-94F7-4ADC-AEB5-9406F5DAF5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lead-in slide to the activity that goes with this mini-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EF57-19D9-4D08-BC43-1D635D4DE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6385-2876-4A75-8927-C2D55FE06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2685-15B3-4836-9827-A09F0936B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ADAE-7ADE-47B5-92D2-C09E105F7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9C79-874E-43D0-B947-0311B5D84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DCE8-28D5-4E3D-8D15-FE1D27BFF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2182-6CBE-4C68-BD7C-5B55FF6B6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8FE2-7615-4825-B4ED-2F66831B8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A781-6928-43CB-B165-2B459DCE1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0556-AAD1-4954-AFE5-AF63B683B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1706-E3DE-4C8F-8AB1-A7EFFED36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8431-A366-4720-B865-31374D6DF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568B4-E566-4995-BCD8-7593F2B049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peer.tamu.edu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image" Target="../media/image17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8.png"/><Relationship Id="rId8" Type="http://schemas.openxmlformats.org/officeDocument/2006/relationships/hyperlink" Target="http://peer.tamu.edu/forms/Curricula_Survey.shtml" TargetMode="External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hyperlink" Target="file:///Appendices/PerDec.ppt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mid"/>
          <p:cNvPicPr/>
          <p:nvPr/>
        </p:nvPicPr>
        <p:blipFill>
          <a:blip r:embed="rId1"/>
          <a:stretch/>
        </p:blipFill>
        <p:spPr>
          <a:xfrm>
            <a:off x="1219320" y="533520"/>
            <a:ext cx="6591240" cy="27525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609480" y="3718080"/>
            <a:ext cx="792504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grated Middle School Curricul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0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nership for Environmental Education and Rural Health (PEER; </a:t>
            </a:r>
            <a:r>
              <a:rPr b="0" lang="en-US" sz="3200" spc="-1" strike="noStrike" u="sng">
                <a:solidFill>
                  <a:srgbClr val="3232fa"/>
                </a:solidFill>
                <a:uFillTx/>
                <a:latin typeface="Times New Roman"/>
                <a:hlinkClick r:id="rId2"/>
              </a:rPr>
              <a:t>http://peer.tamu.ed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               Texas A&amp;M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NIEHS"/>
          <p:cNvPicPr/>
          <p:nvPr/>
        </p:nvPicPr>
        <p:blipFill>
          <a:blip r:embed="rId1"/>
          <a:stretch/>
        </p:blipFill>
        <p:spPr>
          <a:xfrm>
            <a:off x="380880" y="198288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3" descr="Peer"/>
          <p:cNvPicPr/>
          <p:nvPr/>
        </p:nvPicPr>
        <p:blipFill>
          <a:blip r:embed="rId2"/>
          <a:stretch/>
        </p:blipFill>
        <p:spPr>
          <a:xfrm>
            <a:off x="380880" y="3506760"/>
            <a:ext cx="1371600" cy="13827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4" descr="CollegeofEdu"/>
          <p:cNvPicPr/>
          <p:nvPr/>
        </p:nvPicPr>
        <p:blipFill>
          <a:blip r:embed="rId3"/>
          <a:stretch/>
        </p:blipFill>
        <p:spPr>
          <a:xfrm>
            <a:off x="380880" y="5030640"/>
            <a:ext cx="1359000" cy="137160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7800" y="944280"/>
            <a:ext cx="8469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product is available through the cooperation of the following: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904760" y="2130480"/>
            <a:ext cx="2514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tional Institute of Environmental Healt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tnership for Environmental Education and Rural Heal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lege of Education, Texas A&amp;M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6248160" y="1914480"/>
            <a:ext cx="2593800" cy="46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artment of Agricultural Education, Texas A&amp;M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enter for Environmental and Rural Heal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lege of Veterinary Medicine, Texas A&amp;M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8" descr="CERH"/>
          <p:cNvPicPr/>
          <p:nvPr/>
        </p:nvPicPr>
        <p:blipFill>
          <a:blip r:embed="rId4"/>
          <a:stretch/>
        </p:blipFill>
        <p:spPr>
          <a:xfrm>
            <a:off x="4724280" y="3506760"/>
            <a:ext cx="1371600" cy="13827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9" descr="New CVM logo_ any color"/>
          <p:cNvPicPr/>
          <p:nvPr/>
        </p:nvPicPr>
        <p:blipFill>
          <a:blip r:embed="rId5"/>
          <a:stretch/>
        </p:blipFill>
        <p:spPr>
          <a:xfrm>
            <a:off x="4724280" y="502596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10"/>
          <p:cNvSpPr/>
          <p:nvPr/>
        </p:nvSpPr>
        <p:spPr>
          <a:xfrm>
            <a:off x="609480" y="4419720"/>
            <a:ext cx="2514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1"/>
          <p:cNvSpPr/>
          <p:nvPr/>
        </p:nvSpPr>
        <p:spPr>
          <a:xfrm>
            <a:off x="6027840" y="1805040"/>
            <a:ext cx="286200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Group 12"/>
          <p:cNvGrpSpPr/>
          <p:nvPr/>
        </p:nvGrpSpPr>
        <p:grpSpPr>
          <a:xfrm>
            <a:off x="4643280" y="1981080"/>
            <a:ext cx="1546560" cy="1371600"/>
            <a:chOff x="4643280" y="1981080"/>
            <a:chExt cx="1546560" cy="1371600"/>
          </a:xfrm>
        </p:grpSpPr>
        <p:sp>
          <p:nvSpPr>
            <p:cNvPr id="142" name="Rectangle 13"/>
            <p:cNvSpPr/>
            <p:nvPr/>
          </p:nvSpPr>
          <p:spPr>
            <a:xfrm>
              <a:off x="4724280" y="1981080"/>
              <a:ext cx="1371600" cy="1371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43" name="Object 14"/>
            <p:cNvGraphicFramePr/>
            <p:nvPr/>
          </p:nvGraphicFramePr>
          <p:xfrm>
            <a:off x="4643280" y="2170080"/>
            <a:ext cx="1546560" cy="10126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44" name="Object 14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4643280" y="2170080"/>
                      <a:ext cx="1546560" cy="101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45" name="Text Box 15"/>
          <p:cNvSpPr/>
          <p:nvPr/>
        </p:nvSpPr>
        <p:spPr>
          <a:xfrm>
            <a:off x="304920" y="30492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achers, please click on this link to complete a short survey concerning this module: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3232fa"/>
                </a:solidFill>
                <a:uFillTx/>
                <a:latin typeface="Times New Roman"/>
                <a:hlinkClick r:id="rId8"/>
              </a:rPr>
              <a:t>http://peer.tamu.edu/forms/Curricula_Survey.shtml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25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ermine rates using distances and tim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lore percents and rati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the S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2019240"/>
            <a:ext cx="7772400" cy="43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e story, once the BPC members are transported to the Taj Mahal, they travel through an alley near Shahjahan Par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y head towards a bus station, where they plan to wait for Travis to rescue th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vis has to first travel home to get his BPC, and then must locate his friends so he can transport to them in Indi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Group 4"/>
          <p:cNvGrpSpPr/>
          <p:nvPr/>
        </p:nvGrpSpPr>
        <p:grpSpPr>
          <a:xfrm>
            <a:off x="6383160" y="223920"/>
            <a:ext cx="2482560" cy="1634760"/>
            <a:chOff x="6383160" y="223920"/>
            <a:chExt cx="2482560" cy="1634760"/>
          </a:xfrm>
        </p:grpSpPr>
        <p:sp>
          <p:nvSpPr>
            <p:cNvPr id="55" name="Freeform 5"/>
            <p:cNvSpPr/>
            <p:nvPr/>
          </p:nvSpPr>
          <p:spPr>
            <a:xfrm>
              <a:off x="7670160" y="223920"/>
              <a:ext cx="1050480" cy="747000"/>
            </a:xfrm>
            <a:prstGeom prst="pie">
              <a:avLst/>
            </a:prstGeom>
            <a:solidFill>
              <a:srgbClr val="23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6"/>
            <p:cNvSpPr/>
            <p:nvPr/>
          </p:nvSpPr>
          <p:spPr>
            <a:xfrm>
              <a:off x="6740280" y="1186920"/>
              <a:ext cx="301680" cy="87840"/>
            </a:xfrm>
            <a:prstGeom prst="pie">
              <a:avLst/>
            </a:prstGeom>
            <a:solidFill>
              <a:srgbClr val="23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7"/>
            <p:cNvSpPr/>
            <p:nvPr/>
          </p:nvSpPr>
          <p:spPr>
            <a:xfrm>
              <a:off x="8245440" y="868680"/>
              <a:ext cx="125640" cy="108000"/>
            </a:xfrm>
            <a:prstGeom prst="pie">
              <a:avLst/>
            </a:prstGeom>
            <a:solidFill>
              <a:srgbClr val="23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8"/>
            <p:cNvSpPr/>
            <p:nvPr/>
          </p:nvSpPr>
          <p:spPr>
            <a:xfrm>
              <a:off x="6383160" y="964800"/>
              <a:ext cx="2482560" cy="820080"/>
            </a:xfrm>
            <a:prstGeom prst="pie">
              <a:avLst/>
            </a:prstGeom>
            <a:solidFill>
              <a:srgbClr val="23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9"/>
            <p:cNvSpPr/>
            <p:nvPr/>
          </p:nvSpPr>
          <p:spPr>
            <a:xfrm>
              <a:off x="8229600" y="1062720"/>
              <a:ext cx="89280" cy="142920"/>
            </a:xfrm>
            <a:prstGeom prst="pie">
              <a:avLst/>
            </a:prstGeom>
            <a:solidFill>
              <a:srgbClr val="23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10"/>
            <p:cNvSpPr/>
            <p:nvPr/>
          </p:nvSpPr>
          <p:spPr>
            <a:xfrm>
              <a:off x="6546240" y="791280"/>
              <a:ext cx="630000" cy="142560"/>
            </a:xfrm>
            <a:prstGeom prst="pie">
              <a:avLst/>
            </a:prstGeom>
            <a:solidFill>
              <a:srgbClr val="23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11"/>
            <p:cNvSpPr/>
            <p:nvPr/>
          </p:nvSpPr>
          <p:spPr>
            <a:xfrm>
              <a:off x="7194960" y="891360"/>
              <a:ext cx="120600" cy="44640"/>
            </a:xfrm>
            <a:prstGeom prst="pie">
              <a:avLst/>
            </a:prstGeom>
            <a:solidFill>
              <a:srgbClr val="23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12"/>
            <p:cNvSpPr/>
            <p:nvPr/>
          </p:nvSpPr>
          <p:spPr>
            <a:xfrm>
              <a:off x="7499160" y="875160"/>
              <a:ext cx="118440" cy="44640"/>
            </a:xfrm>
            <a:prstGeom prst="pie">
              <a:avLst/>
            </a:prstGeom>
            <a:solidFill>
              <a:srgbClr val="23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13"/>
            <p:cNvSpPr/>
            <p:nvPr/>
          </p:nvSpPr>
          <p:spPr>
            <a:xfrm>
              <a:off x="7347240" y="821880"/>
              <a:ext cx="117720" cy="44640"/>
            </a:xfrm>
            <a:prstGeom prst="pie">
              <a:avLst/>
            </a:prstGeom>
            <a:solidFill>
              <a:srgbClr val="23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14"/>
            <p:cNvSpPr/>
            <p:nvPr/>
          </p:nvSpPr>
          <p:spPr>
            <a:xfrm>
              <a:off x="7008480" y="972720"/>
              <a:ext cx="120600" cy="44640"/>
            </a:xfrm>
            <a:prstGeom prst="pie">
              <a:avLst/>
            </a:prstGeom>
            <a:solidFill>
              <a:srgbClr val="23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15"/>
            <p:cNvSpPr/>
            <p:nvPr/>
          </p:nvSpPr>
          <p:spPr>
            <a:xfrm>
              <a:off x="6814080" y="946440"/>
              <a:ext cx="117720" cy="44640"/>
            </a:xfrm>
            <a:prstGeom prst="pie">
              <a:avLst/>
            </a:prstGeom>
            <a:solidFill>
              <a:srgbClr val="23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16"/>
            <p:cNvSpPr/>
            <p:nvPr/>
          </p:nvSpPr>
          <p:spPr>
            <a:xfrm>
              <a:off x="6853680" y="709200"/>
              <a:ext cx="81000" cy="97920"/>
            </a:xfrm>
            <a:prstGeom prst="pie">
              <a:avLst/>
            </a:prstGeom>
            <a:solidFill>
              <a:srgbClr val="23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17"/>
            <p:cNvSpPr/>
            <p:nvPr/>
          </p:nvSpPr>
          <p:spPr>
            <a:xfrm>
              <a:off x="6766560" y="711720"/>
              <a:ext cx="63000" cy="93960"/>
            </a:xfrm>
            <a:prstGeom prst="pie">
              <a:avLst/>
            </a:prstGeom>
            <a:solidFill>
              <a:srgbClr val="23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18"/>
            <p:cNvSpPr/>
            <p:nvPr/>
          </p:nvSpPr>
          <p:spPr>
            <a:xfrm>
              <a:off x="7000560" y="736200"/>
              <a:ext cx="44640" cy="83160"/>
            </a:xfrm>
            <a:prstGeom prst="pie">
              <a:avLst/>
            </a:prstGeom>
            <a:solidFill>
              <a:srgbClr val="23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19"/>
            <p:cNvSpPr/>
            <p:nvPr/>
          </p:nvSpPr>
          <p:spPr>
            <a:xfrm>
              <a:off x="7084800" y="783000"/>
              <a:ext cx="49680" cy="71280"/>
            </a:xfrm>
            <a:prstGeom prst="pie">
              <a:avLst/>
            </a:prstGeom>
            <a:solidFill>
              <a:srgbClr val="23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20"/>
            <p:cNvSpPr/>
            <p:nvPr/>
          </p:nvSpPr>
          <p:spPr>
            <a:xfrm>
              <a:off x="6640200" y="746280"/>
              <a:ext cx="52920" cy="65160"/>
            </a:xfrm>
            <a:prstGeom prst="pie">
              <a:avLst/>
            </a:prstGeom>
            <a:solidFill>
              <a:srgbClr val="23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21"/>
            <p:cNvSpPr/>
            <p:nvPr/>
          </p:nvSpPr>
          <p:spPr>
            <a:xfrm>
              <a:off x="7331400" y="1009800"/>
              <a:ext cx="312480" cy="297360"/>
            </a:xfrm>
            <a:prstGeom prst="pie">
              <a:avLst/>
            </a:prstGeom>
            <a:solidFill>
              <a:srgbClr val="23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22"/>
            <p:cNvSpPr/>
            <p:nvPr/>
          </p:nvSpPr>
          <p:spPr>
            <a:xfrm>
              <a:off x="6766560" y="1037880"/>
              <a:ext cx="567360" cy="303840"/>
            </a:xfrm>
            <a:prstGeom prst="pie">
              <a:avLst/>
            </a:prstGeom>
            <a:solidFill>
              <a:srgbClr val="23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23"/>
            <p:cNvSpPr/>
            <p:nvPr/>
          </p:nvSpPr>
          <p:spPr>
            <a:xfrm>
              <a:off x="6937560" y="1677240"/>
              <a:ext cx="1002960" cy="181440"/>
            </a:xfrm>
            <a:prstGeom prst="pie">
              <a:avLst/>
            </a:prstGeom>
            <a:solidFill>
              <a:srgbClr val="23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65400" y="580680"/>
            <a:ext cx="6605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’s Get On The B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3" descr="inpcrch11"/>
          <p:cNvPicPr/>
          <p:nvPr/>
        </p:nvPicPr>
        <p:blipFill>
          <a:blip r:embed="rId1"/>
          <a:stretch/>
        </p:blipFill>
        <p:spPr>
          <a:xfrm>
            <a:off x="4756320" y="3484440"/>
            <a:ext cx="4103640" cy="238464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76" name="Text Box 4"/>
          <p:cNvSpPr/>
          <p:nvPr/>
        </p:nvSpPr>
        <p:spPr>
          <a:xfrm>
            <a:off x="520560" y="1754280"/>
            <a:ext cx="8042400" cy="449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hen the kids arrived in front of the Taj Mahal, a police officer told them to catch a bus back to their hotel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bus had 5 benches that held 2 people each,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2 benches that held 3 people,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 back seat that held 5 people,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nd had additional standing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oom for 2/3 the amount of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total number seated.  </a:t>
            </a:r>
            <a:br>
              <a:rPr sz="2600"/>
            </a:b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How many people are able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to stand on the bu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Investigate_01"/>
          <p:cNvPicPr/>
          <p:nvPr/>
        </p:nvPicPr>
        <p:blipFill>
          <a:blip r:embed="rId2"/>
          <a:stretch/>
        </p:blipFill>
        <p:spPr>
          <a:xfrm>
            <a:off x="0" y="0"/>
            <a:ext cx="20952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6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53535"/>
                </a:solidFill>
                <a:latin typeface="Verdana"/>
              </a:rPr>
              <a:t>IN-5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71400" y="31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Alle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3" descr="27"/>
          <p:cNvPicPr/>
          <p:nvPr/>
        </p:nvPicPr>
        <p:blipFill>
          <a:blip r:embed="rId1"/>
          <a:srcRect l="0" t="0" r="3783" b="0"/>
          <a:stretch/>
        </p:blipFill>
        <p:spPr>
          <a:xfrm>
            <a:off x="6072120" y="2273400"/>
            <a:ext cx="2685960" cy="369864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81" name="Text Box 4"/>
          <p:cNvSpPr/>
          <p:nvPr/>
        </p:nvSpPr>
        <p:spPr>
          <a:xfrm>
            <a:off x="338040" y="1262160"/>
            <a:ext cx="56311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took the kids 20 minutes to travel through the notorious alley to the bus stop.  Find the length of the alley if  they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1) traveled at a speed of 5 kilometers per hour for the first 10 minute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2) stopped to talk to their doctor friend for 4 minute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3) continued through the alley at a speed of 3 kilometers per hour until they reached the 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53535"/>
                </a:solidFill>
                <a:latin typeface="Verdana"/>
              </a:rPr>
              <a:t>IN-5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uck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Connie was walking down the alley, about 2,000 mls of water splattered next to her feet from a pipe in the wall.  What she did not want to know was that the water contained human waste that had a concentration of 1 million pathogenic bacteria per milliliter. 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many pathogenic bacteria were in the water that splattered next to Connie’s fee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4" descr="InSolve_01"/>
          <p:cNvPicPr/>
          <p:nvPr/>
        </p:nvPicPr>
        <p:blipFill>
          <a:blip r:embed="rId1"/>
          <a:stretch/>
        </p:blipFill>
        <p:spPr>
          <a:xfrm>
            <a:off x="0" y="0"/>
            <a:ext cx="21924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Water Splash"/>
          <p:cNvPicPr/>
          <p:nvPr/>
        </p:nvPicPr>
        <p:blipFill>
          <a:blip r:embed="rId2"/>
          <a:stretch/>
        </p:blipFill>
        <p:spPr>
          <a:xfrm>
            <a:off x="2884320" y="4213080"/>
            <a:ext cx="3440160" cy="2264040"/>
          </a:xfrm>
          <a:prstGeom prst="rect">
            <a:avLst/>
          </a:prstGeom>
          <a:ln w="0">
            <a:noFill/>
          </a:ln>
        </p:spPr>
      </p:pic>
      <p:sp>
        <p:nvSpPr>
          <p:cNvPr id="87" name="Text Box 6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b4d39"/>
                </a:solidFill>
                <a:latin typeface="Verdana"/>
              </a:rPr>
              <a:t>IN-5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450720" y="1333440"/>
            <a:ext cx="8221680" cy="38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le the kids were walking down the alley, Summer counted the number of animals.  She counted 60 chickens, which accounted for 40% of the total number of animals in the alley. What was the total number of animals counted by Summ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camels made up 10% of the animals seen in the alley, how many camels were the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pie chart would show the number of camels vs. the number of other animals the bes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7600" y="544680"/>
            <a:ext cx="82756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Counting Camels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4" descr="j0180030[1]"/>
          <p:cNvPicPr/>
          <p:nvPr/>
        </p:nvPicPr>
        <p:blipFill>
          <a:blip r:embed="rId1"/>
          <a:stretch/>
        </p:blipFill>
        <p:spPr>
          <a:xfrm>
            <a:off x="6591240" y="268200"/>
            <a:ext cx="2238480" cy="106056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pic>
        <p:nvPicPr>
          <p:cNvPr id="91" name="Picture 5" descr="InSolve_01"/>
          <p:cNvPicPr/>
          <p:nvPr/>
        </p:nvPicPr>
        <p:blipFill>
          <a:blip r:embed="rId2"/>
          <a:stretch/>
        </p:blipFill>
        <p:spPr>
          <a:xfrm>
            <a:off x="0" y="0"/>
            <a:ext cx="21924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Text Box 6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53535"/>
                </a:solidFill>
                <a:latin typeface="Verdana"/>
              </a:rPr>
              <a:t>IN-5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6881760" y="5996160"/>
            <a:ext cx="226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re information 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232fa"/>
                </a:solidFill>
                <a:uFillTx/>
                <a:latin typeface="Times New Roman"/>
                <a:hlinkClick r:id="rId3"/>
              </a:rPr>
              <a:t>percents and decimal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8"/>
          <p:cNvGrpSpPr/>
          <p:nvPr/>
        </p:nvGrpSpPr>
        <p:grpSpPr>
          <a:xfrm>
            <a:off x="244440" y="4989600"/>
            <a:ext cx="6838920" cy="1868400"/>
            <a:chOff x="244440" y="4989600"/>
            <a:chExt cx="6838920" cy="1868400"/>
          </a:xfrm>
        </p:grpSpPr>
        <p:grpSp>
          <p:nvGrpSpPr>
            <p:cNvPr id="95" name="Group 9"/>
            <p:cNvGrpSpPr/>
            <p:nvPr/>
          </p:nvGrpSpPr>
          <p:grpSpPr>
            <a:xfrm>
              <a:off x="2286000" y="5081760"/>
              <a:ext cx="2662200" cy="1776240"/>
              <a:chOff x="2286000" y="5081760"/>
              <a:chExt cx="2662200" cy="1776240"/>
            </a:xfrm>
          </p:grpSpPr>
          <p:sp>
            <p:nvSpPr>
              <p:cNvPr id="96" name="AutoShape 10"/>
              <p:cNvSpPr/>
              <p:nvPr/>
            </p:nvSpPr>
            <p:spPr>
              <a:xfrm>
                <a:off x="2286000" y="5081760"/>
                <a:ext cx="2662200" cy="177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11"/>
              <p:cNvSpPr/>
              <p:nvPr/>
            </p:nvSpPr>
            <p:spPr>
              <a:xfrm>
                <a:off x="3613320" y="5241960"/>
                <a:ext cx="423720" cy="723960"/>
              </a:xfrm>
              <a:prstGeom prst="pie">
                <a:avLst/>
              </a:prstGeom>
              <a:solidFill>
                <a:srgbClr val="ffcc66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Freeform 12"/>
              <p:cNvSpPr/>
              <p:nvPr/>
            </p:nvSpPr>
            <p:spPr>
              <a:xfrm>
                <a:off x="2892600" y="5245200"/>
                <a:ext cx="1446120" cy="1446120"/>
              </a:xfrm>
              <a:prstGeom prst="pie">
                <a:avLst/>
              </a:prstGeom>
              <a:solidFill>
                <a:srgbClr val="00cc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Line 13"/>
              <p:cNvSpPr/>
              <p:nvPr/>
            </p:nvSpPr>
            <p:spPr>
              <a:xfrm flipV="1">
                <a:off x="3613320" y="5245200"/>
                <a:ext cx="1440" cy="720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Line 14"/>
              <p:cNvSpPr/>
              <p:nvPr/>
            </p:nvSpPr>
            <p:spPr>
              <a:xfrm flipV="1">
                <a:off x="3613320" y="5245200"/>
                <a:ext cx="1440" cy="720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" name="Group 15"/>
            <p:cNvGrpSpPr/>
            <p:nvPr/>
          </p:nvGrpSpPr>
          <p:grpSpPr>
            <a:xfrm>
              <a:off x="244440" y="4989600"/>
              <a:ext cx="2590920" cy="1868400"/>
              <a:chOff x="244440" y="4989600"/>
              <a:chExt cx="2590920" cy="1868400"/>
            </a:xfrm>
          </p:grpSpPr>
          <p:sp>
            <p:nvSpPr>
              <p:cNvPr id="102" name="AutoShape 16"/>
              <p:cNvSpPr/>
              <p:nvPr/>
            </p:nvSpPr>
            <p:spPr>
              <a:xfrm>
                <a:off x="244440" y="4989600"/>
                <a:ext cx="2590920" cy="186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Freeform 17"/>
              <p:cNvSpPr/>
              <p:nvPr/>
            </p:nvSpPr>
            <p:spPr>
              <a:xfrm>
                <a:off x="1536840" y="5213520"/>
                <a:ext cx="706320" cy="1414440"/>
              </a:xfrm>
              <a:prstGeom prst="pie">
                <a:avLst/>
              </a:prstGeom>
              <a:solidFill>
                <a:srgbClr val="ffcc66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Freeform 18"/>
              <p:cNvSpPr/>
              <p:nvPr/>
            </p:nvSpPr>
            <p:spPr>
              <a:xfrm>
                <a:off x="828720" y="5213520"/>
                <a:ext cx="708120" cy="1414440"/>
              </a:xfrm>
              <a:prstGeom prst="pie">
                <a:avLst/>
              </a:prstGeom>
              <a:solidFill>
                <a:srgbClr val="00cc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Line 19"/>
              <p:cNvSpPr/>
              <p:nvPr/>
            </p:nvSpPr>
            <p:spPr>
              <a:xfrm flipV="1">
                <a:off x="1536840" y="5213520"/>
                <a:ext cx="1440" cy="7063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Line 20"/>
              <p:cNvSpPr/>
              <p:nvPr/>
            </p:nvSpPr>
            <p:spPr>
              <a:xfrm flipV="1">
                <a:off x="1536840" y="5213520"/>
                <a:ext cx="1440" cy="7063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" name="Group 21"/>
            <p:cNvGrpSpPr/>
            <p:nvPr/>
          </p:nvGrpSpPr>
          <p:grpSpPr>
            <a:xfrm>
              <a:off x="4573440" y="5043600"/>
              <a:ext cx="2509920" cy="1814400"/>
              <a:chOff x="4573440" y="5043600"/>
              <a:chExt cx="2509920" cy="1814400"/>
            </a:xfrm>
          </p:grpSpPr>
          <p:sp>
            <p:nvSpPr>
              <p:cNvPr id="108" name="AutoShape 22"/>
              <p:cNvSpPr/>
              <p:nvPr/>
            </p:nvSpPr>
            <p:spPr>
              <a:xfrm>
                <a:off x="4573440" y="5043600"/>
                <a:ext cx="2509920" cy="181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Freeform 23"/>
              <p:cNvSpPr/>
              <p:nvPr/>
            </p:nvSpPr>
            <p:spPr>
              <a:xfrm>
                <a:off x="5143680" y="5265720"/>
                <a:ext cx="1361880" cy="1362240"/>
              </a:xfrm>
              <a:prstGeom prst="pie">
                <a:avLst/>
              </a:prstGeom>
              <a:solidFill>
                <a:srgbClr val="ffcc66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Freeform 24"/>
              <p:cNvSpPr/>
              <p:nvPr/>
            </p:nvSpPr>
            <p:spPr>
              <a:xfrm>
                <a:off x="5143680" y="5265720"/>
                <a:ext cx="680760" cy="681120"/>
              </a:xfrm>
              <a:prstGeom prst="pie">
                <a:avLst/>
              </a:prstGeom>
              <a:solidFill>
                <a:srgbClr val="00cc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Line 25"/>
              <p:cNvSpPr/>
              <p:nvPr/>
            </p:nvSpPr>
            <p:spPr>
              <a:xfrm flipV="1">
                <a:off x="5824440" y="5265720"/>
                <a:ext cx="1800" cy="681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Line 26"/>
              <p:cNvSpPr/>
              <p:nvPr/>
            </p:nvSpPr>
            <p:spPr>
              <a:xfrm flipV="1">
                <a:off x="5824440" y="5265720"/>
                <a:ext cx="1800" cy="681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29840" y="363600"/>
            <a:ext cx="84358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lking Ho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36320" y="1601280"/>
            <a:ext cx="5367240" cy="46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8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Travis had to go home to get his BPC, he walked a path around a heavily crowded park.  How far did he travel around the park if the park was the regular polygon pictured her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ravis walked at a average speed of 8 km per hour, and it only took him 15 minutes to get home, how far had he walked tot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4" descr="WalkBoy"/>
          <p:cNvPicPr/>
          <p:nvPr/>
        </p:nvPicPr>
        <p:blipFill>
          <a:blip r:embed="rId1"/>
          <a:stretch/>
        </p:blipFill>
        <p:spPr>
          <a:xfrm>
            <a:off x="6249960" y="963720"/>
            <a:ext cx="2462400" cy="24429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InSolve_01"/>
          <p:cNvPicPr/>
          <p:nvPr/>
        </p:nvPicPr>
        <p:blipFill>
          <a:blip r:embed="rId2"/>
          <a:stretch/>
        </p:blipFill>
        <p:spPr>
          <a:xfrm>
            <a:off x="0" y="0"/>
            <a:ext cx="21924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6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53535"/>
                </a:solidFill>
                <a:latin typeface="Verdana"/>
              </a:rPr>
              <a:t>IN-6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Group 7"/>
          <p:cNvGrpSpPr/>
          <p:nvPr/>
        </p:nvGrpSpPr>
        <p:grpSpPr>
          <a:xfrm>
            <a:off x="5867280" y="3733920"/>
            <a:ext cx="2667240" cy="2881080"/>
            <a:chOff x="5867280" y="3733920"/>
            <a:chExt cx="2667240" cy="2881080"/>
          </a:xfrm>
        </p:grpSpPr>
        <p:sp>
          <p:nvSpPr>
            <p:cNvPr id="119" name="AutoShape 8"/>
            <p:cNvSpPr/>
            <p:nvPr/>
          </p:nvSpPr>
          <p:spPr>
            <a:xfrm>
              <a:off x="5867280" y="4038480"/>
              <a:ext cx="2590920" cy="2133720"/>
            </a:xfrm>
            <a:prstGeom prst="hexagon">
              <a:avLst>
                <a:gd name="adj" fmla="val 30357"/>
                <a:gd name="vf" fmla="val 115470"/>
              </a:avLst>
            </a:prstGeom>
            <a:solidFill>
              <a:srgbClr val="99cc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0" name="Picture 9" descr="MCj04063900000[1]"/>
            <p:cNvPicPr/>
            <p:nvPr/>
          </p:nvPicPr>
          <p:blipFill>
            <a:blip r:embed="rId3"/>
            <a:stretch/>
          </p:blipFill>
          <p:spPr>
            <a:xfrm>
              <a:off x="6781680" y="4572000"/>
              <a:ext cx="711360" cy="91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Text Box 10"/>
            <p:cNvSpPr/>
            <p:nvPr/>
          </p:nvSpPr>
          <p:spPr>
            <a:xfrm>
              <a:off x="6781680" y="6248520"/>
              <a:ext cx="91440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 Box 11"/>
            <p:cNvSpPr/>
            <p:nvPr/>
          </p:nvSpPr>
          <p:spPr>
            <a:xfrm>
              <a:off x="6705720" y="6248520"/>
              <a:ext cx="914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0.3 m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12"/>
            <p:cNvSpPr/>
            <p:nvPr/>
          </p:nvSpPr>
          <p:spPr>
            <a:xfrm>
              <a:off x="6172200" y="3733920"/>
              <a:ext cx="304920" cy="2286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13"/>
            <p:cNvSpPr/>
            <p:nvPr/>
          </p:nvSpPr>
          <p:spPr>
            <a:xfrm>
              <a:off x="6629400" y="3886200"/>
              <a:ext cx="11430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14"/>
            <p:cNvSpPr/>
            <p:nvPr/>
          </p:nvSpPr>
          <p:spPr>
            <a:xfrm>
              <a:off x="8001000" y="4114800"/>
              <a:ext cx="533520" cy="83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15"/>
            <p:cNvSpPr/>
            <p:nvPr/>
          </p:nvSpPr>
          <p:spPr>
            <a:xfrm flipH="1">
              <a:off x="8001000" y="5257800"/>
              <a:ext cx="533520" cy="9144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16"/>
            <p:cNvSpPr/>
            <p:nvPr/>
          </p:nvSpPr>
          <p:spPr>
            <a:xfrm>
              <a:off x="8001000" y="6248520"/>
              <a:ext cx="304920" cy="2286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60240" y="469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veling to Ind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71600" y="1939680"/>
            <a:ext cx="7772400" cy="445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you wanted to travel to Agra, India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didn’t have a BPC to transpor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, how would you get ther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are many kinds of transportation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could use to get to Agra, India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though some would be faster than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s, and take less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’s play a game with some of th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oices, and look at the math tha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es with th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4" descr="MPj03992990000[1]"/>
          <p:cNvPicPr/>
          <p:nvPr/>
        </p:nvPicPr>
        <p:blipFill>
          <a:blip r:embed="rId1"/>
          <a:stretch/>
        </p:blipFill>
        <p:spPr>
          <a:xfrm>
            <a:off x="6638760" y="2044800"/>
            <a:ext cx="2113200" cy="3198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4:43:42Z</dcterms:created>
  <dc:creator>Vince Hardy</dc:creator>
  <dc:description/>
  <dc:language>en-US</dc:language>
  <cp:lastModifiedBy>Hannah</cp:lastModifiedBy>
  <dcterms:modified xsi:type="dcterms:W3CDTF">2009-03-08T00:56:11Z</dcterms:modified>
  <cp:revision>17</cp:revision>
  <dc:subject/>
  <dc:title>Slide 1</dc:title>
</cp:coreProperties>
</file>