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06E5-A238-4A56-B5D7-28ECBB72F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B87AA-6441-4EE5-93C3-71022AFB8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3619C-BDCA-4DD5-B783-85C8A118B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1399B-B7D8-4224-8AF4-C00E55072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C725E-4426-4261-98F8-1E8BA3796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14D1A-A5E8-49AB-8871-A3267538B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71AF3-64A8-47D0-8195-8314C6826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21AE8-B5E4-4BC2-9C7F-94406CD5D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13DBC-BF25-414F-AF48-DB2655129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36B13-1228-40E1-BA3D-37841B18C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96A46-4209-4098-AA21-A4DC52E9B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A6266-7C35-45FF-9F0D-6CC4F4B3D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0FEAE-81DA-465B-AB40-CE85A9DAD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1AE6-91C9-428E-AE6F-7F7DD042D6D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233600"/>
            <a:ext cx="7772400" cy="1600200"/>
          </a:xfrm>
          <a:prstGeom prst="rect">
            <a:avLst/>
          </a:prstGeom>
          <a:noFill/>
          <a:ln w="0">
            <a:noFill/>
          </a:ln>
        </p:spPr>
        <p:txBody>
          <a:bodyPr anchor="t">
            <a:normAutofit fontScale="73000"/>
          </a:bodyPr>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do you find a city or other location on a world map or globe?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might be easy to find Dallas, Texas, but what if you were asked to find San Miguel, Argentina?  Where would you begin to look?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50" name="" descr=""/>
          <p:cNvPicPr/>
          <p:nvPr/>
        </p:nvPicPr>
        <p:blipFill>
          <a:blip r:embed="rId2"/>
          <a:stretch/>
        </p:blipFill>
        <p:spPr>
          <a:xfrm>
            <a:off x="3516480" y="1428840"/>
            <a:ext cx="2158920" cy="25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388800"/>
            <a:ext cx="7772400" cy="6181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en geographers use the term “absolute location” they are referring to the global address of a place.  </a:t>
            </a:r>
            <a:endParaRPr b="0" lang="en-US" sz="3200" spc="-1" strike="noStrike">
              <a:solidFill>
                <a:srgbClr val="ebebeb"/>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Absolute location</a:t>
            </a:r>
            <a:r>
              <a:rPr b="0" lang="en-US" sz="2800" spc="-1" strike="noStrike">
                <a:solidFill>
                  <a:srgbClr val="ebebeb"/>
                </a:solidFill>
                <a:latin typeface="Times New Roman"/>
              </a:rPr>
              <a:t> is the location of a place on the earth’s surface stated in terms of latitude and longitude.  </a:t>
            </a:r>
            <a:endParaRPr b="0" lang="en-US" sz="28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find the absolute location of a place on the earth’s surfac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look to see if it is in the Northern Hemisphere or the Southern Hemispher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n, look to see if it is in the Western Hemisphere or the Eastern Hemisphere.</a:t>
            </a:r>
            <a:endParaRPr b="0" lang="en-US" sz="2400" spc="-1" strike="noStrike">
              <a:solidFill>
                <a:srgbClr val="ebebeb"/>
              </a:solidFill>
              <a:latin typeface="Times New Roman"/>
            </a:endParaRPr>
          </a:p>
          <a:p>
            <a:pPr marL="343080" indent="-343080">
              <a:lnSpc>
                <a:spcPct val="8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find its exact location using lines of latitude and longitude.</a:t>
            </a:r>
            <a:r>
              <a:rPr b="0" lang="en-US" sz="2000" spc="-1" strike="noStrike">
                <a:solidFill>
                  <a:srgbClr val="ebebeb"/>
                </a:solidFill>
                <a:latin typeface="Times New Roman"/>
              </a:rPr>
              <a:t>  </a:t>
            </a:r>
            <a:endParaRPr b="0" lang="en-US" sz="2000" spc="-1" strike="noStrike">
              <a:solidFill>
                <a:srgbClr val="ebebeb"/>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sp>
        <p:nvSpPr>
          <p:cNvPr id="189" name=""/>
          <p:cNvSpPr/>
          <p:nvPr/>
        </p:nvSpPr>
        <p:spPr>
          <a:xfrm>
            <a:off x="611280" y="5710320"/>
            <a:ext cx="7916760" cy="1535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0" name="" descr=""/>
          <p:cNvPicPr/>
          <p:nvPr/>
        </p:nvPicPr>
        <p:blipFill>
          <a:blip r:embed="rId2"/>
          <a:stretch/>
        </p:blipFill>
        <p:spPr>
          <a:xfrm>
            <a:off x="311040" y="665280"/>
            <a:ext cx="8521920" cy="49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11040" y="243000"/>
            <a:ext cx="8521920" cy="4997160"/>
            <a:chOff x="311040" y="243000"/>
            <a:chExt cx="8521920" cy="4997160"/>
          </a:xfrm>
        </p:grpSpPr>
        <p:pic>
          <p:nvPicPr>
            <p:cNvPr id="197" name="" descr=""/>
            <p:cNvPicPr/>
            <p:nvPr/>
          </p:nvPicPr>
          <p:blipFill>
            <a:blip r:embed="rId2"/>
            <a:stretch/>
          </p:blipFill>
          <p:spPr>
            <a:xfrm>
              <a:off x="311040" y="243000"/>
              <a:ext cx="8521920" cy="4997160"/>
            </a:xfrm>
            <a:prstGeom prst="rect">
              <a:avLst/>
            </a:prstGeom>
            <a:ln w="0">
              <a:noFill/>
            </a:ln>
          </p:spPr>
        </p:pic>
        <p:sp>
          <p:nvSpPr>
            <p:cNvPr id="198" name=""/>
            <p:cNvSpPr/>
            <p:nvPr/>
          </p:nvSpPr>
          <p:spPr>
            <a:xfrm rot="21267000">
              <a:off x="2117520" y="1955520"/>
              <a:ext cx="352440" cy="415800"/>
            </a:xfrm>
            <a:prstGeom prst="ellipse">
              <a:avLst/>
            </a:prstGeom>
            <a:noFill/>
            <a:ln w="414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360360" y="5372280"/>
            <a:ext cx="8521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ook for the circle around Mexico.  Were you correc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s global address is about 25° North Latitude and 110° West Longitud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o the absolute location for Mexico is 25° North Latitude and 110° West Longitu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1"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earching for places on a world map or a globe can be time consuming and frustrating.  Sometimes you don’t know where to begin looking! </a:t>
            </a:r>
            <a:endParaRPr b="0" lang="en-US" sz="2800" spc="-1" strike="noStrike">
              <a:solidFill>
                <a:srgbClr val="ebebeb"/>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find a place more quickly if you know its address:  </a:t>
            </a:r>
            <a:endParaRPr b="0" lang="en-US" sz="2800" spc="-1" strike="noStrike">
              <a:solidFill>
                <a:srgbClr val="ebebeb"/>
              </a:solidFill>
              <a:latin typeface="Times New Roman"/>
            </a:endParaRPr>
          </a:p>
          <a:p>
            <a:pPr marL="312120" indent="-31212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12120" indent="-31212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a:t>
            </a: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800" spc="-1" strike="noStrike">
                <a:solidFill>
                  <a:srgbClr val="ebebeb"/>
                </a:solidFill>
                <a:latin typeface="Times New Roman"/>
              </a:rPr>
              <a:t>All places on Earth have a specific address.  This address makes it easy to find a plac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Places on Earth do not have addresses like Row M, Seat 9 or 4120 Viola Driv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addresses of places on the Earth are given in latitude and longitude.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509400"/>
            <a:ext cx="7772400" cy="5257800"/>
          </a:xfrm>
          <a:prstGeom prst="rect">
            <a:avLst/>
          </a:prstGeom>
          <a:noFill/>
          <a:ln w="0">
            <a:noFill/>
          </a:ln>
        </p:spPr>
        <p:txBody>
          <a:bodyPr anchor="t">
            <a:normAutofit fontScale="95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    </a:t>
            </a:r>
            <a:r>
              <a:rPr b="0" lang="en-US" sz="2600" spc="-1" strike="noStrike">
                <a:solidFill>
                  <a:srgbClr val="ebebeb"/>
                </a:solidFill>
                <a:latin typeface="Times New Roman"/>
              </a:rPr>
              <a:t>The coordinates of a location are like an address for that place.  If you know the coordinates (like 34</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North Latitude and 58</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West Longitude), you can easily find any place on the earth’s surface.  </a:t>
            </a:r>
            <a:endParaRPr b="0" lang="en-US" sz="26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ebeb"/>
              </a:solidFill>
              <a:latin typeface="Times New Roman"/>
            </a:endParaRPr>
          </a:p>
        </p:txBody>
      </p:sp>
      <p:pic>
        <p:nvPicPr>
          <p:cNvPr id="56" name="" descr=""/>
          <p:cNvPicPr/>
          <p:nvPr/>
        </p:nvPicPr>
        <p:blipFill>
          <a:blip r:embed="rId2"/>
          <a:stretch/>
        </p:blipFill>
        <p:spPr>
          <a:xfrm>
            <a:off x="2209680" y="300024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07-17T21:30:20Z</dcterms:modified>
  <cp:revision>111</cp:revision>
  <dc:subject/>
  <dc:title>Locating Places</dc:title>
</cp:coreProperties>
</file>