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2F13-B995-4092-A6BF-BFD87F380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E150-D3C4-4B39-90FB-F712B9741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5343-3FFF-40F2-AFEE-6A6F1FC3D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FF47-FEEB-4C21-ACF3-C4F42F86A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esentation covers the following TEKS: M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 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Solve ratios/rates using multiplication/division of whole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Represent multiplication and division with fractions and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C92E-DA77-4C9E-B237-E5B0525AF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the total number of people who could be seated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5) + 3(2) + 5 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x (2/3)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Represent multiplication and division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proportion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5952-4B33-4CAB-A11A-01F04DB7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problem in parts then add to get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10 m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 x (1 hour/ 60 min) x (5 kilometers/ 1 hour) = .83 kilo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ds did not move at all the next four minutes but we use this time in calculating the time spent traveling the last part of the al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– 10 – 4 = 6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in x (1 hour/ 60 min.) x (3 kilometers/ 1 hour) =.3 kilo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two distances together for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83 + .3 = 1.1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y was 1.13 km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 rates proportion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0C89-96F2-40AF-851B-13E7CB456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amount of water by the concentration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ml x (1,000,000 bacteria/1ml) = 2,000,000,000 bacteria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volume ratio ratios rat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6E63-AEB9-4C85-8D67-00E0CEE4D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the problem bye setting up a propor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/x=40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total number of animals by cross multiplication and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chickens * 100 = 40 * x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6000/40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number of camels multiply 150 by .1 or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x .10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cam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ie chart represents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 rates fraction fractions proportion proportions percent percents percentages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A8A1-BE23-475C-87A9-2EFAD5CC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hexagon is a regular polygon, all of its sides must be of equal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ravis traveled a total of (0.3 miles) x 3 = .9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P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minutes to hou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min x (1hour/ 60min) = .25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ime by the average sp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25hour x (8 km/1hour) = 2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is walked 2 k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, Convert measures within the same measur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t measures rate rates ratio ratios proportion proportions con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7CAE-4C21-4E6D-A0EE-52F3A8F9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ead-in slide to the activity that goes with this mini-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4DF-1B00-45E5-BB98-9E77C56A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0A6-B563-44E5-AD60-754AFD75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1F2-B530-4513-8F68-9113EADD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211-029B-427C-875C-D41BADF5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3A4-3FB8-4E94-AD2F-A5C4590F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7A9-CFB3-4EB6-A6DE-EEEC3D3A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56C-0D9A-4920-A982-FA96527B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83F-8950-4570-9C76-1425F4D6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23F-4201-4A30-835E-D1B09B30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E77-8B14-4018-A14D-AC56A3F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B11-1A5D-47B7-9834-62ED6653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193-82A1-4E2F-9513-0ABD4319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D7BF-9DD0-4021-A783-387EEC407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file:///Appendices/PerDec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232fa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48160" y="1914480"/>
            <a:ext cx="25938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142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5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3232fa"/>
                </a:solidFill>
                <a:uFillTx/>
                <a:latin typeface="Times New Roman"/>
                <a:hlinkClick r:id="rId8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ates using distances and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percents and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92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tory, once the BPC members are transported to the Taj Mahal, they travel through an alley near Shahjahan P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head towards a bus station, where they plan to wait for Travis to rescu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is has to first travel home to get his BPC, and then must locate his friends so he can transport to them in In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383160" y="223920"/>
            <a:ext cx="2482560" cy="1634760"/>
            <a:chOff x="6383160" y="223920"/>
            <a:chExt cx="2482560" cy="1634760"/>
          </a:xfrm>
        </p:grpSpPr>
        <p:sp>
          <p:nvSpPr>
            <p:cNvPr id="55" name="Freeform 5"/>
            <p:cNvSpPr/>
            <p:nvPr/>
          </p:nvSpPr>
          <p:spPr>
            <a:xfrm>
              <a:off x="7670160" y="223920"/>
              <a:ext cx="1050480" cy="74700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6740280" y="1186920"/>
              <a:ext cx="301680" cy="878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8245440" y="868680"/>
              <a:ext cx="125640" cy="10800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6383160" y="964800"/>
              <a:ext cx="2482560" cy="82008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8229600" y="1062720"/>
              <a:ext cx="89280" cy="14292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6546240" y="791280"/>
              <a:ext cx="630000" cy="1425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7194960" y="891360"/>
              <a:ext cx="12060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499160" y="875160"/>
              <a:ext cx="11844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347240" y="821880"/>
              <a:ext cx="11772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7008480" y="972720"/>
              <a:ext cx="12060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6814080" y="946440"/>
              <a:ext cx="11772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6853680" y="709200"/>
              <a:ext cx="81000" cy="9792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6766560" y="711720"/>
              <a:ext cx="63000" cy="939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7000560" y="736200"/>
              <a:ext cx="44640" cy="831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7084800" y="783000"/>
              <a:ext cx="49680" cy="7128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6640200" y="746280"/>
              <a:ext cx="52920" cy="651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7331400" y="1009800"/>
              <a:ext cx="312480" cy="2973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6766560" y="1037880"/>
              <a:ext cx="567360" cy="3038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6937560" y="1677240"/>
              <a:ext cx="1002960" cy="1814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5400" y="580680"/>
            <a:ext cx="660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Get On The 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inpcrch11"/>
          <p:cNvPicPr/>
          <p:nvPr/>
        </p:nvPicPr>
        <p:blipFill>
          <a:blip r:embed="rId1"/>
          <a:stretch/>
        </p:blipFill>
        <p:spPr>
          <a:xfrm>
            <a:off x="4756320" y="3484440"/>
            <a:ext cx="4103640" cy="2384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520560" y="1754280"/>
            <a:ext cx="804240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the kids arrived in front of the Taj Mahal, a police officer told them to catch a bus back to their hot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bus had 5 benches that held 2 people each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benches that held 3 peopl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back seat that held 5 peopl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had additional standing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om for 2/3 the amount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otal number seated.  </a:t>
            </a:r>
            <a:br>
              <a:rPr sz="26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many people are 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to stand on the b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nvestigate_01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ll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27"/>
          <p:cNvPicPr/>
          <p:nvPr/>
        </p:nvPicPr>
        <p:blipFill>
          <a:blip r:embed="rId1"/>
          <a:srcRect l="0" t="0" r="3783" b="0"/>
          <a:stretch/>
        </p:blipFill>
        <p:spPr>
          <a:xfrm>
            <a:off x="6072120" y="2273400"/>
            <a:ext cx="2685960" cy="3698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1" name="Text Box 4"/>
          <p:cNvSpPr/>
          <p:nvPr/>
        </p:nvSpPr>
        <p:spPr>
          <a:xfrm>
            <a:off x="338040" y="1262160"/>
            <a:ext cx="563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ook the kids 20 minutes to travel through the notorious alley to the bus stop.  Find the length of the alley if  the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traveled at a speed of 5 kilometers per hour for the first 10 minu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stopped to talk to their doctor friend for 4 minu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continued through the alley at a speed of 3 kilometers per hour until they reached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u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Connie was walking down the alley, about 2,000 mls of water splattered next to her feet from a pipe in the wall.  What she did not want to know was that the water contained human waste that had a concentration of 1 million pathogenic bacteria per milliliter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pathogenic bacteria were in the water that splattered next to Connie’s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Water Splash"/>
          <p:cNvPicPr/>
          <p:nvPr/>
        </p:nvPicPr>
        <p:blipFill>
          <a:blip r:embed="rId2"/>
          <a:stretch/>
        </p:blipFill>
        <p:spPr>
          <a:xfrm>
            <a:off x="2884320" y="4213080"/>
            <a:ext cx="3440160" cy="2264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5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0720" y="1333440"/>
            <a:ext cx="822168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kids were walking down the alley, Summer counted the number of animals.  She counted 60 chickens, which accounted for 40% of the total number of animals in the alley. What was the total number of animals counted by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mels made up 10% of the animals seen in the alley, how many camels we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ie chart would show the number of camels vs. the number of other animals th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544680"/>
            <a:ext cx="8275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ounting Camel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180030[1]"/>
          <p:cNvPicPr/>
          <p:nvPr/>
        </p:nvPicPr>
        <p:blipFill>
          <a:blip r:embed="rId1"/>
          <a:stretch/>
        </p:blipFill>
        <p:spPr>
          <a:xfrm>
            <a:off x="6591240" y="268200"/>
            <a:ext cx="2238480" cy="106056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pic>
        <p:nvPicPr>
          <p:cNvPr id="91" name="Picture 5" descr="InSolve_01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81760" y="599616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informatio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32fa"/>
                </a:solidFill>
                <a:uFillTx/>
                <a:latin typeface="Times New Roman"/>
                <a:hlinkClick r:id="rId3"/>
              </a:rPr>
              <a:t>percents and decim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244440" y="4989600"/>
            <a:ext cx="6838920" cy="1868400"/>
            <a:chOff x="244440" y="4989600"/>
            <a:chExt cx="6838920" cy="1868400"/>
          </a:xfrm>
        </p:grpSpPr>
        <p:grpSp>
          <p:nvGrpSpPr>
            <p:cNvPr id="95" name="Group 9"/>
            <p:cNvGrpSpPr/>
            <p:nvPr/>
          </p:nvGrpSpPr>
          <p:grpSpPr>
            <a:xfrm>
              <a:off x="2286000" y="5081760"/>
              <a:ext cx="2662200" cy="1776240"/>
              <a:chOff x="2286000" y="5081760"/>
              <a:chExt cx="2662200" cy="1776240"/>
            </a:xfrm>
          </p:grpSpPr>
          <p:sp>
            <p:nvSpPr>
              <p:cNvPr id="96" name="AutoShape 10"/>
              <p:cNvSpPr/>
              <p:nvPr/>
            </p:nvSpPr>
            <p:spPr>
              <a:xfrm>
                <a:off x="2286000" y="5081760"/>
                <a:ext cx="2662200" cy="17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>
                <a:off x="3613320" y="5241960"/>
                <a:ext cx="423720" cy="723960"/>
              </a:xfrm>
              <a:prstGeom prst="pie">
                <a:avLst/>
              </a:prstGeom>
              <a:solidFill>
                <a:srgbClr val="ffcc6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2892600" y="5245200"/>
                <a:ext cx="1446120" cy="1446120"/>
              </a:xfrm>
              <a:prstGeom prst="pie">
                <a:avLst/>
              </a:prstGeom>
              <a:solidFill>
                <a:srgbClr val="00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3"/>
              <p:cNvSpPr/>
              <p:nvPr/>
            </p:nvSpPr>
            <p:spPr>
              <a:xfrm flipV="1">
                <a:off x="3613320" y="5245200"/>
                <a:ext cx="144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4"/>
              <p:cNvSpPr/>
              <p:nvPr/>
            </p:nvSpPr>
            <p:spPr>
              <a:xfrm flipV="1">
                <a:off x="3613320" y="5245200"/>
                <a:ext cx="144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5"/>
            <p:cNvGrpSpPr/>
            <p:nvPr/>
          </p:nvGrpSpPr>
          <p:grpSpPr>
            <a:xfrm>
              <a:off x="244440" y="4989600"/>
              <a:ext cx="2590920" cy="1868400"/>
              <a:chOff x="244440" y="4989600"/>
              <a:chExt cx="2590920" cy="1868400"/>
            </a:xfrm>
          </p:grpSpPr>
          <p:sp>
            <p:nvSpPr>
              <p:cNvPr id="102" name="AutoShape 16"/>
              <p:cNvSpPr/>
              <p:nvPr/>
            </p:nvSpPr>
            <p:spPr>
              <a:xfrm>
                <a:off x="244440" y="4989600"/>
                <a:ext cx="2590920" cy="18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7"/>
              <p:cNvSpPr/>
              <p:nvPr/>
            </p:nvSpPr>
            <p:spPr>
              <a:xfrm>
                <a:off x="1536840" y="5213520"/>
                <a:ext cx="706320" cy="1414440"/>
              </a:xfrm>
              <a:prstGeom prst="pie">
                <a:avLst/>
              </a:prstGeom>
              <a:solidFill>
                <a:srgbClr val="ffcc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8"/>
              <p:cNvSpPr/>
              <p:nvPr/>
            </p:nvSpPr>
            <p:spPr>
              <a:xfrm>
                <a:off x="828720" y="5213520"/>
                <a:ext cx="708120" cy="1414440"/>
              </a:xfrm>
              <a:prstGeom prst="pie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 flipV="1">
                <a:off x="1536840" y="5213520"/>
                <a:ext cx="1440" cy="706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 flipV="1">
                <a:off x="1536840" y="5213520"/>
                <a:ext cx="1440" cy="706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1"/>
            <p:cNvGrpSpPr/>
            <p:nvPr/>
          </p:nvGrpSpPr>
          <p:grpSpPr>
            <a:xfrm>
              <a:off x="4573440" y="5043600"/>
              <a:ext cx="2509920" cy="1814400"/>
              <a:chOff x="4573440" y="5043600"/>
              <a:chExt cx="2509920" cy="1814400"/>
            </a:xfrm>
          </p:grpSpPr>
          <p:sp>
            <p:nvSpPr>
              <p:cNvPr id="108" name="AutoShape 22"/>
              <p:cNvSpPr/>
              <p:nvPr/>
            </p:nvSpPr>
            <p:spPr>
              <a:xfrm>
                <a:off x="4573440" y="5043600"/>
                <a:ext cx="2509920" cy="18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5143680" y="5265720"/>
                <a:ext cx="1361880" cy="1362240"/>
              </a:xfrm>
              <a:prstGeom prst="pie">
                <a:avLst/>
              </a:prstGeom>
              <a:solidFill>
                <a:srgbClr val="ffcc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5143680" y="5265720"/>
                <a:ext cx="680760" cy="681120"/>
              </a:xfrm>
              <a:prstGeom prst="pie">
                <a:avLst/>
              </a:prstGeom>
              <a:solidFill>
                <a:srgbClr val="00c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5824440" y="5265720"/>
                <a:ext cx="1800" cy="68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 flipV="1">
                <a:off x="5824440" y="5265720"/>
                <a:ext cx="1800" cy="68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9840" y="363600"/>
            <a:ext cx="8435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ing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320" y="1601280"/>
            <a:ext cx="536724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vis had to go home to get his BPC, he walked a path around a heavily crowded park.  How far did he travel around the park if the park was the regular polygon pictu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ravis walked at a average speed of 8 km per hour, and it only took him 15 minutes to get home, how far had he walked to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WalkBoy"/>
          <p:cNvPicPr/>
          <p:nvPr/>
        </p:nvPicPr>
        <p:blipFill>
          <a:blip r:embed="rId1"/>
          <a:stretch/>
        </p:blipFill>
        <p:spPr>
          <a:xfrm>
            <a:off x="6249960" y="963720"/>
            <a:ext cx="2462400" cy="24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nSolve_01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867280" y="3733920"/>
            <a:ext cx="2667240" cy="2881080"/>
            <a:chOff x="5867280" y="3733920"/>
            <a:chExt cx="2667240" cy="2881080"/>
          </a:xfrm>
        </p:grpSpPr>
        <p:sp>
          <p:nvSpPr>
            <p:cNvPr id="119" name="AutoShape 8"/>
            <p:cNvSpPr/>
            <p:nvPr/>
          </p:nvSpPr>
          <p:spPr>
            <a:xfrm>
              <a:off x="5867280" y="4038480"/>
              <a:ext cx="2590920" cy="2133720"/>
            </a:xfrm>
            <a:prstGeom prst="hexagon">
              <a:avLst>
                <a:gd name="adj" fmla="val 30357"/>
                <a:gd name="vf" fmla="val 115470"/>
              </a:avLst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9" descr="MCj04063900000[1]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7113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0"/>
            <p:cNvSpPr/>
            <p:nvPr/>
          </p:nvSpPr>
          <p:spPr>
            <a:xfrm>
              <a:off x="6781680" y="6248520"/>
              <a:ext cx="9144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6705720" y="624852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.3 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6172200" y="3733920"/>
              <a:ext cx="3049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6629400" y="3886200"/>
              <a:ext cx="1143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8001000" y="4114800"/>
              <a:ext cx="533520" cy="83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8001000" y="5257800"/>
              <a:ext cx="53352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8001000" y="6248520"/>
              <a:ext cx="3049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024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veling to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1600" y="193968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anted to travel to Agra, Ind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idn’t have a BPC to transp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, how would you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kinds of transport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ould use to get to Agra, Ind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some would be faster th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, and take les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play a game with some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ices, and look at the math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MPj03992990000[1]"/>
          <p:cNvPicPr/>
          <p:nvPr/>
        </p:nvPicPr>
        <p:blipFill>
          <a:blip r:embed="rId1"/>
          <a:stretch/>
        </p:blipFill>
        <p:spPr>
          <a:xfrm>
            <a:off x="6638760" y="2044800"/>
            <a:ext cx="2113200" cy="31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4:43:42Z</dcterms:created>
  <dc:creator>Vince Hardy</dc:creator>
  <dc:description/>
  <dc:language>en-US</dc:language>
  <cp:lastModifiedBy>Hannah</cp:lastModifiedBy>
  <dcterms:modified xsi:type="dcterms:W3CDTF">2009-03-08T00:56:11Z</dcterms:modified>
  <cp:revision>17</cp:revision>
  <dc:subject/>
  <dc:title>Slide 1</dc:title>
</cp:coreProperties>
</file>