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9C21-9018-4820-A640-58E260EF2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9B: The student is expected to: draw on experiences to bring meanings to words in context such as interpreting idioms, multiple-meaning words, and analogies (6-8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61A0-FCAF-4D23-8558-162C6BD16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82B7-11E8-4999-82F1-50C79C03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B722-66F2-4B34-8BFE-5D659D1CA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A479-10FD-457E-B19C-8708EF3B2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6CF0-FABC-4406-A2D2-9BAE3B14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B6AE-3A64-41B5-9693-2DBA083B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6EA2-1E10-47D8-BF04-4915D2D8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8C75-30E5-45BB-81F4-DA002CAD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3087-055D-4A43-A005-08259E46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6CAD-6252-44D5-80D8-31F3361E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6E9D-EA9E-4BCA-84FC-843F689A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F2E2-94FE-43C2-A7F5-0CB36C1B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85EC-E238-44CE-8537-11F7AE5DEF3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76240" y="1314360"/>
            <a:ext cx="73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eaea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760" y="367344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00200" y="1928880"/>
            <a:ext cx="764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Across from the butcher, the acrid smell of shrimp, mussels, and other shellfish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ermea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night air as the fish vendor stirred a thick, iron pot over the tiny flame of a dung fir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troy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mouflag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etrated or passed throug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03280" y="43768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403280" y="49118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405080" y="54482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“Their journey through the park and the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 notoriou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alley shortcut had taken only about twenty minutes, but it seemed like a lifetim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bit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ely, but unfavorably know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nd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403280" y="41450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403280" y="468000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405080" y="521640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171960" y="2790720"/>
            <a:ext cx="2790720" cy="1257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091040" y="467208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6440" y="1900080"/>
            <a:ext cx="8142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49360" indent="-549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Isn’t it about time to head back?’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queri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K.T. breaking the silence.  She set down her rod and began doing jumping jacks, shaking the weathered planks and bouncing all five of her friends.  ‘I need to move!’ 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9360" indent="-549360">
              <a:spcBef>
                <a:spcPts val="2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1680" indent="-3294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estio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1680" indent="-32940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t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1680" indent="-32940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i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03280" y="46306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403280" y="51656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405080" y="570240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4800" y="1905120"/>
            <a:ext cx="802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A chorus of ‘be still’ and ‘stop that’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assail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K.T. and she reluctantly stopped jumping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lmed, reassur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ttacked with arg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rept slowly arou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403280" y="3639960"/>
            <a:ext cx="330120" cy="384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403280" y="42004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405080" y="47498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764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The lines got tangled, and the keypad must have activated when it crashed into my rod,’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surmis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Summer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rpris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uessed; thought without strong evid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pli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403280" y="364320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403280" y="42037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405080" y="475308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The way it looks around here, you could never get lonely in India,’ Summer commented as another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hord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of tourists approached them along the shadowy walkway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455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mass or crow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455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large fiel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455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tree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05320" y="4043520"/>
            <a:ext cx="3176640" cy="238284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403280" y="43927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403280" y="49276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1405080" y="546408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47280" y="1895400"/>
            <a:ext cx="785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Four long, reflecting pools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bisec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icured, formal gardens that lined broad, stone walkways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mold someth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perform an operation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cut or divide into equal or nearly equa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rt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03280" y="36781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403280" y="4213080"/>
            <a:ext cx="330120" cy="38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405080" y="47498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566640">
              <a:spcBef>
                <a:spcPts val="799"/>
              </a:spcBef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It was so massive and yet so perfectly proportioned that it seeme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surreal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spcBef>
                <a:spcPts val="201"/>
              </a:spcBef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racterized by a blurry 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ction, not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l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403280" y="31640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403280" y="369900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405080" y="423540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566640">
              <a:spcBef>
                <a:spcPts val="2001"/>
              </a:spcBef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On and on the recording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dron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in various languages as more police led an ever-increasing number of visitors away from the doorway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spcBef>
                <a:spcPts val="201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oke in a flat, continuous 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oke very lou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peated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403280" y="41353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403280" y="4670280"/>
            <a:ext cx="330120" cy="384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405080" y="52070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01640" y="1927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Across from the butcher,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acri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smell of shrimp, mussels, and other shellfish permeated the night air as the fish vendor stirred a thick, iron pot over the tiny flame of a dung fir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ppeal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ysterio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bitter or sting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403280" y="43768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403280" y="49118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405080" y="54482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2:22:02Z</dcterms:created>
  <dc:creator>Gina Balducci</dc:creator>
  <dc:description/>
  <dc:language>en-US</dc:language>
  <cp:lastModifiedBy>Vince Hardy</cp:lastModifiedBy>
  <dcterms:modified xsi:type="dcterms:W3CDTF">2007-05-03T16:34:58Z</dcterms:modified>
  <cp:revision>88</cp:revision>
  <dc:subject/>
  <dc:title>Vocab Challenge</dc:title>
</cp:coreProperties>
</file>