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cc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69A62-E610-4184-A499-9DA0AAD050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order text: Appendi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76F7D-15A7-4AD1-9A76-B4E909AE9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17575-6204-461F-A239-690458A0E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5B73F-8D4D-4DC8-B1B1-835038A54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AAA35-0282-4527-9455-24D709351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48172-9BDC-445C-9709-7143DAE6F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D359A-1622-489F-BAB8-B597FAF40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AF6AF-81A4-40E3-BAC0-CFB868D88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4B1BD-FAE0-4C48-AA13-E7543DB02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36B24-D002-4B5A-8420-FAE5DCD0B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30C75-E0FB-4BA4-B8A3-69FA8ACE8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663CC-41FC-419A-8C58-46EE2E9A1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23304-96F1-46E0-BB6B-1FDAF686E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c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66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66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66c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C5EB1-30E9-4100-BF3E-D2FF19627D3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ontext Clues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80024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time of day is it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is the landscape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kind of animals are these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re do these animals naturally live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you guess where this picture was taken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1143000"/>
            <a:ext cx="76960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observations can you make from looking at this picture?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1" name="Africa%20344" descr="Africa"/>
          <p:cNvPicPr/>
          <p:nvPr/>
        </p:nvPicPr>
        <p:blipFill>
          <a:blip r:embed="rId2"/>
          <a:stretch/>
        </p:blipFill>
        <p:spPr>
          <a:xfrm>
            <a:off x="469800" y="2438280"/>
            <a:ext cx="3962520" cy="26384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ext is the information that surrounds a particular word or passage that helps determine the meaning of the word or passage.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y examining the context of the previous picture, you were able to guess that the picture was probably taken in Africa.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questions might you ask yourself when assessing the context of a passage of text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sing Context Clues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sing Context Clues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47960" y="1727280"/>
            <a:ext cx="388620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o is the author or speaker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o is the reader or audience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is the passage about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ere does the action take place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n you identify emotions that are expressed in the text? 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</p:txBody>
      </p:sp>
      <p:pic>
        <p:nvPicPr>
          <p:cNvPr id="56" name="QuestionMark" descr=""/>
          <p:cNvPicPr/>
          <p:nvPr/>
        </p:nvPicPr>
        <p:blipFill>
          <a:blip r:embed="rId2"/>
          <a:stretch/>
        </p:blipFill>
        <p:spPr>
          <a:xfrm>
            <a:off x="762120" y="2044800"/>
            <a:ext cx="3325680" cy="32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8T04:03:32Z</dcterms:created>
  <dc:creator>Gina Balducci</dc:creator>
  <dc:description/>
  <dc:language>en-US</dc:language>
  <cp:lastModifiedBy>vhardy</cp:lastModifiedBy>
  <dcterms:modified xsi:type="dcterms:W3CDTF">2002-12-19T23:00:29Z</dcterms:modified>
  <cp:revision>16</cp:revision>
  <dc:subject/>
  <dc:title>Context Clues</dc:title>
</cp:coreProperties>
</file>