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3256A-C963-4339-991C-2CB6452D55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ship between organism and enviro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ship between structure and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ship between organism and enviro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ship between structure and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ship between organism and enviro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ship between structure and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ship between organism and enviro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ship between structure and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ship between organism and enviro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A3B6-6845-4FC6-A526-FB6314EF3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C9D5-DC88-41C4-9A03-690A4C611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7815-F266-44AA-B131-FFCDD2FFC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9613-D13E-4B41-B056-38E948D76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1048-F5EB-4626-BD62-3D7A51D93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69C6-5334-4AA4-A249-AFAFFDD0E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CC13-569F-4F77-9C02-BEE0B6AA2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8FEE-649F-484F-B307-541FAC0E1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230A-E035-444E-B56E-14B105B00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04CE-0919-4BED-9B20-8A2494B76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33DF-5D82-4059-8C7B-CD21E534E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C7EB-6075-40C1-839B-AFC765738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6A9F3-F893-40CE-82B5-55FD950D26EC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er.tamu.edu/curriculum_modules/OrganSystems/Module_3/index.htm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hepnet.com/hepa.html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dc.gov/ncidod/diseases/hepatitis/b/" TargetMode="External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fda.gov/fdac/features/1999/299_hepc.html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fectious Hepatiti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6800" y="5054400"/>
            <a:ext cx="8916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World-Wide Scourg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76720" y="1905120"/>
            <a:ext cx="2892240" cy="2879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1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fectious Hepatitis:</a:t>
            </a:r>
            <a:br>
              <a:rPr sz="4400"/>
            </a:b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 It Is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33240" y="204300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Hepatitis is a disease of the liver caused by a family of viruses.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Common virus types are: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5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5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5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5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5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919840" y="2000160"/>
            <a:ext cx="2778120" cy="440064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1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9108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 it Does – Destroys the Liv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81040" y="26636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cubation period: a week or two to several month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iver cells are killed and replaced with connective tissue (“hardening of the liver”)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toxification capabilities of the liver are impaired.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lick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here for review of how the liver work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disease may trigger liver canc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1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916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Hepatitis A</a:t>
            </a:r>
            <a:br>
              <a:rPr sz="4400"/>
            </a:b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lick here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for mor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77440" y="1419120"/>
            <a:ext cx="4581720" cy="543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Transmission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ating/drinking substances contaminated with feces (fruits, vegetables, raw seafood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Symptom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lu-li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bdominal pai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Jaundi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Preventio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anitation, cooking foods thoroughl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Vaccinatio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219640" y="1905120"/>
            <a:ext cx="1714680" cy="11541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6781680" y="3265560"/>
            <a:ext cx="2057400" cy="9255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5261040" y="4460760"/>
            <a:ext cx="1520640" cy="1863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1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30080" y="22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Hepatitis B</a:t>
            </a:r>
            <a:br>
              <a:rPr sz="4400"/>
            </a:b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lick here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for mor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36240" y="1241280"/>
            <a:ext cx="6442200" cy="53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Transmissio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ver 500 million people are chronic carrier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xual activi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posure to contaminated blood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taminated needles (drug abuse, tattooing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Unsanitary medical or dental procedure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-339480">
              <a:lnSpc>
                <a:spcPct val="85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Symptom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Varies from a few symptoms to relatively sudden death or death from chronic liver disease (15-25% of infected people die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-339480">
              <a:lnSpc>
                <a:spcPct val="85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Preventio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anitary condition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Vaccinatio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7210440" y="750960"/>
            <a:ext cx="1520640" cy="14288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6502320" y="2587680"/>
            <a:ext cx="1463760" cy="1622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159680" y="4599000"/>
            <a:ext cx="1520640" cy="18637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1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Hepatitis B – World Incidenc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320840"/>
            <a:ext cx="838188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8% or more of the population is infected in Africa, S. E. Asia, Middle East (except Israel), Haiti, and the Dominican Republic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-7% is infected in India, the rest of Asia, Israel, Japan, Russia, Amazon River basin, Honduras, and Guatemala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187720" y="2241720"/>
            <a:ext cx="4946400" cy="3431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1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6280" y="193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Hepatitis C</a:t>
            </a:r>
            <a:br>
              <a:rPr sz="4400"/>
            </a:b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lick here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 for mor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1184040"/>
            <a:ext cx="7772400" cy="54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nsmissio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taminated needles (drug abuse, tattooing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xual activi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Unsanitary medical/dental procedure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ymptom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ost (80%) have no symptom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atigue, loss of appetite, nausea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ark uri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bdominal pai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Jaundice, cirrhosi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reventio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anitatio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 vaccination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(drug treatment is under development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6350040" y="3054240"/>
            <a:ext cx="1876320" cy="2079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1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22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Hepatitis C – World Incidenc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4320" y="175896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7-26% of all people in Egypt are infect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-5% are infected in Middle East, eastern Europe, Central America, parts of Africa, and Australi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the U.S., 4 million are infected -- 10,000 die each yea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680000" y="1530360"/>
            <a:ext cx="4065480" cy="496872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8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1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6T22:49:54Z</dcterms:created>
  <dc:creator>Unknown User</dc:creator>
  <dc:description/>
  <dc:language>en-US</dc:language>
  <cp:lastModifiedBy>Jeremiah McNichols</cp:lastModifiedBy>
  <dcterms:modified xsi:type="dcterms:W3CDTF">2005-05-26T17:06:30Z</dcterms:modified>
  <cp:revision>90</cp:revision>
  <dc:subject/>
  <dc:title>Tour of the Ukraine</dc:title>
</cp:coreProperties>
</file>