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4A52-C1AC-42F4-9AA5-B0781F89C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D675E-E165-4D18-8637-BD7ED2C87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80B9-1C79-49E2-B7AB-354CE399E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9AE3-AE59-4876-B253-9457797D5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9B9C-C766-4DFE-B21A-55A24C514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0A3B-ADE8-4DB9-BEFC-50C883DEF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A30FC-F66F-4978-81BD-A6D880A59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E721D-9976-452C-9080-CE33D6602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AB460-BEB2-4571-A6C6-800CFA8D0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33A8-913C-4E99-AC63-7202BBE3A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A7C45-BFB4-4AA6-8B2D-53033E954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1D9B3-0F9B-4332-8383-9B93F5F82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A96A-EC9E-4072-87AC-8C7379C80E1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7562-23B8-4E06-9CF9-E88E5B7EECB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C64E4-7AFD-4861-AD3C-95F15D8B847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E2CB-EC28-413F-8E9F-F5A27576E94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705A-D380-4F4B-953C-85179977135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B994-60C9-4665-A95A-0402CA14E36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9D3F-7E17-4B41-A857-FD52D39271E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EE21-4006-44CE-8AAC-C35B2A95B13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87B23-649F-4875-816C-412456BB563A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Ljlab</cp:lastModifiedBy>
  <cp:lastPrinted>2001-01-16T19:55:21Z</cp:lastPrinted>
  <dcterms:modified xsi:type="dcterms:W3CDTF">2007-07-17T21:20:53Z</dcterms:modified>
  <cp:revision>241</cp:revision>
  <dc:subject/>
  <dc:title>VTPP 423 - PHYSIOLOGY</dc:title>
</cp:coreProperties>
</file>