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F0ED-3582-46C3-BEFB-FE9DCDF76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9A49-65C6-4832-A5E1-B2EEFD0A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2082-4346-405B-B8BD-151174FC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283E-31F8-4A70-93FD-1DC44E41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CE75-3BB5-4D01-991E-0E34F5DB5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A7A1-4F64-4AF0-8147-919E921B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A82A-4B97-4FA8-8871-F5337306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383E-4E48-4C4B-924B-321B41D6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56CA-D6CC-492D-9F6E-7E9EE546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69F4-3872-4A27-8AD2-7A5FAED4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992D-1EB1-4C26-A811-39975E85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A173-B796-47E8-90B6-07E24DB5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7A47-15CA-465C-9946-E3EAB325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7F00-2C07-4FC4-B36E-90C782D8DDF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Texas A&amp;M Veterinary Medicine</cp:lastModifiedBy>
  <dcterms:modified xsi:type="dcterms:W3CDTF">2004-10-27T20:29:36Z</dcterms:modified>
  <cp:revision>24</cp:revision>
  <dc:subject/>
  <dc:title>What Do I Say?</dc:title>
</cp:coreProperties>
</file>