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3BC6-BB7F-4019-9DF6-9E036372D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9FD39-E247-41BC-91A0-6A0EB5BE4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B74FF-137D-454B-AB59-83CA6CAB4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F95CB-A42E-4C46-AF0D-673C26FD3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7E828-4196-4FBC-A0A7-01D1B8DF7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2ED1A-C318-4BEF-B82B-DA49A7A74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4BEA3-6021-4355-8CAC-76EDC77AE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00FA7-8BAF-4674-9A7F-B969648C4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54560-7628-4795-BF6F-8459FCCF4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338B5-5FF0-4284-A17F-C92BF7ADF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3FCFA-4D9C-4D20-BD7D-D7219CF9D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21765-7FB9-4722-B6E1-917F057E8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C6E74-1E70-469D-9878-59A8202F2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BD69-AD8B-40B0-AA4B-5D4E52B43D6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4"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85"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88"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89"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2"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3"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96"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97" name="" descr=""/>
          <p:cNvPicPr/>
          <p:nvPr/>
        </p:nvPicPr>
        <p:blipFill>
          <a:blip r:embed="rId2"/>
          <a:stretch/>
        </p:blipFill>
        <p:spPr>
          <a:xfrm>
            <a:off x="714240" y="1508040"/>
            <a:ext cx="3184560" cy="4710240"/>
          </a:xfrm>
          <a:prstGeom prst="rect">
            <a:avLst/>
          </a:prstGeom>
          <a:ln w="88920">
            <a:solidFill>
              <a:srgbClr val="547052"/>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0"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1"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4"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05"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08"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09"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4"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15"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16"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19"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3"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4"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7"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28"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pic>
        <p:nvPicPr>
          <p:cNvPr id="72"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5"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pic>
        <p:nvPicPr>
          <p:cNvPr id="76"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77" name="" descr=""/>
          <p:cNvPicPr/>
          <p:nvPr/>
        </p:nvPicPr>
        <p:blipFill>
          <a:blip r:embed="rId3"/>
          <a:stretch/>
        </p:blipFill>
        <p:spPr>
          <a:xfrm>
            <a:off x="434880" y="1509840"/>
            <a:ext cx="4967280" cy="3725640"/>
          </a:xfrm>
          <a:prstGeom prst="rect">
            <a:avLst/>
          </a:prstGeom>
          <a:ln w="88920">
            <a:solidFill>
              <a:srgbClr val="547052"/>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0"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pic>
        <p:nvPicPr>
          <p:cNvPr id="81"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Vince Hardy</cp:lastModifiedBy>
  <dcterms:modified xsi:type="dcterms:W3CDTF">2007-01-11T21:11:25Z</dcterms:modified>
  <cp:revision>122</cp:revision>
  <dc:subject/>
  <dc:title>Tour of the Ukraine</dc:title>
</cp:coreProperties>
</file>