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9 (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94928-968C-4A1D-B662-C86072E915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666FE-A23A-455E-A3DB-50F3EDC15A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DFBD0-D0A8-4D43-A453-46B310CEC5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F2028-C38D-4FC3-BA4D-D4A5FC7241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B5031-9BAF-4A96-88AC-7192347567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5F41E-D37F-4683-A5CD-87B245EB88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90001-ACFA-42C9-B945-6FDCC92BCA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78FE3-6D57-4152-8D38-CA1627CCD3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5EF58-1423-4000-AF6E-62AF4F88C6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961C7-8317-4DE3-9F4D-38D3ABC1D0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57360-0980-4A82-9102-781592F74F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53259-866C-4B65-BAE6-8D580F6182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970C9-BAF3-42ED-B6C2-D06352078AAB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22960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Theoretical 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- the ratio of the number of ways the event can occur to the number of possible outcomes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P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(event)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ways the event can occu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possible outcome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90920" y="4191120"/>
            <a:ext cx="60195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F0537-CA1D-42BB-B070-66647DBEED2A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3560" y="1213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	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Occurre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0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Cannot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Not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2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50-50 cha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Very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Always occurs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9FE92-D351-4545-A901-4D535D332159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153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00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438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14400" y="2514600"/>
            <a:ext cx="7315200" cy="0"/>
          </a:xfrm>
          <a:prstGeom prst="line">
            <a:avLst/>
          </a:prstGeom>
          <a:ln w="5724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nnot      Not Likely     50-50      Very Likely      Certai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ccur        to Occur       Chance      to Occur         to Occu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 = 0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P = 1/4          P = 1/2           P = 3/4         P = 1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= 0 %      = 25%         = 50%         = 75%     = 100%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te: The closer the probability is to 1, the more likely the event is to occur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90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55308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305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1295280"/>
            <a:ext cx="12189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28800" y="1295280"/>
            <a:ext cx="175248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09880" y="1295280"/>
            <a:ext cx="121932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81480" y="1295280"/>
            <a:ext cx="198144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391520" y="1295280"/>
            <a:ext cx="14475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A46EE-D26C-4624-A0C2-1FD4A8FC7CBB}" type="slidenum">
              <a:t>3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50Z</dcterms:modified>
  <cp:revision>207</cp:revision>
  <dc:subject/>
  <dc:title>VTPP 423 - PHYSIOLOGY</dc:title>
</cp:coreProperties>
</file>