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10.jpeg" ContentType="image/jpeg"/>
  <Override PartName="/ppt/media/image9.png" ContentType="image/png"/>
  <Override PartName="/ppt/media/image8.wmf" ContentType="image/x-wmf"/>
  <Override PartName="/ppt/media/image11.png" ContentType="image/png"/>
  <Override PartName="/ppt/media/image19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B53C-5BD7-4DC0-84F3-1884A71E1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A6F2-6F2D-4D96-87F5-D06934A23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CE68-950C-4BA8-AEFE-060A08B0D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population in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/200) = 0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exposure: 1/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Jace has a one out of 200 chance of being exposed to hepatitis though an infected need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,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Represent ratios and percents with models, fractions, deci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B) Find the probabilities of a simple event and its com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rate rates probability probabilities percent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4FE3-8F2A-4815-84FE-2096DE9D5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tattoo: ¼ =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tattoo: 2/4 = ½ = 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tattoo: 2/6 = 1/3 = 33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Represent ratios and percents with models, fractions, deci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Communicate mathematical ideas using words, graphs, and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0934-028F-4E5C-A2EB-0755C80E2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a lead in to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974F-164C-4B82-AC4E-2DD9D89C2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C3AE-5FF1-4188-89AB-947E59D69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resentation will cover the following TEKS: M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C) Integers in real-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B) Equivalent forms of numb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 Solve ratios/rates using multiplication/division of whole 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) Represent ratios and percents with models, fractions, decima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Formulate equation from problem si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Find the probabilities of a simple event and its co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Describe data using median, mode, an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A) Communicate mathematical ideas using words, graphs, and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A)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2 (A) Describe a set of data using mean, median, mode, an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33BB-5AA2-4855-A953-33751B6FA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exchange rate propor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USD/48.9INR = X/2445I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X equals the amount of money in U.S. dollars for a tattoo of the Taj Mah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.9 x X = 24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445/48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50 U.S. dol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,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rates proportions rupees us dollars exchang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4E83-0AFE-4FD3-87C7-7D7C80EFA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hould be solved using the cost of the tatto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0 x 100 = 5,00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5,000 c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,401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7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rates propor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AAB5-624A-40A5-829D-DF82C4049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50 kg by 1.4%.  (1.4%=. 0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kg x .014 = .7 kg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your answer is still in kilograms it needs to be converted to grams.  Do this using a conversion of 1,000g = 1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7kg x (1,000g/1kg) = 700 grams or 7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quation the kg cancel leaving you with the final answer in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Jace needs to donate 1,400 ml of plasma so he would not be able to safely donate enough plasma for his Taj Mahal souven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, Equivalent forms of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A) Estimate and find solutions to application problems involving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ratio ratios rates proportions percent percents conversion conversions volume mass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C2E4-7A77-4F31-8F9A-8B0C79005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the amount his friends can safely do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: 36kg x .014 =  .504, 504 grams, or 504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is: 45kg x .014 = .63kg, 630 grams, or 630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: 41kg x .014 = .574kg , 574 grams, or 574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= (504 + 630 + 574)/3 = 569.3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= 5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, Equivalent forms of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 Formulate equation from problem sit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, Describe data using median, mode,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2 (A) Describe a set of data using mean, median, mode,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percent mean median 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264F-2542-4AE4-8555-C41641F77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l = 1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g = 700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how many ounces are in 700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ml x (1oz/29.57) = 23.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nswer by 12oz to solve for the number of c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.67oz/12oz = 1.97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e can safely donate almost 2 full, 12 oz soda cans in plas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, Equivalent form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volume conversions conv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671-C1B6-4156-AC92-55A62C5C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E98-B98B-44DB-9794-C1088AB6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F2C-6387-4FDF-BBD8-28F4FA59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204-468F-4267-A0CE-12ACE68E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99C-FB6C-4A5F-A766-9B6B9DC4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E12-1520-4DB9-9CD1-484AD294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1FAB-F636-4E62-9E7F-009841EE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6397-D841-42EE-9CB7-B516CF80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46B-22E0-4A83-8021-8A6BA86A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D14-5023-4BB3-9329-0530111B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60F-9A89-4102-8913-131972DE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DFE-2578-4A56-8734-394056A1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FB7B-C096-4A4A-B70C-0A8462ACA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id"/>
          <p:cNvPicPr/>
          <p:nvPr/>
        </p:nvPicPr>
        <p:blipFill>
          <a:blip r:embed="rId1"/>
          <a:stretch/>
        </p:blipFill>
        <p:spPr>
          <a:xfrm>
            <a:off x="1219320" y="533520"/>
            <a:ext cx="6591240" cy="2752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71808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http://peer.tamu.edu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84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Serious 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nSolve_01"/>
          <p:cNvPicPr/>
          <p:nvPr/>
        </p:nvPicPr>
        <p:blipFill>
          <a:blip r:embed="rId1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620640" y="1397160"/>
            <a:ext cx="790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dia about 1 in 200 people are infected with hepatitis.  What percent of the population is infected with hepatiti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ould Jace’s probability of being exposed to hepatitis be, if he got a tattoo and the needle was not cleaned between him and the last custo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5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Cj00787080000[1]"/>
          <p:cNvPicPr/>
          <p:nvPr/>
        </p:nvPicPr>
        <p:blipFill>
          <a:blip r:embed="rId2"/>
          <a:stretch/>
        </p:blipFill>
        <p:spPr>
          <a:xfrm>
            <a:off x="2584440" y="4527720"/>
            <a:ext cx="6362640" cy="2195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923760" y="61959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out more information on ratios and prob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ttoo shop in India had these 3 tattoos to offer.  What percent of each tattoo is covered by in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363960" y="4123800"/>
            <a:ext cx="7433640" cy="2185560"/>
            <a:chOff x="363960" y="4123800"/>
            <a:chExt cx="7433640" cy="2185560"/>
          </a:xfrm>
        </p:grpSpPr>
        <p:grpSp>
          <p:nvGrpSpPr>
            <p:cNvPr id="94" name="Group 4"/>
            <p:cNvGrpSpPr/>
            <p:nvPr/>
          </p:nvGrpSpPr>
          <p:grpSpPr>
            <a:xfrm>
              <a:off x="3250800" y="4317840"/>
              <a:ext cx="4546800" cy="1599480"/>
              <a:chOff x="3250800" y="4317840"/>
              <a:chExt cx="4546800" cy="159948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3251160" y="4424400"/>
                <a:ext cx="1585800" cy="149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6"/>
              <p:cNvSpPr/>
              <p:nvPr/>
            </p:nvSpPr>
            <p:spPr>
              <a:xfrm>
                <a:off x="3251160" y="5170680"/>
                <a:ext cx="1585800" cy="7466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7"/>
              <p:cNvSpPr/>
              <p:nvPr/>
            </p:nvSpPr>
            <p:spPr>
              <a:xfrm rot="10800000">
                <a:off x="3250800" y="4424040"/>
                <a:ext cx="1585800" cy="74628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8"/>
              <p:cNvSpPr/>
              <p:nvPr/>
            </p:nvSpPr>
            <p:spPr>
              <a:xfrm>
                <a:off x="6105600" y="4317840"/>
                <a:ext cx="1691640" cy="1492920"/>
              </a:xfrm>
              <a:prstGeom prst="hexagon">
                <a:avLst>
                  <a:gd name="adj" fmla="val 28328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utoShape 9"/>
              <p:cNvSpPr/>
              <p:nvPr/>
            </p:nvSpPr>
            <p:spPr>
              <a:xfrm>
                <a:off x="6105600" y="4317840"/>
                <a:ext cx="845640" cy="746640"/>
              </a:xfrm>
              <a:prstGeom prst="triangle">
                <a:avLst>
                  <a:gd name="adj" fmla="val 50000"/>
                </a:avLst>
              </a:prstGeom>
              <a:solidFill>
                <a:srgbClr val="cc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10"/>
              <p:cNvSpPr/>
              <p:nvPr/>
            </p:nvSpPr>
            <p:spPr>
              <a:xfrm>
                <a:off x="6951600" y="4317840"/>
                <a:ext cx="846000" cy="746640"/>
              </a:xfrm>
              <a:prstGeom prst="triangle">
                <a:avLst>
                  <a:gd name="adj" fmla="val 50000"/>
                </a:avLst>
              </a:prstGeom>
              <a:solidFill>
                <a:srgbClr val="cc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1"/>
              <p:cNvSpPr/>
              <p:nvPr/>
            </p:nvSpPr>
            <p:spPr>
              <a:xfrm flipH="1">
                <a:off x="6528600" y="5064480"/>
                <a:ext cx="422280" cy="74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6951600" y="5064480"/>
                <a:ext cx="423000" cy="74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13"/>
            <p:cNvGrpSpPr/>
            <p:nvPr/>
          </p:nvGrpSpPr>
          <p:grpSpPr>
            <a:xfrm>
              <a:off x="363960" y="4123800"/>
              <a:ext cx="2188800" cy="2185560"/>
              <a:chOff x="363960" y="4123800"/>
              <a:chExt cx="2188800" cy="2185560"/>
            </a:xfrm>
          </p:grpSpPr>
          <p:sp>
            <p:nvSpPr>
              <p:cNvPr id="104" name="Freeform 14"/>
              <p:cNvSpPr/>
              <p:nvPr/>
            </p:nvSpPr>
            <p:spPr>
              <a:xfrm rot="2333400">
                <a:off x="1626120" y="4744800"/>
                <a:ext cx="763920" cy="787320"/>
              </a:xfrm>
              <a:prstGeom prst="pie">
                <a:avLst/>
              </a:prstGeom>
              <a:solidFill>
                <a:srgbClr val="ff99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5"/>
              <p:cNvSpPr/>
              <p:nvPr/>
            </p:nvSpPr>
            <p:spPr>
              <a:xfrm rot="2333400">
                <a:off x="689040" y="4429080"/>
                <a:ext cx="1528560" cy="1575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6"/>
              <p:cNvSpPr/>
              <p:nvPr/>
            </p:nvSpPr>
            <p:spPr>
              <a:xfrm flipV="1">
                <a:off x="1464120" y="4606200"/>
                <a:ext cx="496800" cy="610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7"/>
              <p:cNvSpPr/>
              <p:nvPr/>
            </p:nvSpPr>
            <p:spPr>
              <a:xfrm flipV="1">
                <a:off x="1464120" y="4606200"/>
                <a:ext cx="496800" cy="61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984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ttoos in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58680" y="1981080"/>
            <a:ext cx="722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think it would be safe to get a tattoo in Ind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do an activity, and think about getting a tattoo by doing some mat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984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a Tattoo in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NIEHS"/>
          <p:cNvPicPr/>
          <p:nvPr/>
        </p:nvPicPr>
        <p:blipFill>
          <a:blip r:embed="rId1"/>
          <a:stretch/>
        </p:blipFill>
        <p:spPr>
          <a:xfrm>
            <a:off x="380880" y="198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Peer"/>
          <p:cNvPicPr/>
          <p:nvPr/>
        </p:nvPicPr>
        <p:blipFill>
          <a:blip r:embed="rId2"/>
          <a:stretch/>
        </p:blipFill>
        <p:spPr>
          <a:xfrm>
            <a:off x="3808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ollegeofEdu"/>
          <p:cNvPicPr/>
          <p:nvPr/>
        </p:nvPicPr>
        <p:blipFill>
          <a:blip r:embed="rId3"/>
          <a:stretch/>
        </p:blipFill>
        <p:spPr>
          <a:xfrm>
            <a:off x="380880" y="503064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4760" y="2130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48160" y="2152440"/>
            <a:ext cx="259380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CERH"/>
          <p:cNvPicPr/>
          <p:nvPr/>
        </p:nvPicPr>
        <p:blipFill>
          <a:blip r:embed="rId4"/>
          <a:stretch/>
        </p:blipFill>
        <p:spPr>
          <a:xfrm>
            <a:off x="47242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New CVM logo_ any color"/>
          <p:cNvPicPr/>
          <p:nvPr/>
        </p:nvPicPr>
        <p:blipFill>
          <a:blip r:embed="rId5"/>
          <a:stretch/>
        </p:blipFill>
        <p:spPr>
          <a:xfrm>
            <a:off x="4724280" y="50259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0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2"/>
          <p:cNvGrpSpPr/>
          <p:nvPr/>
        </p:nvGrpSpPr>
        <p:grpSpPr>
          <a:xfrm>
            <a:off x="4643280" y="1981080"/>
            <a:ext cx="1546560" cy="1371600"/>
            <a:chOff x="4643280" y="1981080"/>
            <a:chExt cx="1546560" cy="1371600"/>
          </a:xfrm>
        </p:grpSpPr>
        <p:sp>
          <p:nvSpPr>
            <p:cNvPr id="122" name="Rectangle 13"/>
            <p:cNvSpPr/>
            <p:nvPr/>
          </p:nvSpPr>
          <p:spPr>
            <a:xfrm>
              <a:off x="4724280" y="19810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Object 14"/>
            <p:cNvGraphicFramePr/>
            <p:nvPr/>
          </p:nvGraphicFramePr>
          <p:xfrm>
            <a:off x="4643280" y="21700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4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700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" name="Text Box 15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using ratios for exchange 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percents and prob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r learn graphing on the positive coordinate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4240" y="197964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kids were walking through the alley in India with Dr. Patel, they saw a tattoo shop containing a man who was getting a tat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Patel noticed that the man had yellow eyes, and told the kids it was probably due to a disease called hepatit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tattoos and hepatitis be connected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MCj03980930000[1]"/>
          <p:cNvPicPr/>
          <p:nvPr/>
        </p:nvPicPr>
        <p:blipFill>
          <a:blip r:embed="rId1"/>
          <a:stretch/>
        </p:blipFill>
        <p:spPr>
          <a:xfrm>
            <a:off x="7621560" y="237960"/>
            <a:ext cx="117648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5074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Dollars to Rup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e is thinking about getting a tattoo of the Taj Mahal as a souvenir for the tr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ttoo of the Taj Mahal costs 2445 Indian rupees.  The exchange rate between U.S. dollars and Indian rupees is: 1 USD (US dollars) = 48.9 INR (Indian rupe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will Jace’s souvenir tattoo cost in U.S. doll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InConvert_01"/>
          <p:cNvPicPr/>
          <p:nvPr/>
        </p:nvPicPr>
        <p:blipFill>
          <a:blip r:embed="rId1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rupees2"/>
          <p:cNvPicPr/>
          <p:nvPr/>
        </p:nvPicPr>
        <p:blipFill>
          <a:blip r:embed="rId2"/>
          <a:stretch/>
        </p:blipFill>
        <p:spPr>
          <a:xfrm>
            <a:off x="2359080" y="4657680"/>
            <a:ext cx="4646520" cy="19972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9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7800" y="744120"/>
            <a:ext cx="73422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Hard for my Mo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140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e can earn 3.57 cents per 1 ml of his plasma he donates.  How much plasma would Jace need to donate to pay for his Taj Mahal tattoo?  (Round to the nearest hundre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898560" y="1716120"/>
            <a:ext cx="641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lasma"/>
          <p:cNvPicPr/>
          <p:nvPr/>
        </p:nvPicPr>
        <p:blipFill>
          <a:blip r:embed="rId1"/>
          <a:stretch/>
        </p:blipFill>
        <p:spPr>
          <a:xfrm>
            <a:off x="2330280" y="4208400"/>
            <a:ext cx="4658040" cy="2409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InSolve_01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sma Do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InSolve_01"/>
          <p:cNvPicPr/>
          <p:nvPr/>
        </p:nvPicPr>
        <p:blipFill>
          <a:blip r:embed="rId1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609480" y="1752480"/>
            <a:ext cx="79660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safe for a person to donate 1.4% of their total body mass in plasma per week.  If Jace has a mass of 50 kg and 1 ml of plasma has a mass of 1 gram, how much plasma could he donate in one we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possible for Jace to earn enough money from donating plasma to purchase the Taj Mahal tattoo if he only stays in India for one 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more information on percents and con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4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MCj04080080000[1]"/>
          <p:cNvPicPr/>
          <p:nvPr/>
        </p:nvPicPr>
        <p:blipFill>
          <a:blip r:embed="rId2"/>
          <a:stretch/>
        </p:blipFill>
        <p:spPr>
          <a:xfrm>
            <a:off x="6073920" y="4444920"/>
            <a:ext cx="3006720" cy="28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friends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9000" y="1066320"/>
            <a:ext cx="7775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Jace’s friends decided to donate plasma as well, how much could each safely don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nSolve_01"/>
          <p:cNvPicPr/>
          <p:nvPr/>
        </p:nvPicPr>
        <p:blipFill>
          <a:blip r:embed="rId1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Kids Sitting"/>
          <p:cNvPicPr/>
          <p:nvPr/>
        </p:nvPicPr>
        <p:blipFill>
          <a:blip r:embed="rId2"/>
          <a:stretch/>
        </p:blipFill>
        <p:spPr>
          <a:xfrm>
            <a:off x="7331040" y="617400"/>
            <a:ext cx="1600200" cy="1509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5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2743200"/>
          <a:ext cx="6858000" cy="24145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unt Can Donate (m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29"/>
          <p:cNvSpPr/>
          <p:nvPr/>
        </p:nvSpPr>
        <p:spPr>
          <a:xfrm>
            <a:off x="303120" y="5486400"/>
            <a:ext cx="81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uld be the mean and median of the amount these three can don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up with Plas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1240" y="2306520"/>
            <a:ext cx="450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of your favorite 12 oz soda cans could Jace’s plasma fill?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 oz = 29.57 ml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InSolve_01"/>
          <p:cNvPicPr/>
          <p:nvPr/>
        </p:nvPicPr>
        <p:blipFill>
          <a:blip r:embed="rId1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Soda Can 03"/>
          <p:cNvPicPr/>
          <p:nvPr/>
        </p:nvPicPr>
        <p:blipFill>
          <a:blip r:embed="rId2"/>
          <a:stretch/>
        </p:blipFill>
        <p:spPr>
          <a:xfrm>
            <a:off x="5791320" y="1981080"/>
            <a:ext cx="1977840" cy="39211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5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ttoos and Hepat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3200" y="151128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patitis is a dangerous disease where a person’s liver becomes inflamed due to a virus or tox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ypes hepatitis can be transmitted through needles that have infected blood on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recently, many tattoo parlors would commonly reuse needles, and cases of both AIDS and hepatitis have been traced to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MCj02375950000[1]"/>
          <p:cNvPicPr/>
          <p:nvPr/>
        </p:nvPicPr>
        <p:blipFill>
          <a:blip r:embed="rId1"/>
          <a:stretch/>
        </p:blipFill>
        <p:spPr>
          <a:xfrm>
            <a:off x="7248600" y="220680"/>
            <a:ext cx="1530360" cy="12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4:43:42Z</dcterms:created>
  <dc:creator>Vince Hardy</dc:creator>
  <dc:description/>
  <dc:language>en-US</dc:language>
  <cp:lastModifiedBy>Hannah</cp:lastModifiedBy>
  <dcterms:modified xsi:type="dcterms:W3CDTF">2009-03-08T00:58:34Z</dcterms:modified>
  <cp:revision>17</cp:revision>
  <dc:subject/>
  <dc:title>Slide 1</dc:title>
</cp:coreProperties>
</file>