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A8E28-AE1A-4C46-9A38-62D5C665526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C4EB-52C8-409E-93EC-B8B8C50F1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4080-451E-4DB0-A732-ECCA0801F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AC98-CFA2-4AE0-89B5-EEEA64C8A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F027-3691-4D63-8C76-697720FBB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6CFF-C0D1-4341-90D7-5DC7C67C9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4525-5EC3-43F2-9F70-7FD7E245E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53CE-9FA6-4695-9263-CC88FD920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3292-E51C-4281-BB7F-DE1B06A05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EB62-8299-40BC-AEE1-BB686EB05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8B39-6C42-4BF6-954F-BBCD452DC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7544-D00F-43FC-8376-EDF922A75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B9EE-8E5C-4CDD-915E-58C727775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1E1BF-D0F3-4DE6-AFB1-4F88F0CFC749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373680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ljlab</cp:lastModifiedBy>
  <dcterms:modified xsi:type="dcterms:W3CDTF">2003-09-11T17:15:11Z</dcterms:modified>
  <cp:revision>33</cp:revision>
  <dc:subject/>
  <dc:title>Comparing Apples to Oranges</dc:title>
</cp:coreProperties>
</file>