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98B3-89F2-46D9-A1E3-A0900EA36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26E-F18D-4F5C-A2D8-97EF4F63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B15-76C7-4F20-9C37-1FC2A770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6B3-5ABB-4302-B7F1-02231EAB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BD5-091D-4ECD-BEA7-F5CC4829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8F1-AF0A-4BC4-82B2-8C28B0C4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276-A9DC-47FA-90B7-7D6F0ABF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682-E1C8-4193-9BF1-79D19FCD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E3F-3A33-4C42-8E3D-9CA0190F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060-2FC7-4150-B9E4-205BF476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69A-5349-4E4C-8B8D-5E22A57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359-5F7A-4220-802C-8114634B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95D-19D6-47CD-A1C2-17AE37FA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1BE6-E1C4-4EA9-A5BB-CE070607B0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4T18:03:11Z</dcterms:modified>
  <cp:revision>79</cp:revision>
  <dc:subject/>
  <dc:title>Investigator Challenge Quiz</dc:title>
</cp:coreProperties>
</file>