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912-35C0-4DD2-9A19-04424240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A05-8B96-496C-B8F5-81BDAF4B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D07-5637-4FEE-9935-56DEDCB3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89F8-8009-4387-86A2-CC54D837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057-D233-4DA8-BEBD-C6760415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F498-0083-4B0F-AE99-E82654F5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FD6-2B05-487B-BFA8-2C0BB384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C64-D0D8-4FA4-921B-87EA7D34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1DA-18A4-4244-8DC5-4D40C3D6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A3BF-5BB3-421B-8660-B1B6536B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22F-7054-472B-98D5-78B9E2CD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F69-4DF0-4CEF-9C49-C0FD79F4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DA6F-5012-409D-8683-F1DF4E1262E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19° N.L., 73° E.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4520"/>
            <a:ext cx="9144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8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77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80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22° N.L., 88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1T15:06:07Z</dcterms:created>
  <dc:creator>Instructional Tech Student</dc:creator>
  <dc:description/>
  <dc:language>en-US</dc:language>
  <cp:lastModifiedBy>Texas A&amp;M Veterinary Medicine</cp:lastModifiedBy>
  <dcterms:modified xsi:type="dcterms:W3CDTF">2007-10-16T18:49:54Z</dcterms:modified>
  <cp:revision>338</cp:revision>
  <dc:subject/>
  <dc:title>Hard River Escape</dc:title>
</cp:coreProperties>
</file>