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F0B7-61DB-4092-8DE7-3A641D68B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715D-C77B-411F-9E18-293C6C24D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81E5-CCA9-4023-8A1D-E8D91559D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6F32-41E1-4421-9193-B8FEADC68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1707-7C26-430A-822B-D51200348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909B-7943-4056-AE76-B4EC02752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FC19-5019-4E4B-A02F-11C83046E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72FB8-9E0B-4BD5-97B4-DA0AF518E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A17D-9A38-4EF5-A327-5FC808677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19F8-73EA-434D-AA99-57A88A4E4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7C54-8849-4D63-9718-FDFE249DD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299C-0F1D-47ED-B12F-5C2DE2F24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A415-E9F9-4FFA-8E6D-42CA5F3DB20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2196-94AF-4748-9910-F211A8E4D86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41092-84BC-4F45-948D-EA25CF3AEC5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5E91-9CDD-48E7-B764-7380E63A219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FBD39-E198-47A7-93CD-1CF84734F7F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5C53F-33C2-4282-A81E-8270993A56C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5ABB-595E-43BB-A609-2B66F093596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1805-C92A-493F-8821-BAA9D265759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E1D6-E86B-456C-9EA8-C8C2C2A72A8A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Ljlab</cp:lastModifiedBy>
  <cp:lastPrinted>2001-01-16T19:55:21Z</cp:lastPrinted>
  <dcterms:modified xsi:type="dcterms:W3CDTF">2007-07-17T21:20:53Z</dcterms:modified>
  <cp:revision>241</cp:revision>
  <dc:subject/>
  <dc:title>VTPP 423 - PHYSIOLOGY</dc:title>
</cp:coreProperties>
</file>