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0FB-6A32-4BEA-94DD-D89895A7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15B-1563-4CF7-B573-C9EA788C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54C-F237-4B34-9711-176966DE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6D8-0C5F-44EE-9649-73A570B3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6E7-9568-4EEE-98C7-D5AB041F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B97-ED66-40A9-BBD4-4912C82E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519-2F69-49D2-9FCC-B195CC8C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37C-312C-488A-B549-2A0CB541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7D6-CFD9-4C9E-9AA5-E258BA28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00A-89C0-401A-8923-32BB612A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B79-849A-466A-8FB3-3017F74D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4FD-4726-466E-82BD-5AC32B0B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B344-934D-4531-B591-50AA3E3B518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19° N.L., 73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520"/>
            <a:ext cx="9144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8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80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22° N.L., 8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15:06:07Z</dcterms:created>
  <dc:creator>Instructional Tech Student</dc:creator>
  <dc:description/>
  <dc:language>en-US</dc:language>
  <cp:lastModifiedBy>Texas A&amp;M Veterinary Medicine</cp:lastModifiedBy>
  <dcterms:modified xsi:type="dcterms:W3CDTF">2007-10-16T18:49:54Z</dcterms:modified>
  <cp:revision>338</cp:revision>
  <dc:subject/>
  <dc:title>Hard River Escape</dc:title>
</cp:coreProperties>
</file>