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2240-7F16-4986-BDF3-39A44FDED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Navy and U.S. Marine photos courtesy of GeekPhilosopher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D4E-D1FE-4624-BBBE-A5A11D04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90E3-4065-4E41-8B0E-7ADC1F54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3B0-351A-48BF-BB9E-E61291E2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AB1A-BFED-47B7-9DF0-B14F26AD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AB91-3F7D-4B95-A763-14CCB37D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1DC9-C34D-42A0-A121-7768D33C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2996-8C20-49F5-B2D9-21BB5CA0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7A16-3358-496C-9C93-CA903146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159B-606A-40D9-BF1A-8B3304BC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C232-9F9E-4AF9-B335-882804A2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D88A-E36E-4655-A615-EDBBB9A4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EE91-44BA-4259-A1DD-E953F5F8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B4AF-D763-400B-914A-82D70903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E511-B701-4654-B19F-CF70BD48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E48E-18FA-4CB8-91EE-CC022B37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DE69-DFB3-4E33-876A-7D1F190A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8EA4-2411-4763-9B3E-BDEE7C02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FD59-A3FF-4BA2-9C61-28AA55A5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80F-D861-46C0-A500-2DF5B1B0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ED0-516C-4B82-A0DC-51C7CD95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88A-7F67-49B1-B248-0B47188C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C944-66F5-4FD5-8B0C-C7263A8F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80A-E609-42AE-853C-5EC1C534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448-CFC9-4C30-BE67-EC14321D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591A-2982-4CC8-AE98-39A18F82741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0A74-FB7D-4292-9920-0E96532B4B9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alphaModFix amt="42000"/>
          </a:blip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18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Fashion Trends Through Tim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gypt 1500 B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915080" y="1428840"/>
            <a:ext cx="3354120" cy="5033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938160" y="1414440"/>
            <a:ext cx="3365640" cy="50497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47600" y="136440"/>
            <a:ext cx="8877240" cy="6575400"/>
            <a:chOff x="147600" y="136440"/>
            <a:chExt cx="8877240" cy="6575400"/>
          </a:xfrm>
        </p:grpSpPr>
        <p:sp>
          <p:nvSpPr>
            <p:cNvPr id="101" name=""/>
            <p:cNvSpPr/>
            <p:nvPr/>
          </p:nvSpPr>
          <p:spPr>
            <a:xfrm>
              <a:off x="268200" y="365040"/>
              <a:ext cx="8629560" cy="6201000"/>
            </a:xfrm>
            <a:prstGeom prst="rect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7600" y="136440"/>
              <a:ext cx="8877240" cy="657540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5th and 16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centu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46040" y="1238400"/>
            <a:ext cx="3476520" cy="2501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157800" y="2781360"/>
            <a:ext cx="2643480" cy="367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125960" y="1271520"/>
            <a:ext cx="2502000" cy="3270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184480" y="3805200"/>
            <a:ext cx="2174760" cy="271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147600" y="136440"/>
            <a:ext cx="8877240" cy="6575400"/>
            <a:chOff x="147600" y="136440"/>
            <a:chExt cx="8877240" cy="6575400"/>
          </a:xfrm>
        </p:grpSpPr>
        <p:sp>
          <p:nvSpPr>
            <p:cNvPr id="109" name=""/>
            <p:cNvSpPr/>
            <p:nvPr/>
          </p:nvSpPr>
          <p:spPr>
            <a:xfrm>
              <a:off x="268200" y="365040"/>
              <a:ext cx="8629560" cy="6201000"/>
            </a:xfrm>
            <a:prstGeom prst="rect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7600" y="136440"/>
              <a:ext cx="8877240" cy="657540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7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and 18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centu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06880" y="1308240"/>
            <a:ext cx="2104920" cy="2747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34800" y="1271520"/>
            <a:ext cx="1976760" cy="2871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170320" y="3330720"/>
            <a:ext cx="1822680" cy="3163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543720" y="1325520"/>
            <a:ext cx="2252520" cy="319716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147600" y="136440"/>
            <a:ext cx="8877240" cy="6575400"/>
            <a:chOff x="147600" y="136440"/>
            <a:chExt cx="8877240" cy="6575400"/>
          </a:xfrm>
        </p:grpSpPr>
        <p:sp>
          <p:nvSpPr>
            <p:cNvPr id="117" name=""/>
            <p:cNvSpPr/>
            <p:nvPr/>
          </p:nvSpPr>
          <p:spPr>
            <a:xfrm>
              <a:off x="268200" y="365040"/>
              <a:ext cx="8629560" cy="6201000"/>
            </a:xfrm>
            <a:prstGeom prst="rect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7600" y="136440"/>
              <a:ext cx="8877240" cy="657540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668600" y="3559320"/>
            <a:ext cx="17906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1040"/>
            <a:ext cx="346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910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03200" y="1085760"/>
            <a:ext cx="3678120" cy="5454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683240" y="274680"/>
            <a:ext cx="400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920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816440" y="1228680"/>
            <a:ext cx="2050920" cy="3610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24000" y="365040"/>
            <a:ext cx="3860640" cy="6228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22840" y="363600"/>
            <a:ext cx="3860640" cy="623736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640560" y="3967200"/>
            <a:ext cx="2205000" cy="2595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7600" y="136440"/>
            <a:ext cx="8877240" cy="65754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6937200" y="1415880"/>
            <a:ext cx="156528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930s and 1940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6080" y="1305000"/>
            <a:ext cx="4133520" cy="5186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5680" y="60418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Miss America 19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519440" y="1238400"/>
            <a:ext cx="4321440" cy="3211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597640" y="3833640"/>
            <a:ext cx="2452680" cy="288144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147600" y="136440"/>
            <a:ext cx="8877240" cy="6575400"/>
            <a:chOff x="147600" y="136440"/>
            <a:chExt cx="8877240" cy="6575400"/>
          </a:xfrm>
        </p:grpSpPr>
        <p:sp>
          <p:nvSpPr>
            <p:cNvPr id="135" name=""/>
            <p:cNvSpPr/>
            <p:nvPr/>
          </p:nvSpPr>
          <p:spPr>
            <a:xfrm>
              <a:off x="268200" y="365040"/>
              <a:ext cx="8629560" cy="6201000"/>
            </a:xfrm>
            <a:prstGeom prst="rect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7600" y="136440"/>
              <a:ext cx="8877240" cy="657540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950s through 1970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546360" y="2540160"/>
            <a:ext cx="2300400" cy="3767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207120" y="4537080"/>
            <a:ext cx="2143080" cy="1857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426360" y="1378080"/>
            <a:ext cx="1923840" cy="2857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14360" y="1454040"/>
            <a:ext cx="2754360" cy="201780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4156560" y="1376280"/>
            <a:ext cx="1042200" cy="1008000"/>
            <a:chOff x="4156560" y="1376280"/>
            <a:chExt cx="1042200" cy="1008000"/>
          </a:xfrm>
        </p:grpSpPr>
        <p:sp>
          <p:nvSpPr>
            <p:cNvPr id="143" name=""/>
            <p:cNvSpPr/>
            <p:nvPr/>
          </p:nvSpPr>
          <p:spPr>
            <a:xfrm>
              <a:off x="4202280" y="1416240"/>
              <a:ext cx="955800" cy="928080"/>
            </a:xfrm>
            <a:custGeom>
              <a:avLst/>
              <a:gdLst/>
              <a:ahLst/>
              <a:rect l="l" t="t" r="r" b="b"/>
              <a:pathLst>
                <a:path w="1877" h="1860">
                  <a:moveTo>
                    <a:pt x="1832" y="708"/>
                  </a:moveTo>
                  <a:lnTo>
                    <a:pt x="1839" y="690"/>
                  </a:lnTo>
                  <a:lnTo>
                    <a:pt x="1854" y="739"/>
                  </a:lnTo>
                  <a:lnTo>
                    <a:pt x="1861" y="788"/>
                  </a:lnTo>
                  <a:lnTo>
                    <a:pt x="1865" y="840"/>
                  </a:lnTo>
                  <a:lnTo>
                    <a:pt x="1868" y="891"/>
                  </a:lnTo>
                  <a:lnTo>
                    <a:pt x="1877" y="877"/>
                  </a:lnTo>
                  <a:lnTo>
                    <a:pt x="1877" y="1030"/>
                  </a:lnTo>
                  <a:lnTo>
                    <a:pt x="1869" y="1007"/>
                  </a:lnTo>
                  <a:lnTo>
                    <a:pt x="1862" y="1037"/>
                  </a:lnTo>
                  <a:lnTo>
                    <a:pt x="1856" y="1066"/>
                  </a:lnTo>
                  <a:lnTo>
                    <a:pt x="1849" y="1096"/>
                  </a:lnTo>
                  <a:lnTo>
                    <a:pt x="1844" y="1126"/>
                  </a:lnTo>
                  <a:lnTo>
                    <a:pt x="1838" y="1155"/>
                  </a:lnTo>
                  <a:lnTo>
                    <a:pt x="1832" y="1185"/>
                  </a:lnTo>
                  <a:lnTo>
                    <a:pt x="1826" y="1215"/>
                  </a:lnTo>
                  <a:lnTo>
                    <a:pt x="1822" y="1245"/>
                  </a:lnTo>
                  <a:lnTo>
                    <a:pt x="1822" y="1199"/>
                  </a:lnTo>
                  <a:lnTo>
                    <a:pt x="1808" y="1240"/>
                  </a:lnTo>
                  <a:lnTo>
                    <a:pt x="1826" y="1265"/>
                  </a:lnTo>
                  <a:lnTo>
                    <a:pt x="1809" y="1286"/>
                  </a:lnTo>
                  <a:lnTo>
                    <a:pt x="1793" y="1307"/>
                  </a:lnTo>
                  <a:lnTo>
                    <a:pt x="1778" y="1330"/>
                  </a:lnTo>
                  <a:lnTo>
                    <a:pt x="1763" y="1352"/>
                  </a:lnTo>
                  <a:lnTo>
                    <a:pt x="1748" y="1375"/>
                  </a:lnTo>
                  <a:lnTo>
                    <a:pt x="1734" y="1399"/>
                  </a:lnTo>
                  <a:lnTo>
                    <a:pt x="1721" y="1422"/>
                  </a:lnTo>
                  <a:lnTo>
                    <a:pt x="1708" y="1445"/>
                  </a:lnTo>
                  <a:lnTo>
                    <a:pt x="1725" y="1446"/>
                  </a:lnTo>
                  <a:lnTo>
                    <a:pt x="1715" y="1461"/>
                  </a:lnTo>
                  <a:lnTo>
                    <a:pt x="1698" y="1480"/>
                  </a:lnTo>
                  <a:lnTo>
                    <a:pt x="1678" y="1502"/>
                  </a:lnTo>
                  <a:lnTo>
                    <a:pt x="1654" y="1527"/>
                  </a:lnTo>
                  <a:lnTo>
                    <a:pt x="1626" y="1555"/>
                  </a:lnTo>
                  <a:lnTo>
                    <a:pt x="1597" y="1582"/>
                  </a:lnTo>
                  <a:lnTo>
                    <a:pt x="1565" y="1612"/>
                  </a:lnTo>
                  <a:lnTo>
                    <a:pt x="1533" y="1641"/>
                  </a:lnTo>
                  <a:lnTo>
                    <a:pt x="1499" y="1670"/>
                  </a:lnTo>
                  <a:lnTo>
                    <a:pt x="1466" y="1698"/>
                  </a:lnTo>
                  <a:lnTo>
                    <a:pt x="1433" y="1723"/>
                  </a:lnTo>
                  <a:lnTo>
                    <a:pt x="1402" y="1745"/>
                  </a:lnTo>
                  <a:lnTo>
                    <a:pt x="1374" y="1764"/>
                  </a:lnTo>
                  <a:lnTo>
                    <a:pt x="1347" y="1779"/>
                  </a:lnTo>
                  <a:lnTo>
                    <a:pt x="1325" y="1790"/>
                  </a:lnTo>
                  <a:lnTo>
                    <a:pt x="1306" y="1794"/>
                  </a:lnTo>
                  <a:lnTo>
                    <a:pt x="1316" y="1796"/>
                  </a:lnTo>
                  <a:lnTo>
                    <a:pt x="1293" y="1801"/>
                  </a:lnTo>
                  <a:lnTo>
                    <a:pt x="1270" y="1807"/>
                  </a:lnTo>
                  <a:lnTo>
                    <a:pt x="1248" y="1812"/>
                  </a:lnTo>
                  <a:lnTo>
                    <a:pt x="1225" y="1817"/>
                  </a:lnTo>
                  <a:lnTo>
                    <a:pt x="1203" y="1822"/>
                  </a:lnTo>
                  <a:lnTo>
                    <a:pt x="1180" y="1826"/>
                  </a:lnTo>
                  <a:lnTo>
                    <a:pt x="1157" y="1828"/>
                  </a:lnTo>
                  <a:lnTo>
                    <a:pt x="1133" y="1830"/>
                  </a:lnTo>
                  <a:lnTo>
                    <a:pt x="1144" y="1830"/>
                  </a:lnTo>
                  <a:lnTo>
                    <a:pt x="1149" y="1830"/>
                  </a:lnTo>
                  <a:lnTo>
                    <a:pt x="1148" y="1832"/>
                  </a:lnTo>
                  <a:lnTo>
                    <a:pt x="1145" y="1835"/>
                  </a:lnTo>
                  <a:lnTo>
                    <a:pt x="1142" y="1837"/>
                  </a:lnTo>
                  <a:lnTo>
                    <a:pt x="1142" y="1839"/>
                  </a:lnTo>
                  <a:lnTo>
                    <a:pt x="1147" y="1842"/>
                  </a:lnTo>
                  <a:lnTo>
                    <a:pt x="1157" y="1842"/>
                  </a:lnTo>
                  <a:lnTo>
                    <a:pt x="1129" y="1843"/>
                  </a:lnTo>
                  <a:lnTo>
                    <a:pt x="1102" y="1845"/>
                  </a:lnTo>
                  <a:lnTo>
                    <a:pt x="1075" y="1847"/>
                  </a:lnTo>
                  <a:lnTo>
                    <a:pt x="1048" y="1850"/>
                  </a:lnTo>
                  <a:lnTo>
                    <a:pt x="1021" y="1852"/>
                  </a:lnTo>
                  <a:lnTo>
                    <a:pt x="995" y="1854"/>
                  </a:lnTo>
                  <a:lnTo>
                    <a:pt x="968" y="1857"/>
                  </a:lnTo>
                  <a:lnTo>
                    <a:pt x="942" y="1859"/>
                  </a:lnTo>
                  <a:lnTo>
                    <a:pt x="915" y="1860"/>
                  </a:lnTo>
                  <a:lnTo>
                    <a:pt x="889" y="1860"/>
                  </a:lnTo>
                  <a:lnTo>
                    <a:pt x="862" y="1860"/>
                  </a:lnTo>
                  <a:lnTo>
                    <a:pt x="836" y="1859"/>
                  </a:lnTo>
                  <a:lnTo>
                    <a:pt x="808" y="1857"/>
                  </a:lnTo>
                  <a:lnTo>
                    <a:pt x="781" y="1853"/>
                  </a:lnTo>
                  <a:lnTo>
                    <a:pt x="754" y="1847"/>
                  </a:lnTo>
                  <a:lnTo>
                    <a:pt x="726" y="1841"/>
                  </a:lnTo>
                  <a:lnTo>
                    <a:pt x="762" y="1832"/>
                  </a:lnTo>
                  <a:lnTo>
                    <a:pt x="703" y="1837"/>
                  </a:lnTo>
                  <a:lnTo>
                    <a:pt x="644" y="1815"/>
                  </a:lnTo>
                  <a:lnTo>
                    <a:pt x="662" y="1806"/>
                  </a:lnTo>
                  <a:lnTo>
                    <a:pt x="643" y="1798"/>
                  </a:lnTo>
                  <a:lnTo>
                    <a:pt x="625" y="1790"/>
                  </a:lnTo>
                  <a:lnTo>
                    <a:pt x="605" y="1783"/>
                  </a:lnTo>
                  <a:lnTo>
                    <a:pt x="587" y="1777"/>
                  </a:lnTo>
                  <a:lnTo>
                    <a:pt x="567" y="1773"/>
                  </a:lnTo>
                  <a:lnTo>
                    <a:pt x="548" y="1768"/>
                  </a:lnTo>
                  <a:lnTo>
                    <a:pt x="527" y="1763"/>
                  </a:lnTo>
                  <a:lnTo>
                    <a:pt x="507" y="1760"/>
                  </a:lnTo>
                  <a:lnTo>
                    <a:pt x="526" y="1751"/>
                  </a:lnTo>
                  <a:lnTo>
                    <a:pt x="452" y="1708"/>
                  </a:lnTo>
                  <a:lnTo>
                    <a:pt x="382" y="1658"/>
                  </a:lnTo>
                  <a:lnTo>
                    <a:pt x="316" y="1603"/>
                  </a:lnTo>
                  <a:lnTo>
                    <a:pt x="255" y="1542"/>
                  </a:lnTo>
                  <a:lnTo>
                    <a:pt x="200" y="1476"/>
                  </a:lnTo>
                  <a:lnTo>
                    <a:pt x="150" y="1406"/>
                  </a:lnTo>
                  <a:lnTo>
                    <a:pt x="107" y="1331"/>
                  </a:lnTo>
                  <a:lnTo>
                    <a:pt x="71" y="1254"/>
                  </a:lnTo>
                  <a:lnTo>
                    <a:pt x="42" y="1174"/>
                  </a:lnTo>
                  <a:lnTo>
                    <a:pt x="20" y="1091"/>
                  </a:lnTo>
                  <a:lnTo>
                    <a:pt x="6" y="1007"/>
                  </a:lnTo>
                  <a:lnTo>
                    <a:pt x="0" y="923"/>
                  </a:lnTo>
                  <a:lnTo>
                    <a:pt x="4" y="837"/>
                  </a:lnTo>
                  <a:lnTo>
                    <a:pt x="18" y="752"/>
                  </a:lnTo>
                  <a:lnTo>
                    <a:pt x="40" y="667"/>
                  </a:lnTo>
                  <a:lnTo>
                    <a:pt x="73" y="583"/>
                  </a:lnTo>
                  <a:lnTo>
                    <a:pt x="82" y="564"/>
                  </a:lnTo>
                  <a:lnTo>
                    <a:pt x="91" y="543"/>
                  </a:lnTo>
                  <a:lnTo>
                    <a:pt x="102" y="523"/>
                  </a:lnTo>
                  <a:lnTo>
                    <a:pt x="112" y="503"/>
                  </a:lnTo>
                  <a:lnTo>
                    <a:pt x="122" y="483"/>
                  </a:lnTo>
                  <a:lnTo>
                    <a:pt x="133" y="463"/>
                  </a:lnTo>
                  <a:lnTo>
                    <a:pt x="144" y="444"/>
                  </a:lnTo>
                  <a:lnTo>
                    <a:pt x="156" y="424"/>
                  </a:lnTo>
                  <a:lnTo>
                    <a:pt x="167" y="405"/>
                  </a:lnTo>
                  <a:lnTo>
                    <a:pt x="180" y="386"/>
                  </a:lnTo>
                  <a:lnTo>
                    <a:pt x="193" y="368"/>
                  </a:lnTo>
                  <a:lnTo>
                    <a:pt x="205" y="351"/>
                  </a:lnTo>
                  <a:lnTo>
                    <a:pt x="219" y="333"/>
                  </a:lnTo>
                  <a:lnTo>
                    <a:pt x="232" y="316"/>
                  </a:lnTo>
                  <a:lnTo>
                    <a:pt x="247" y="300"/>
                  </a:lnTo>
                  <a:lnTo>
                    <a:pt x="261" y="285"/>
                  </a:lnTo>
                  <a:lnTo>
                    <a:pt x="263" y="276"/>
                  </a:lnTo>
                  <a:lnTo>
                    <a:pt x="270" y="266"/>
                  </a:lnTo>
                  <a:lnTo>
                    <a:pt x="280" y="255"/>
                  </a:lnTo>
                  <a:lnTo>
                    <a:pt x="293" y="242"/>
                  </a:lnTo>
                  <a:lnTo>
                    <a:pt x="308" y="230"/>
                  </a:lnTo>
                  <a:lnTo>
                    <a:pt x="325" y="217"/>
                  </a:lnTo>
                  <a:lnTo>
                    <a:pt x="344" y="203"/>
                  </a:lnTo>
                  <a:lnTo>
                    <a:pt x="363" y="189"/>
                  </a:lnTo>
                  <a:lnTo>
                    <a:pt x="384" y="175"/>
                  </a:lnTo>
                  <a:lnTo>
                    <a:pt x="404" y="163"/>
                  </a:lnTo>
                  <a:lnTo>
                    <a:pt x="423" y="151"/>
                  </a:lnTo>
                  <a:lnTo>
                    <a:pt x="442" y="140"/>
                  </a:lnTo>
                  <a:lnTo>
                    <a:pt x="458" y="129"/>
                  </a:lnTo>
                  <a:lnTo>
                    <a:pt x="473" y="120"/>
                  </a:lnTo>
                  <a:lnTo>
                    <a:pt x="484" y="113"/>
                  </a:lnTo>
                  <a:lnTo>
                    <a:pt x="493" y="107"/>
                  </a:lnTo>
                  <a:lnTo>
                    <a:pt x="491" y="117"/>
                  </a:lnTo>
                  <a:lnTo>
                    <a:pt x="495" y="120"/>
                  </a:lnTo>
                  <a:lnTo>
                    <a:pt x="500" y="119"/>
                  </a:lnTo>
                  <a:lnTo>
                    <a:pt x="507" y="115"/>
                  </a:lnTo>
                  <a:lnTo>
                    <a:pt x="513" y="111"/>
                  </a:lnTo>
                  <a:lnTo>
                    <a:pt x="516" y="106"/>
                  </a:lnTo>
                  <a:lnTo>
                    <a:pt x="515" y="103"/>
                  </a:lnTo>
                  <a:lnTo>
                    <a:pt x="507" y="100"/>
                  </a:lnTo>
                  <a:lnTo>
                    <a:pt x="530" y="91"/>
                  </a:lnTo>
                  <a:lnTo>
                    <a:pt x="550" y="82"/>
                  </a:lnTo>
                  <a:lnTo>
                    <a:pt x="567" y="74"/>
                  </a:lnTo>
                  <a:lnTo>
                    <a:pt x="582" y="67"/>
                  </a:lnTo>
                  <a:lnTo>
                    <a:pt x="597" y="60"/>
                  </a:lnTo>
                  <a:lnTo>
                    <a:pt x="610" y="53"/>
                  </a:lnTo>
                  <a:lnTo>
                    <a:pt x="622" y="47"/>
                  </a:lnTo>
                  <a:lnTo>
                    <a:pt x="635" y="42"/>
                  </a:lnTo>
                  <a:lnTo>
                    <a:pt x="649" y="37"/>
                  </a:lnTo>
                  <a:lnTo>
                    <a:pt x="662" y="32"/>
                  </a:lnTo>
                  <a:lnTo>
                    <a:pt x="677" y="28"/>
                  </a:lnTo>
                  <a:lnTo>
                    <a:pt x="694" y="24"/>
                  </a:lnTo>
                  <a:lnTo>
                    <a:pt x="712" y="21"/>
                  </a:lnTo>
                  <a:lnTo>
                    <a:pt x="733" y="19"/>
                  </a:lnTo>
                  <a:lnTo>
                    <a:pt x="756" y="16"/>
                  </a:lnTo>
                  <a:lnTo>
                    <a:pt x="784" y="14"/>
                  </a:lnTo>
                  <a:lnTo>
                    <a:pt x="743" y="12"/>
                  </a:lnTo>
                  <a:lnTo>
                    <a:pt x="784" y="6"/>
                  </a:lnTo>
                  <a:lnTo>
                    <a:pt x="825" y="3"/>
                  </a:lnTo>
                  <a:lnTo>
                    <a:pt x="868" y="0"/>
                  </a:lnTo>
                  <a:lnTo>
                    <a:pt x="912" y="0"/>
                  </a:lnTo>
                  <a:lnTo>
                    <a:pt x="955" y="3"/>
                  </a:lnTo>
                  <a:lnTo>
                    <a:pt x="1000" y="6"/>
                  </a:lnTo>
                  <a:lnTo>
                    <a:pt x="1046" y="12"/>
                  </a:lnTo>
                  <a:lnTo>
                    <a:pt x="1091" y="20"/>
                  </a:lnTo>
                  <a:lnTo>
                    <a:pt x="1137" y="30"/>
                  </a:lnTo>
                  <a:lnTo>
                    <a:pt x="1182" y="42"/>
                  </a:lnTo>
                  <a:lnTo>
                    <a:pt x="1228" y="54"/>
                  </a:lnTo>
                  <a:lnTo>
                    <a:pt x="1272" y="69"/>
                  </a:lnTo>
                  <a:lnTo>
                    <a:pt x="1317" y="87"/>
                  </a:lnTo>
                  <a:lnTo>
                    <a:pt x="1361" y="105"/>
                  </a:lnTo>
                  <a:lnTo>
                    <a:pt x="1404" y="125"/>
                  </a:lnTo>
                  <a:lnTo>
                    <a:pt x="1445" y="147"/>
                  </a:lnTo>
                  <a:lnTo>
                    <a:pt x="1485" y="171"/>
                  </a:lnTo>
                  <a:lnTo>
                    <a:pt x="1524" y="196"/>
                  </a:lnTo>
                  <a:lnTo>
                    <a:pt x="1561" y="223"/>
                  </a:lnTo>
                  <a:lnTo>
                    <a:pt x="1597" y="251"/>
                  </a:lnTo>
                  <a:lnTo>
                    <a:pt x="1632" y="281"/>
                  </a:lnTo>
                  <a:lnTo>
                    <a:pt x="1663" y="313"/>
                  </a:lnTo>
                  <a:lnTo>
                    <a:pt x="1693" y="346"/>
                  </a:lnTo>
                  <a:lnTo>
                    <a:pt x="1720" y="380"/>
                  </a:lnTo>
                  <a:lnTo>
                    <a:pt x="1745" y="416"/>
                  </a:lnTo>
                  <a:lnTo>
                    <a:pt x="1766" y="454"/>
                  </a:lnTo>
                  <a:lnTo>
                    <a:pt x="1786" y="493"/>
                  </a:lnTo>
                  <a:lnTo>
                    <a:pt x="1802" y="534"/>
                  </a:lnTo>
                  <a:lnTo>
                    <a:pt x="1815" y="575"/>
                  </a:lnTo>
                  <a:lnTo>
                    <a:pt x="1824" y="618"/>
                  </a:lnTo>
                  <a:lnTo>
                    <a:pt x="1830" y="662"/>
                  </a:lnTo>
                  <a:lnTo>
                    <a:pt x="1832" y="7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19720" y="1886400"/>
              <a:ext cx="253440" cy="393840"/>
            </a:xfrm>
            <a:custGeom>
              <a:avLst/>
              <a:gdLst/>
              <a:ahLst/>
              <a:rect l="l" t="t" r="r" b="b"/>
              <a:pathLst>
                <a:path w="249" h="395">
                  <a:moveTo>
                    <a:pt x="211" y="51"/>
                  </a:moveTo>
                  <a:cubicBezTo>
                    <a:pt x="148" y="117"/>
                    <a:pt x="93" y="234"/>
                    <a:pt x="0" y="256"/>
                  </a:cubicBezTo>
                  <a:cubicBezTo>
                    <a:pt x="8" y="316"/>
                    <a:pt x="7" y="334"/>
                    <a:pt x="64" y="346"/>
                  </a:cubicBezTo>
                  <a:cubicBezTo>
                    <a:pt x="85" y="357"/>
                    <a:pt x="104" y="389"/>
                    <a:pt x="128" y="391"/>
                  </a:cubicBezTo>
                  <a:cubicBezTo>
                    <a:pt x="166" y="395"/>
                    <a:pt x="205" y="391"/>
                    <a:pt x="243" y="391"/>
                  </a:cubicBezTo>
                  <a:lnTo>
                    <a:pt x="249" y="0"/>
                  </a:lnTo>
                  <a:lnTo>
                    <a:pt x="211" y="5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92600" y="1470960"/>
              <a:ext cx="411480" cy="689400"/>
            </a:xfrm>
            <a:custGeom>
              <a:avLst/>
              <a:gdLst/>
              <a:ahLst/>
              <a:rect l="l" t="t" r="r" b="b"/>
              <a:pathLst>
                <a:path w="404" h="691">
                  <a:moveTo>
                    <a:pt x="0" y="0"/>
                  </a:moveTo>
                  <a:cubicBezTo>
                    <a:pt x="0" y="149"/>
                    <a:pt x="0" y="299"/>
                    <a:pt x="0" y="448"/>
                  </a:cubicBezTo>
                  <a:lnTo>
                    <a:pt x="276" y="691"/>
                  </a:lnTo>
                  <a:lnTo>
                    <a:pt x="397" y="512"/>
                  </a:lnTo>
                  <a:lnTo>
                    <a:pt x="404" y="339"/>
                  </a:lnTo>
                  <a:lnTo>
                    <a:pt x="365" y="192"/>
                  </a:lnTo>
                  <a:lnTo>
                    <a:pt x="244" y="77"/>
                  </a:lnTo>
                  <a:lnTo>
                    <a:pt x="135" y="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18840" y="1467000"/>
              <a:ext cx="488880" cy="654480"/>
            </a:xfrm>
            <a:custGeom>
              <a:avLst/>
              <a:gdLst/>
              <a:ahLst/>
              <a:rect l="l" t="t" r="r" b="b"/>
              <a:pathLst>
                <a:path w="493" h="668">
                  <a:moveTo>
                    <a:pt x="389" y="42"/>
                  </a:moveTo>
                  <a:cubicBezTo>
                    <a:pt x="319" y="16"/>
                    <a:pt x="251" y="46"/>
                    <a:pt x="184" y="61"/>
                  </a:cubicBezTo>
                  <a:cubicBezTo>
                    <a:pt x="159" y="81"/>
                    <a:pt x="133" y="105"/>
                    <a:pt x="114" y="131"/>
                  </a:cubicBezTo>
                  <a:cubicBezTo>
                    <a:pt x="98" y="154"/>
                    <a:pt x="95" y="182"/>
                    <a:pt x="88" y="208"/>
                  </a:cubicBezTo>
                  <a:cubicBezTo>
                    <a:pt x="73" y="265"/>
                    <a:pt x="63" y="326"/>
                    <a:pt x="43" y="381"/>
                  </a:cubicBezTo>
                  <a:cubicBezTo>
                    <a:pt x="82" y="648"/>
                    <a:pt x="0" y="628"/>
                    <a:pt x="126" y="663"/>
                  </a:cubicBezTo>
                  <a:cubicBezTo>
                    <a:pt x="288" y="653"/>
                    <a:pt x="192" y="668"/>
                    <a:pt x="280" y="624"/>
                  </a:cubicBezTo>
                  <a:cubicBezTo>
                    <a:pt x="302" y="581"/>
                    <a:pt x="327" y="540"/>
                    <a:pt x="357" y="503"/>
                  </a:cubicBezTo>
                  <a:cubicBezTo>
                    <a:pt x="363" y="496"/>
                    <a:pt x="370" y="490"/>
                    <a:pt x="376" y="483"/>
                  </a:cubicBezTo>
                  <a:cubicBezTo>
                    <a:pt x="385" y="471"/>
                    <a:pt x="402" y="445"/>
                    <a:pt x="402" y="445"/>
                  </a:cubicBezTo>
                  <a:cubicBezTo>
                    <a:pt x="417" y="398"/>
                    <a:pt x="405" y="416"/>
                    <a:pt x="434" y="387"/>
                  </a:cubicBezTo>
                  <a:cubicBezTo>
                    <a:pt x="493" y="263"/>
                    <a:pt x="467" y="391"/>
                    <a:pt x="453" y="80"/>
                  </a:cubicBezTo>
                  <a:cubicBezTo>
                    <a:pt x="452" y="63"/>
                    <a:pt x="443" y="44"/>
                    <a:pt x="427" y="35"/>
                  </a:cubicBezTo>
                  <a:cubicBezTo>
                    <a:pt x="415" y="28"/>
                    <a:pt x="389" y="23"/>
                    <a:pt x="389" y="23"/>
                  </a:cubicBezTo>
                  <a:cubicBezTo>
                    <a:pt x="320" y="36"/>
                    <a:pt x="344" y="25"/>
                    <a:pt x="312" y="42"/>
                  </a:cubicBezTo>
                  <a:cubicBezTo>
                    <a:pt x="359" y="19"/>
                    <a:pt x="359" y="0"/>
                    <a:pt x="389" y="42"/>
                  </a:cubicBez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27440" y="1431000"/>
              <a:ext cx="85680" cy="850320"/>
            </a:xfrm>
            <a:custGeom>
              <a:avLst/>
              <a:gdLst/>
              <a:ahLst/>
              <a:rect l="l" t="t" r="r" b="b"/>
              <a:pathLst>
                <a:path w="169" h="1704">
                  <a:moveTo>
                    <a:pt x="158" y="73"/>
                  </a:moveTo>
                  <a:lnTo>
                    <a:pt x="166" y="77"/>
                  </a:lnTo>
                  <a:lnTo>
                    <a:pt x="166" y="107"/>
                  </a:lnTo>
                  <a:lnTo>
                    <a:pt x="167" y="137"/>
                  </a:lnTo>
                  <a:lnTo>
                    <a:pt x="166" y="168"/>
                  </a:lnTo>
                  <a:lnTo>
                    <a:pt x="162" y="197"/>
                  </a:lnTo>
                  <a:lnTo>
                    <a:pt x="165" y="202"/>
                  </a:lnTo>
                  <a:lnTo>
                    <a:pt x="166" y="213"/>
                  </a:lnTo>
                  <a:lnTo>
                    <a:pt x="166" y="228"/>
                  </a:lnTo>
                  <a:lnTo>
                    <a:pt x="166" y="241"/>
                  </a:lnTo>
                  <a:lnTo>
                    <a:pt x="166" y="269"/>
                  </a:lnTo>
                  <a:lnTo>
                    <a:pt x="167" y="296"/>
                  </a:lnTo>
                  <a:lnTo>
                    <a:pt x="167" y="325"/>
                  </a:lnTo>
                  <a:lnTo>
                    <a:pt x="166" y="353"/>
                  </a:lnTo>
                  <a:lnTo>
                    <a:pt x="164" y="360"/>
                  </a:lnTo>
                  <a:lnTo>
                    <a:pt x="162" y="370"/>
                  </a:lnTo>
                  <a:lnTo>
                    <a:pt x="161" y="379"/>
                  </a:lnTo>
                  <a:lnTo>
                    <a:pt x="166" y="384"/>
                  </a:lnTo>
                  <a:lnTo>
                    <a:pt x="167" y="425"/>
                  </a:lnTo>
                  <a:lnTo>
                    <a:pt x="169" y="476"/>
                  </a:lnTo>
                  <a:lnTo>
                    <a:pt x="167" y="524"/>
                  </a:lnTo>
                  <a:lnTo>
                    <a:pt x="161" y="564"/>
                  </a:lnTo>
                  <a:lnTo>
                    <a:pt x="166" y="567"/>
                  </a:lnTo>
                  <a:lnTo>
                    <a:pt x="166" y="589"/>
                  </a:lnTo>
                  <a:lnTo>
                    <a:pt x="163" y="610"/>
                  </a:lnTo>
                  <a:lnTo>
                    <a:pt x="161" y="625"/>
                  </a:lnTo>
                  <a:lnTo>
                    <a:pt x="166" y="628"/>
                  </a:lnTo>
                  <a:lnTo>
                    <a:pt x="164" y="687"/>
                  </a:lnTo>
                  <a:lnTo>
                    <a:pt x="166" y="689"/>
                  </a:lnTo>
                  <a:lnTo>
                    <a:pt x="166" y="765"/>
                  </a:lnTo>
                  <a:lnTo>
                    <a:pt x="163" y="771"/>
                  </a:lnTo>
                  <a:lnTo>
                    <a:pt x="163" y="786"/>
                  </a:lnTo>
                  <a:lnTo>
                    <a:pt x="165" y="803"/>
                  </a:lnTo>
                  <a:lnTo>
                    <a:pt x="166" y="816"/>
                  </a:lnTo>
                  <a:lnTo>
                    <a:pt x="166" y="850"/>
                  </a:lnTo>
                  <a:lnTo>
                    <a:pt x="166" y="928"/>
                  </a:lnTo>
                  <a:lnTo>
                    <a:pt x="166" y="1037"/>
                  </a:lnTo>
                  <a:lnTo>
                    <a:pt x="166" y="1166"/>
                  </a:lnTo>
                  <a:lnTo>
                    <a:pt x="165" y="1226"/>
                  </a:lnTo>
                  <a:lnTo>
                    <a:pt x="163" y="1295"/>
                  </a:lnTo>
                  <a:lnTo>
                    <a:pt x="162" y="1347"/>
                  </a:lnTo>
                  <a:lnTo>
                    <a:pt x="165" y="1357"/>
                  </a:lnTo>
                  <a:lnTo>
                    <a:pt x="164" y="1406"/>
                  </a:lnTo>
                  <a:lnTo>
                    <a:pt x="162" y="1460"/>
                  </a:lnTo>
                  <a:lnTo>
                    <a:pt x="161" y="1498"/>
                  </a:lnTo>
                  <a:lnTo>
                    <a:pt x="163" y="1502"/>
                  </a:lnTo>
                  <a:lnTo>
                    <a:pt x="161" y="1530"/>
                  </a:lnTo>
                  <a:lnTo>
                    <a:pt x="158" y="1559"/>
                  </a:lnTo>
                  <a:lnTo>
                    <a:pt x="157" y="1582"/>
                  </a:lnTo>
                  <a:lnTo>
                    <a:pt x="162" y="1591"/>
                  </a:lnTo>
                  <a:lnTo>
                    <a:pt x="158" y="1603"/>
                  </a:lnTo>
                  <a:lnTo>
                    <a:pt x="157" y="1633"/>
                  </a:lnTo>
                  <a:lnTo>
                    <a:pt x="157" y="1663"/>
                  </a:lnTo>
                  <a:lnTo>
                    <a:pt x="156" y="1678"/>
                  </a:lnTo>
                  <a:lnTo>
                    <a:pt x="128" y="1687"/>
                  </a:lnTo>
                  <a:lnTo>
                    <a:pt x="104" y="1696"/>
                  </a:lnTo>
                  <a:lnTo>
                    <a:pt x="82" y="1702"/>
                  </a:lnTo>
                  <a:lnTo>
                    <a:pt x="64" y="1704"/>
                  </a:lnTo>
                  <a:lnTo>
                    <a:pt x="46" y="1700"/>
                  </a:lnTo>
                  <a:lnTo>
                    <a:pt x="34" y="1688"/>
                  </a:lnTo>
                  <a:lnTo>
                    <a:pt x="22" y="1666"/>
                  </a:lnTo>
                  <a:lnTo>
                    <a:pt x="13" y="1633"/>
                  </a:lnTo>
                  <a:lnTo>
                    <a:pt x="14" y="1597"/>
                  </a:lnTo>
                  <a:lnTo>
                    <a:pt x="10" y="1521"/>
                  </a:lnTo>
                  <a:lnTo>
                    <a:pt x="4" y="1444"/>
                  </a:lnTo>
                  <a:lnTo>
                    <a:pt x="0" y="1406"/>
                  </a:lnTo>
                  <a:lnTo>
                    <a:pt x="3" y="1429"/>
                  </a:lnTo>
                  <a:lnTo>
                    <a:pt x="5" y="1401"/>
                  </a:lnTo>
                  <a:lnTo>
                    <a:pt x="6" y="1339"/>
                  </a:lnTo>
                  <a:lnTo>
                    <a:pt x="6" y="1265"/>
                  </a:lnTo>
                  <a:lnTo>
                    <a:pt x="11" y="1271"/>
                  </a:lnTo>
                  <a:lnTo>
                    <a:pt x="12" y="1248"/>
                  </a:lnTo>
                  <a:lnTo>
                    <a:pt x="11" y="1204"/>
                  </a:lnTo>
                  <a:lnTo>
                    <a:pt x="5" y="1152"/>
                  </a:lnTo>
                  <a:lnTo>
                    <a:pt x="8" y="1045"/>
                  </a:lnTo>
                  <a:lnTo>
                    <a:pt x="13" y="952"/>
                  </a:lnTo>
                  <a:lnTo>
                    <a:pt x="15" y="877"/>
                  </a:lnTo>
                  <a:lnTo>
                    <a:pt x="17" y="826"/>
                  </a:lnTo>
                  <a:lnTo>
                    <a:pt x="28" y="777"/>
                  </a:lnTo>
                  <a:lnTo>
                    <a:pt x="23" y="776"/>
                  </a:lnTo>
                  <a:lnTo>
                    <a:pt x="19" y="778"/>
                  </a:lnTo>
                  <a:lnTo>
                    <a:pt x="15" y="759"/>
                  </a:lnTo>
                  <a:lnTo>
                    <a:pt x="13" y="700"/>
                  </a:lnTo>
                  <a:lnTo>
                    <a:pt x="12" y="695"/>
                  </a:lnTo>
                  <a:lnTo>
                    <a:pt x="12" y="667"/>
                  </a:lnTo>
                  <a:lnTo>
                    <a:pt x="12" y="634"/>
                  </a:lnTo>
                  <a:lnTo>
                    <a:pt x="12" y="608"/>
                  </a:lnTo>
                  <a:lnTo>
                    <a:pt x="15" y="598"/>
                  </a:lnTo>
                  <a:lnTo>
                    <a:pt x="14" y="588"/>
                  </a:lnTo>
                  <a:lnTo>
                    <a:pt x="12" y="576"/>
                  </a:lnTo>
                  <a:lnTo>
                    <a:pt x="10" y="564"/>
                  </a:lnTo>
                  <a:lnTo>
                    <a:pt x="6" y="562"/>
                  </a:lnTo>
                  <a:lnTo>
                    <a:pt x="6" y="547"/>
                  </a:lnTo>
                  <a:lnTo>
                    <a:pt x="7" y="529"/>
                  </a:lnTo>
                  <a:lnTo>
                    <a:pt x="8" y="515"/>
                  </a:lnTo>
                  <a:lnTo>
                    <a:pt x="11" y="492"/>
                  </a:lnTo>
                  <a:lnTo>
                    <a:pt x="14" y="479"/>
                  </a:lnTo>
                  <a:lnTo>
                    <a:pt x="17" y="467"/>
                  </a:lnTo>
                  <a:lnTo>
                    <a:pt x="19" y="441"/>
                  </a:lnTo>
                  <a:lnTo>
                    <a:pt x="18" y="436"/>
                  </a:lnTo>
                  <a:lnTo>
                    <a:pt x="15" y="430"/>
                  </a:lnTo>
                  <a:lnTo>
                    <a:pt x="15" y="423"/>
                  </a:lnTo>
                  <a:lnTo>
                    <a:pt x="19" y="411"/>
                  </a:lnTo>
                  <a:lnTo>
                    <a:pt x="11" y="513"/>
                  </a:lnTo>
                  <a:lnTo>
                    <a:pt x="10" y="462"/>
                  </a:lnTo>
                  <a:lnTo>
                    <a:pt x="13" y="353"/>
                  </a:lnTo>
                  <a:lnTo>
                    <a:pt x="14" y="275"/>
                  </a:lnTo>
                  <a:lnTo>
                    <a:pt x="22" y="269"/>
                  </a:lnTo>
                  <a:lnTo>
                    <a:pt x="21" y="260"/>
                  </a:lnTo>
                  <a:lnTo>
                    <a:pt x="17" y="252"/>
                  </a:lnTo>
                  <a:lnTo>
                    <a:pt x="14" y="245"/>
                  </a:lnTo>
                  <a:lnTo>
                    <a:pt x="13" y="243"/>
                  </a:lnTo>
                  <a:lnTo>
                    <a:pt x="12" y="247"/>
                  </a:lnTo>
                  <a:lnTo>
                    <a:pt x="10" y="250"/>
                  </a:lnTo>
                  <a:lnTo>
                    <a:pt x="8" y="249"/>
                  </a:lnTo>
                  <a:lnTo>
                    <a:pt x="11" y="177"/>
                  </a:lnTo>
                  <a:lnTo>
                    <a:pt x="13" y="110"/>
                  </a:lnTo>
                  <a:lnTo>
                    <a:pt x="15" y="54"/>
                  </a:lnTo>
                  <a:lnTo>
                    <a:pt x="17" y="16"/>
                  </a:lnTo>
                  <a:lnTo>
                    <a:pt x="38" y="8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20" y="2"/>
                  </a:lnTo>
                  <a:lnTo>
                    <a:pt x="143" y="10"/>
                  </a:lnTo>
                  <a:lnTo>
                    <a:pt x="159" y="24"/>
                  </a:lnTo>
                  <a:lnTo>
                    <a:pt x="165" y="44"/>
                  </a:lnTo>
                  <a:lnTo>
                    <a:pt x="158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73520" y="1925280"/>
              <a:ext cx="306360" cy="375840"/>
            </a:xfrm>
            <a:custGeom>
              <a:avLst/>
              <a:gdLst/>
              <a:ahLst/>
              <a:rect l="l" t="t" r="r" b="b"/>
              <a:pathLst>
                <a:path w="301" h="377">
                  <a:moveTo>
                    <a:pt x="13" y="38"/>
                  </a:moveTo>
                  <a:lnTo>
                    <a:pt x="19" y="377"/>
                  </a:lnTo>
                  <a:lnTo>
                    <a:pt x="301" y="249"/>
                  </a:lnTo>
                  <a:lnTo>
                    <a:pt x="0" y="0"/>
                  </a:lnTo>
                  <a:lnTo>
                    <a:pt x="13" y="3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21800" y="1855440"/>
              <a:ext cx="369000" cy="358920"/>
            </a:xfrm>
            <a:custGeom>
              <a:avLst/>
              <a:gdLst/>
              <a:ahLst/>
              <a:rect l="l" t="t" r="r" b="b"/>
              <a:pathLst>
                <a:path w="724" h="721">
                  <a:moveTo>
                    <a:pt x="631" y="0"/>
                  </a:moveTo>
                  <a:lnTo>
                    <a:pt x="724" y="93"/>
                  </a:lnTo>
                  <a:lnTo>
                    <a:pt x="720" y="103"/>
                  </a:lnTo>
                  <a:lnTo>
                    <a:pt x="708" y="120"/>
                  </a:lnTo>
                  <a:lnTo>
                    <a:pt x="690" y="140"/>
                  </a:lnTo>
                  <a:lnTo>
                    <a:pt x="670" y="162"/>
                  </a:lnTo>
                  <a:lnTo>
                    <a:pt x="649" y="183"/>
                  </a:lnTo>
                  <a:lnTo>
                    <a:pt x="629" y="201"/>
                  </a:lnTo>
                  <a:lnTo>
                    <a:pt x="616" y="212"/>
                  </a:lnTo>
                  <a:lnTo>
                    <a:pt x="607" y="217"/>
                  </a:lnTo>
                  <a:lnTo>
                    <a:pt x="588" y="241"/>
                  </a:lnTo>
                  <a:lnTo>
                    <a:pt x="580" y="244"/>
                  </a:lnTo>
                  <a:lnTo>
                    <a:pt x="530" y="312"/>
                  </a:lnTo>
                  <a:lnTo>
                    <a:pt x="529" y="300"/>
                  </a:lnTo>
                  <a:lnTo>
                    <a:pt x="501" y="332"/>
                  </a:lnTo>
                  <a:lnTo>
                    <a:pt x="510" y="320"/>
                  </a:lnTo>
                  <a:lnTo>
                    <a:pt x="481" y="355"/>
                  </a:lnTo>
                  <a:lnTo>
                    <a:pt x="477" y="354"/>
                  </a:lnTo>
                  <a:lnTo>
                    <a:pt x="473" y="359"/>
                  </a:lnTo>
                  <a:lnTo>
                    <a:pt x="468" y="365"/>
                  </a:lnTo>
                  <a:lnTo>
                    <a:pt x="466" y="368"/>
                  </a:lnTo>
                  <a:lnTo>
                    <a:pt x="422" y="421"/>
                  </a:lnTo>
                  <a:lnTo>
                    <a:pt x="415" y="425"/>
                  </a:lnTo>
                  <a:lnTo>
                    <a:pt x="409" y="426"/>
                  </a:lnTo>
                  <a:lnTo>
                    <a:pt x="402" y="428"/>
                  </a:lnTo>
                  <a:lnTo>
                    <a:pt x="398" y="435"/>
                  </a:lnTo>
                  <a:lnTo>
                    <a:pt x="394" y="440"/>
                  </a:lnTo>
                  <a:lnTo>
                    <a:pt x="384" y="450"/>
                  </a:lnTo>
                  <a:lnTo>
                    <a:pt x="370" y="465"/>
                  </a:lnTo>
                  <a:lnTo>
                    <a:pt x="352" y="483"/>
                  </a:lnTo>
                  <a:lnTo>
                    <a:pt x="330" y="504"/>
                  </a:lnTo>
                  <a:lnTo>
                    <a:pt x="306" y="528"/>
                  </a:lnTo>
                  <a:lnTo>
                    <a:pt x="279" y="554"/>
                  </a:lnTo>
                  <a:lnTo>
                    <a:pt x="253" y="579"/>
                  </a:lnTo>
                  <a:lnTo>
                    <a:pt x="225" y="605"/>
                  </a:lnTo>
                  <a:lnTo>
                    <a:pt x="198" y="631"/>
                  </a:lnTo>
                  <a:lnTo>
                    <a:pt x="173" y="654"/>
                  </a:lnTo>
                  <a:lnTo>
                    <a:pt x="151" y="676"/>
                  </a:lnTo>
                  <a:lnTo>
                    <a:pt x="131" y="693"/>
                  </a:lnTo>
                  <a:lnTo>
                    <a:pt x="114" y="708"/>
                  </a:lnTo>
                  <a:lnTo>
                    <a:pt x="103" y="717"/>
                  </a:lnTo>
                  <a:lnTo>
                    <a:pt x="96" y="721"/>
                  </a:lnTo>
                  <a:lnTo>
                    <a:pt x="3" y="627"/>
                  </a:lnTo>
                  <a:lnTo>
                    <a:pt x="0" y="623"/>
                  </a:lnTo>
                  <a:lnTo>
                    <a:pt x="1" y="618"/>
                  </a:lnTo>
                  <a:lnTo>
                    <a:pt x="4" y="614"/>
                  </a:lnTo>
                  <a:lnTo>
                    <a:pt x="7" y="610"/>
                  </a:lnTo>
                  <a:lnTo>
                    <a:pt x="28" y="589"/>
                  </a:lnTo>
                  <a:lnTo>
                    <a:pt x="48" y="567"/>
                  </a:lnTo>
                  <a:lnTo>
                    <a:pt x="68" y="544"/>
                  </a:lnTo>
                  <a:lnTo>
                    <a:pt x="90" y="522"/>
                  </a:lnTo>
                  <a:lnTo>
                    <a:pt x="112" y="501"/>
                  </a:lnTo>
                  <a:lnTo>
                    <a:pt x="134" y="481"/>
                  </a:lnTo>
                  <a:lnTo>
                    <a:pt x="158" y="464"/>
                  </a:lnTo>
                  <a:lnTo>
                    <a:pt x="182" y="449"/>
                  </a:lnTo>
                  <a:lnTo>
                    <a:pt x="178" y="440"/>
                  </a:lnTo>
                  <a:lnTo>
                    <a:pt x="215" y="414"/>
                  </a:lnTo>
                  <a:lnTo>
                    <a:pt x="226" y="397"/>
                  </a:lnTo>
                  <a:lnTo>
                    <a:pt x="245" y="374"/>
                  </a:lnTo>
                  <a:lnTo>
                    <a:pt x="270" y="346"/>
                  </a:lnTo>
                  <a:lnTo>
                    <a:pt x="298" y="317"/>
                  </a:lnTo>
                  <a:lnTo>
                    <a:pt x="326" y="290"/>
                  </a:lnTo>
                  <a:lnTo>
                    <a:pt x="354" y="266"/>
                  </a:lnTo>
                  <a:lnTo>
                    <a:pt x="376" y="247"/>
                  </a:lnTo>
                  <a:lnTo>
                    <a:pt x="392" y="238"/>
                  </a:lnTo>
                  <a:lnTo>
                    <a:pt x="384" y="233"/>
                  </a:lnTo>
                  <a:lnTo>
                    <a:pt x="389" y="229"/>
                  </a:lnTo>
                  <a:lnTo>
                    <a:pt x="394" y="223"/>
                  </a:lnTo>
                  <a:lnTo>
                    <a:pt x="399" y="218"/>
                  </a:lnTo>
                  <a:lnTo>
                    <a:pt x="405" y="214"/>
                  </a:lnTo>
                  <a:lnTo>
                    <a:pt x="410" y="209"/>
                  </a:lnTo>
                  <a:lnTo>
                    <a:pt x="416" y="204"/>
                  </a:lnTo>
                  <a:lnTo>
                    <a:pt x="422" y="200"/>
                  </a:lnTo>
                  <a:lnTo>
                    <a:pt x="428" y="196"/>
                  </a:lnTo>
                  <a:lnTo>
                    <a:pt x="430" y="191"/>
                  </a:lnTo>
                  <a:lnTo>
                    <a:pt x="434" y="185"/>
                  </a:lnTo>
                  <a:lnTo>
                    <a:pt x="438" y="180"/>
                  </a:lnTo>
                  <a:lnTo>
                    <a:pt x="444" y="176"/>
                  </a:lnTo>
                  <a:lnTo>
                    <a:pt x="448" y="171"/>
                  </a:lnTo>
                  <a:lnTo>
                    <a:pt x="454" y="168"/>
                  </a:lnTo>
                  <a:lnTo>
                    <a:pt x="461" y="164"/>
                  </a:lnTo>
                  <a:lnTo>
                    <a:pt x="467" y="162"/>
                  </a:lnTo>
                  <a:lnTo>
                    <a:pt x="462" y="155"/>
                  </a:lnTo>
                  <a:lnTo>
                    <a:pt x="469" y="156"/>
                  </a:lnTo>
                  <a:lnTo>
                    <a:pt x="475" y="147"/>
                  </a:lnTo>
                  <a:lnTo>
                    <a:pt x="482" y="139"/>
                  </a:lnTo>
                  <a:lnTo>
                    <a:pt x="488" y="132"/>
                  </a:lnTo>
                  <a:lnTo>
                    <a:pt x="495" y="124"/>
                  </a:lnTo>
                  <a:lnTo>
                    <a:pt x="500" y="117"/>
                  </a:lnTo>
                  <a:lnTo>
                    <a:pt x="507" y="110"/>
                  </a:lnTo>
                  <a:lnTo>
                    <a:pt x="514" y="103"/>
                  </a:lnTo>
                  <a:lnTo>
                    <a:pt x="521" y="96"/>
                  </a:lnTo>
                  <a:lnTo>
                    <a:pt x="528" y="93"/>
                  </a:lnTo>
                  <a:lnTo>
                    <a:pt x="541" y="82"/>
                  </a:lnTo>
                  <a:lnTo>
                    <a:pt x="557" y="65"/>
                  </a:lnTo>
                  <a:lnTo>
                    <a:pt x="574" y="45"/>
                  </a:lnTo>
                  <a:lnTo>
                    <a:pt x="592" y="27"/>
                  </a:lnTo>
                  <a:lnTo>
                    <a:pt x="609" y="11"/>
                  </a:lnTo>
                  <a:lnTo>
                    <a:pt x="622" y="2"/>
                  </a:lnTo>
                  <a:lnTo>
                    <a:pt x="6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24200" y="1824120"/>
              <a:ext cx="399240" cy="392040"/>
            </a:xfrm>
            <a:custGeom>
              <a:avLst/>
              <a:gdLst/>
              <a:ahLst/>
              <a:rect l="l" t="t" r="r" b="b"/>
              <a:pathLst>
                <a:path w="783" h="785">
                  <a:moveTo>
                    <a:pt x="1" y="97"/>
                  </a:moveTo>
                  <a:lnTo>
                    <a:pt x="104" y="0"/>
                  </a:lnTo>
                  <a:lnTo>
                    <a:pt x="164" y="70"/>
                  </a:lnTo>
                  <a:lnTo>
                    <a:pt x="182" y="74"/>
                  </a:lnTo>
                  <a:lnTo>
                    <a:pt x="194" y="103"/>
                  </a:lnTo>
                  <a:lnTo>
                    <a:pt x="201" y="97"/>
                  </a:lnTo>
                  <a:lnTo>
                    <a:pt x="257" y="150"/>
                  </a:lnTo>
                  <a:lnTo>
                    <a:pt x="258" y="151"/>
                  </a:lnTo>
                  <a:lnTo>
                    <a:pt x="263" y="156"/>
                  </a:lnTo>
                  <a:lnTo>
                    <a:pt x="272" y="164"/>
                  </a:lnTo>
                  <a:lnTo>
                    <a:pt x="282" y="176"/>
                  </a:lnTo>
                  <a:lnTo>
                    <a:pt x="295" y="188"/>
                  </a:lnTo>
                  <a:lnTo>
                    <a:pt x="310" y="202"/>
                  </a:lnTo>
                  <a:lnTo>
                    <a:pt x="325" y="216"/>
                  </a:lnTo>
                  <a:lnTo>
                    <a:pt x="341" y="229"/>
                  </a:lnTo>
                  <a:lnTo>
                    <a:pt x="318" y="217"/>
                  </a:lnTo>
                  <a:lnTo>
                    <a:pt x="320" y="220"/>
                  </a:lnTo>
                  <a:lnTo>
                    <a:pt x="326" y="226"/>
                  </a:lnTo>
                  <a:lnTo>
                    <a:pt x="335" y="237"/>
                  </a:lnTo>
                  <a:lnTo>
                    <a:pt x="346" y="248"/>
                  </a:lnTo>
                  <a:lnTo>
                    <a:pt x="360" y="262"/>
                  </a:lnTo>
                  <a:lnTo>
                    <a:pt x="376" y="277"/>
                  </a:lnTo>
                  <a:lnTo>
                    <a:pt x="392" y="294"/>
                  </a:lnTo>
                  <a:lnTo>
                    <a:pt x="409" y="310"/>
                  </a:lnTo>
                  <a:lnTo>
                    <a:pt x="426" y="328"/>
                  </a:lnTo>
                  <a:lnTo>
                    <a:pt x="443" y="344"/>
                  </a:lnTo>
                  <a:lnTo>
                    <a:pt x="458" y="359"/>
                  </a:lnTo>
                  <a:lnTo>
                    <a:pt x="473" y="373"/>
                  </a:lnTo>
                  <a:lnTo>
                    <a:pt x="485" y="385"/>
                  </a:lnTo>
                  <a:lnTo>
                    <a:pt x="495" y="394"/>
                  </a:lnTo>
                  <a:lnTo>
                    <a:pt x="503" y="401"/>
                  </a:lnTo>
                  <a:lnTo>
                    <a:pt x="507" y="405"/>
                  </a:lnTo>
                  <a:lnTo>
                    <a:pt x="505" y="397"/>
                  </a:lnTo>
                  <a:lnTo>
                    <a:pt x="515" y="405"/>
                  </a:lnTo>
                  <a:lnTo>
                    <a:pt x="522" y="418"/>
                  </a:lnTo>
                  <a:lnTo>
                    <a:pt x="526" y="431"/>
                  </a:lnTo>
                  <a:lnTo>
                    <a:pt x="531" y="442"/>
                  </a:lnTo>
                  <a:lnTo>
                    <a:pt x="532" y="435"/>
                  </a:lnTo>
                  <a:lnTo>
                    <a:pt x="548" y="441"/>
                  </a:lnTo>
                  <a:lnTo>
                    <a:pt x="585" y="496"/>
                  </a:lnTo>
                  <a:lnTo>
                    <a:pt x="564" y="467"/>
                  </a:lnTo>
                  <a:lnTo>
                    <a:pt x="575" y="480"/>
                  </a:lnTo>
                  <a:lnTo>
                    <a:pt x="586" y="491"/>
                  </a:lnTo>
                  <a:lnTo>
                    <a:pt x="598" y="503"/>
                  </a:lnTo>
                  <a:lnTo>
                    <a:pt x="610" y="513"/>
                  </a:lnTo>
                  <a:lnTo>
                    <a:pt x="622" y="524"/>
                  </a:lnTo>
                  <a:lnTo>
                    <a:pt x="634" y="534"/>
                  </a:lnTo>
                  <a:lnTo>
                    <a:pt x="647" y="545"/>
                  </a:lnTo>
                  <a:lnTo>
                    <a:pt x="659" y="556"/>
                  </a:lnTo>
                  <a:lnTo>
                    <a:pt x="598" y="499"/>
                  </a:lnTo>
                  <a:lnTo>
                    <a:pt x="610" y="510"/>
                  </a:lnTo>
                  <a:lnTo>
                    <a:pt x="623" y="520"/>
                  </a:lnTo>
                  <a:lnTo>
                    <a:pt x="634" y="530"/>
                  </a:lnTo>
                  <a:lnTo>
                    <a:pt x="646" y="542"/>
                  </a:lnTo>
                  <a:lnTo>
                    <a:pt x="657" y="554"/>
                  </a:lnTo>
                  <a:lnTo>
                    <a:pt x="669" y="565"/>
                  </a:lnTo>
                  <a:lnTo>
                    <a:pt x="681" y="577"/>
                  </a:lnTo>
                  <a:lnTo>
                    <a:pt x="692" y="588"/>
                  </a:lnTo>
                  <a:lnTo>
                    <a:pt x="704" y="600"/>
                  </a:lnTo>
                  <a:lnTo>
                    <a:pt x="714" y="611"/>
                  </a:lnTo>
                  <a:lnTo>
                    <a:pt x="725" y="623"/>
                  </a:lnTo>
                  <a:lnTo>
                    <a:pt x="737" y="634"/>
                  </a:lnTo>
                  <a:lnTo>
                    <a:pt x="748" y="646"/>
                  </a:lnTo>
                  <a:lnTo>
                    <a:pt x="760" y="657"/>
                  </a:lnTo>
                  <a:lnTo>
                    <a:pt x="772" y="669"/>
                  </a:lnTo>
                  <a:lnTo>
                    <a:pt x="783" y="680"/>
                  </a:lnTo>
                  <a:lnTo>
                    <a:pt x="782" y="694"/>
                  </a:lnTo>
                  <a:lnTo>
                    <a:pt x="689" y="785"/>
                  </a:lnTo>
                  <a:lnTo>
                    <a:pt x="663" y="779"/>
                  </a:lnTo>
                  <a:lnTo>
                    <a:pt x="646" y="761"/>
                  </a:lnTo>
                  <a:lnTo>
                    <a:pt x="628" y="744"/>
                  </a:lnTo>
                  <a:lnTo>
                    <a:pt x="608" y="728"/>
                  </a:lnTo>
                  <a:lnTo>
                    <a:pt x="589" y="710"/>
                  </a:lnTo>
                  <a:lnTo>
                    <a:pt x="571" y="693"/>
                  </a:lnTo>
                  <a:lnTo>
                    <a:pt x="555" y="675"/>
                  </a:lnTo>
                  <a:lnTo>
                    <a:pt x="540" y="655"/>
                  </a:lnTo>
                  <a:lnTo>
                    <a:pt x="528" y="633"/>
                  </a:lnTo>
                  <a:lnTo>
                    <a:pt x="518" y="631"/>
                  </a:lnTo>
                  <a:lnTo>
                    <a:pt x="509" y="625"/>
                  </a:lnTo>
                  <a:lnTo>
                    <a:pt x="500" y="616"/>
                  </a:lnTo>
                  <a:lnTo>
                    <a:pt x="492" y="605"/>
                  </a:lnTo>
                  <a:lnTo>
                    <a:pt x="485" y="594"/>
                  </a:lnTo>
                  <a:lnTo>
                    <a:pt x="478" y="583"/>
                  </a:lnTo>
                  <a:lnTo>
                    <a:pt x="471" y="574"/>
                  </a:lnTo>
                  <a:lnTo>
                    <a:pt x="464" y="567"/>
                  </a:lnTo>
                  <a:lnTo>
                    <a:pt x="447" y="563"/>
                  </a:lnTo>
                  <a:lnTo>
                    <a:pt x="444" y="560"/>
                  </a:lnTo>
                  <a:lnTo>
                    <a:pt x="440" y="556"/>
                  </a:lnTo>
                  <a:lnTo>
                    <a:pt x="435" y="550"/>
                  </a:lnTo>
                  <a:lnTo>
                    <a:pt x="428" y="543"/>
                  </a:lnTo>
                  <a:lnTo>
                    <a:pt x="422" y="537"/>
                  </a:lnTo>
                  <a:lnTo>
                    <a:pt x="416" y="533"/>
                  </a:lnTo>
                  <a:lnTo>
                    <a:pt x="411" y="529"/>
                  </a:lnTo>
                  <a:lnTo>
                    <a:pt x="406" y="528"/>
                  </a:lnTo>
                  <a:lnTo>
                    <a:pt x="389" y="491"/>
                  </a:lnTo>
                  <a:lnTo>
                    <a:pt x="373" y="486"/>
                  </a:lnTo>
                  <a:lnTo>
                    <a:pt x="343" y="449"/>
                  </a:lnTo>
                  <a:lnTo>
                    <a:pt x="334" y="442"/>
                  </a:lnTo>
                  <a:lnTo>
                    <a:pt x="323" y="435"/>
                  </a:lnTo>
                  <a:lnTo>
                    <a:pt x="313" y="429"/>
                  </a:lnTo>
                  <a:lnTo>
                    <a:pt x="303" y="422"/>
                  </a:lnTo>
                  <a:lnTo>
                    <a:pt x="293" y="416"/>
                  </a:lnTo>
                  <a:lnTo>
                    <a:pt x="285" y="408"/>
                  </a:lnTo>
                  <a:lnTo>
                    <a:pt x="280" y="400"/>
                  </a:lnTo>
                  <a:lnTo>
                    <a:pt x="276" y="390"/>
                  </a:lnTo>
                  <a:lnTo>
                    <a:pt x="289" y="388"/>
                  </a:lnTo>
                  <a:lnTo>
                    <a:pt x="254" y="368"/>
                  </a:lnTo>
                  <a:lnTo>
                    <a:pt x="250" y="351"/>
                  </a:lnTo>
                  <a:lnTo>
                    <a:pt x="250" y="355"/>
                  </a:lnTo>
                  <a:lnTo>
                    <a:pt x="242" y="351"/>
                  </a:lnTo>
                  <a:lnTo>
                    <a:pt x="234" y="344"/>
                  </a:lnTo>
                  <a:lnTo>
                    <a:pt x="225" y="338"/>
                  </a:lnTo>
                  <a:lnTo>
                    <a:pt x="217" y="330"/>
                  </a:lnTo>
                  <a:lnTo>
                    <a:pt x="210" y="322"/>
                  </a:lnTo>
                  <a:lnTo>
                    <a:pt x="205" y="314"/>
                  </a:lnTo>
                  <a:lnTo>
                    <a:pt x="199" y="306"/>
                  </a:lnTo>
                  <a:lnTo>
                    <a:pt x="195" y="297"/>
                  </a:lnTo>
                  <a:lnTo>
                    <a:pt x="191" y="294"/>
                  </a:lnTo>
                  <a:lnTo>
                    <a:pt x="182" y="287"/>
                  </a:lnTo>
                  <a:lnTo>
                    <a:pt x="171" y="278"/>
                  </a:lnTo>
                  <a:lnTo>
                    <a:pt x="159" y="267"/>
                  </a:lnTo>
                  <a:lnTo>
                    <a:pt x="144" y="253"/>
                  </a:lnTo>
                  <a:lnTo>
                    <a:pt x="128" y="237"/>
                  </a:lnTo>
                  <a:lnTo>
                    <a:pt x="111" y="219"/>
                  </a:lnTo>
                  <a:lnTo>
                    <a:pt x="94" y="202"/>
                  </a:lnTo>
                  <a:lnTo>
                    <a:pt x="77" y="185"/>
                  </a:lnTo>
                  <a:lnTo>
                    <a:pt x="61" y="169"/>
                  </a:lnTo>
                  <a:lnTo>
                    <a:pt x="46" y="152"/>
                  </a:lnTo>
                  <a:lnTo>
                    <a:pt x="32" y="138"/>
                  </a:lnTo>
                  <a:lnTo>
                    <a:pt x="19" y="126"/>
                  </a:lnTo>
                  <a:lnTo>
                    <a:pt x="10" y="116"/>
                  </a:lnTo>
                  <a:lnTo>
                    <a:pt x="3" y="109"/>
                  </a:lnTo>
                  <a:lnTo>
                    <a:pt x="0" y="105"/>
                  </a:lnTo>
                  <a:lnTo>
                    <a:pt x="1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56560" y="1376280"/>
              <a:ext cx="1042200" cy="1008000"/>
            </a:xfrm>
            <a:prstGeom prst="donut">
              <a:avLst>
                <a:gd name="adj" fmla="val 1319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436680" y="3755880"/>
            <a:ext cx="2817720" cy="262116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147600" y="136440"/>
            <a:ext cx="8877240" cy="6575400"/>
            <a:chOff x="147600" y="136440"/>
            <a:chExt cx="8877240" cy="6575400"/>
          </a:xfrm>
        </p:grpSpPr>
        <p:sp>
          <p:nvSpPr>
            <p:cNvPr id="154" name=""/>
            <p:cNvSpPr/>
            <p:nvPr/>
          </p:nvSpPr>
          <p:spPr>
            <a:xfrm>
              <a:off x="268200" y="365040"/>
              <a:ext cx="8629560" cy="6201000"/>
            </a:xfrm>
            <a:prstGeom prst="rect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7600" y="136440"/>
              <a:ext cx="8877240" cy="657540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980s and 90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170760" y="3321000"/>
            <a:ext cx="2058840" cy="3124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888240" y="492120"/>
            <a:ext cx="1805040" cy="2654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3510000" y="4235400"/>
            <a:ext cx="2205000" cy="2268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1139760" y="744480"/>
            <a:ext cx="1162080" cy="3357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18960" y="4429080"/>
            <a:ext cx="2894040" cy="2065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2944800" y="1378080"/>
            <a:ext cx="2008080" cy="277488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147600" y="136440"/>
            <a:ext cx="8877240" cy="6575400"/>
            <a:chOff x="147600" y="136440"/>
            <a:chExt cx="8877240" cy="6575400"/>
          </a:xfrm>
        </p:grpSpPr>
        <p:sp>
          <p:nvSpPr>
            <p:cNvPr id="164" name=""/>
            <p:cNvSpPr/>
            <p:nvPr/>
          </p:nvSpPr>
          <p:spPr>
            <a:xfrm>
              <a:off x="268200" y="365040"/>
              <a:ext cx="8629560" cy="6201000"/>
            </a:xfrm>
            <a:prstGeom prst="rect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7600" y="136440"/>
              <a:ext cx="8877240" cy="657540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33840" y="263160"/>
            <a:ext cx="362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48320" y="409716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33360" y="1243080"/>
            <a:ext cx="3298680" cy="2028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844720" y="4118040"/>
            <a:ext cx="1979640" cy="2238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rcRect l="0" t="0" r="-69" b="0"/>
          <a:stretch/>
        </p:blipFill>
        <p:spPr>
          <a:xfrm>
            <a:off x="3813120" y="1758960"/>
            <a:ext cx="978120" cy="1990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534960" y="3435480"/>
            <a:ext cx="2092320" cy="2257200"/>
          </a:xfrm>
          <a:prstGeom prst="rect">
            <a:avLst/>
          </a:prstGeom>
          <a:ln w="0">
            <a:noFill/>
          </a:ln>
        </p:spPr>
      </p:pic>
      <p:grpSp>
        <p:nvGrpSpPr>
          <p:cNvPr id="172" name=""/>
          <p:cNvGrpSpPr/>
          <p:nvPr/>
        </p:nvGrpSpPr>
        <p:grpSpPr>
          <a:xfrm>
            <a:off x="147600" y="136440"/>
            <a:ext cx="8877240" cy="6575400"/>
            <a:chOff x="147600" y="136440"/>
            <a:chExt cx="8877240" cy="6575400"/>
          </a:xfrm>
        </p:grpSpPr>
        <p:sp>
          <p:nvSpPr>
            <p:cNvPr id="173" name=""/>
            <p:cNvSpPr/>
            <p:nvPr/>
          </p:nvSpPr>
          <p:spPr>
            <a:xfrm>
              <a:off x="268200" y="365040"/>
              <a:ext cx="8629560" cy="6201000"/>
            </a:xfrm>
            <a:prstGeom prst="rect">
              <a:avLst/>
            </a:prstGeom>
            <a:noFill/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600" y="136440"/>
              <a:ext cx="8877240" cy="657540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4890960" y="1258920"/>
            <a:ext cx="39420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5:16:17Z</dcterms:created>
  <dc:creator>Texas A&amp;M Veterinary Medicine</dc:creator>
  <dc:description/>
  <dc:language>en-US</dc:language>
  <cp:lastModifiedBy>College of Veterinary Medicine</cp:lastModifiedBy>
  <dcterms:modified xsi:type="dcterms:W3CDTF">2007-07-31T15:31:32Z</dcterms:modified>
  <cp:revision>9</cp:revision>
  <dc:subject/>
  <dc:title>Fashion Trends Through Time</dc:title>
</cp:coreProperties>
</file>