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6773-8BF9-4AA7-9496-A4E518BF1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9B: The student is expected to: draw on experiences to bring meanings to words in context such as interpreting idioms, multiple-meaning words, and analogies (6-8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DCA7-AE66-41FE-864F-6C0483BB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4E62-8302-494B-9C5A-55A08980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A37E-76DD-4321-B1AC-9DD69CF0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A805-7ED4-47EE-B81F-D05D3917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8093-D0FC-4C20-A385-EF69EC7D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BFED-8804-496D-86BA-8D0C3C5C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030F-21B9-40EB-AA0B-B0A0A719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4B96-D2A2-4A3B-9354-2D0AF196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5D0D-5B41-4BFD-9C0C-EE11FE9D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4D49-9053-409E-8565-FDB5CBA1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9745-596B-4BF9-9F56-7946041B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94C0-DCAD-4D02-83BF-F9D8BCDD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F22A-E03B-4CA7-AA62-5B40261E598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76240" y="1314360"/>
            <a:ext cx="73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eaea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36734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00200" y="1928880"/>
            <a:ext cx="764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cross from the butcher, the acrid smell of shrimp, mussels, and other shellfish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erme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night air as the fish vendor stirred a thick, iron pot over the tiny flame of a dung fir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troy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mouflag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etrated or passed throug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43768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403280" y="49118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405080" y="54482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Their journey through the park and the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 notor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lley shortcut had taken only about twenty minutes, but it seemed like a lifetim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bit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ely, but unfavorably know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nd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03280" y="41450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403280" y="46800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405080" y="5216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171960" y="2790720"/>
            <a:ext cx="2790720" cy="1257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091040" y="467208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6440" y="1900080"/>
            <a:ext cx="8142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49360" indent="-549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Isn’t it about time to head back?’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queri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K.T. breaking the silence.  She set down her rod and began doing jumping jacks, shaking the weathered planks and bouncing all five of her friends.  ‘I need to move!’ 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-549360">
              <a:spcBef>
                <a:spcPts val="2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esti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i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3280" y="46306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03280" y="51656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5080" y="5702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4800" y="1905120"/>
            <a:ext cx="802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 chorus of ‘be still’ and ‘stop that’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assail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K.T. and she reluctantly stopped jumping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lmed, reassur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acked with arg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rept slowly ar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403280" y="363996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403280" y="42004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405080" y="47498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764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The lines got tangled, and the keypad must have activated when it crashed into my rod,’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surmis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uessed; thought without strong evid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pli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03280" y="36432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403280" y="42037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405080" y="475308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The way it looks around here, you could never get lonely in India,’ Summer commented as anot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hor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tourists approached them along the shadowy walkway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mass or crow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large fie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tree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05320" y="4043520"/>
            <a:ext cx="3176640" cy="238284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403280" y="43927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403280" y="49276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405080" y="546408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47280" y="1895400"/>
            <a:ext cx="785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Four long, reflecting pool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isec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icured, formal gardens that lined broad, stone walkways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mold someth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erform an operation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cut or divide into equal or nearly equa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03280" y="36781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403280" y="421308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405080" y="47498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566640">
              <a:spcBef>
                <a:spcPts val="799"/>
              </a:spcBef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It was so massive and yet so perfectly proportioned that it seem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surreal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1"/>
              </a:spcBef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racterized by a blurry 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ction, not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03280" y="31640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03280" y="36990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405080" y="4235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566640">
              <a:spcBef>
                <a:spcPts val="2001"/>
              </a:spcBef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On and on the recording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dron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in various languages as more police led an ever-increasing number of visitors away from the doorway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oke in a flat, continuous 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oke very lou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peated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03280" y="41353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403280" y="467028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405080" y="52070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01640" y="1927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cross from the butcher,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acri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smell of shrimp, mussels, and other shellfish permeated the night air as the fish vendor stirred a thick, iron pot over the tiny flame of a dung fir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ppeal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ysterio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bitter or sting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03280" y="43768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403280" y="49118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405080" y="54482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Vince Hardy</cp:lastModifiedBy>
  <dcterms:modified xsi:type="dcterms:W3CDTF">2007-05-03T16:34:58Z</dcterms:modified>
  <cp:revision>88</cp:revision>
  <dc:subject/>
  <dc:title>Vocab Challenge</dc:title>
</cp:coreProperties>
</file>