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7227-A763-4C5C-A588-B94E631FC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C: The student is expected to: monitor his/her own comprehension and make modifications when understanding breaks down such as by rereading a portion aloud, using reference aids, searching for clues, and asking question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: use the text’s structure or progression of ideas such as cause and effect or chronology to locate and recall information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: draw inferences such as conclusions or generalizations and support them with text evidence and experienc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: Answer different types and levels of questions such as open-ended, literal, and interpretative as well as test-like questions such as multiple choice, true-false, and short answer(4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, including letters, news, records, and form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F100-9289-485D-A675-0B467773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39D7-7ED9-4B4E-B8CC-B0C41586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A480-F70D-4DFB-A769-6EB34164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C56B-BFE7-4C74-84BE-5CD60A6B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F5F7-DB8D-45D6-9C32-C14A2823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E742-1C32-40EF-9273-4D3DD3D6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5B9-A7DE-48D0-8BAB-DFFA645E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78A4-6F3E-4A68-AE7A-17AF3F87C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C4DC-0BCD-41DA-9838-0C91582C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8E02-2687-4F0F-879C-A2BBF5BE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4D37-141F-4227-BE42-5A2465F8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9F57-5E67-417C-9CA8-47955620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69AF-22B2-49E6-B2B2-A47127FC2E3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9880" y="195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 Which one of the following presented a contrast to the sickness and poverty the friends saw in the alleyway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spcBef>
                <a:spcPts val="224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ld woman selling vegetabl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little girl begging for mon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visiting the Taj Maha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lderly man clutching his stomac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7480" y="3308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251000" y="498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25100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1254240" y="387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55120" y="1596960"/>
            <a:ext cx="7991640" cy="47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2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friends were able to travel together back to their home b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 new Backpack Comput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ke them 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ying on a commercial airli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iding on a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ting a magical incantation. grasping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other’s han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rasping each other’s han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257480" y="2978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251000" y="5030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251000" y="4416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1254240" y="3836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1254240" y="592308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18040" y="28353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230720" y="51879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74720" y="156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beginning of the story, who do you learn is bored by the moonlight fishing adventur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57480" y="3348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51000" y="4991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51000" y="4424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54240" y="3882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Travis left on the fishing pier by himself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got tired and went ho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gone for a midnight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w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PC accident teleported the oth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other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a major exam the next 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 had no more time to f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257480" y="2841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251000" y="5343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251000" y="441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254240" y="3481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find themselves transported to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lace of Versail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great wall of Chin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ckingham Palace in Lond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aj Mahal in Ind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57480" y="2362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251000" y="403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251000" y="3467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254240" y="2911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7472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oes NOT correctly match a place from the story with a partial description of the plac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hjahan Park:  filled with sweet smelling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w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eyway:  lined with shops and vend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shing pier:  moonl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rdens:  includes four, long reflecting poo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257480" y="324468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251000" y="5180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251000" y="461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254240" y="4057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id the friends see as they traveled through the alleywa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 including donkeys, goats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uits and vegetab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ad chickens hung upside dow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food shop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257480" y="28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251000" y="4740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251000" y="418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254240" y="3629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1254240" y="530856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saw several people who did not seem well. Which of the following were not well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Pat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young couple on their honeymo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n who was being tattoo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our gu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eenage gir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246320" y="31575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251000" y="4829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251000" y="427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25424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1254240" y="538956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ithout the BPC language translator, how were the friends understood by the people they met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spoke Hind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used sign langua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acted as translat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econd language of the country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ngl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257480" y="3121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251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251000" y="4226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254240" y="36702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076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le walking through the alley, the friends were surprised to see a sign advertising</a:t>
            </a:r>
            <a:br>
              <a:rPr sz="32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st 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 do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s of the tomb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acci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257480" y="3311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251000" y="4992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25100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254240" y="38736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4T18:03:11Z</dcterms:modified>
  <cp:revision>79</cp:revision>
  <dc:subject/>
  <dc:title>Investigator Challenge Quiz</dc:title>
</cp:coreProperties>
</file>