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D45C-33DC-416B-ACB7-953B24262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9B: The student is expected to: draw on experiences to bring meanings to words in context such as interpreting idioms, multiple-meaning words, and analogies (6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A43-6817-4CDA-B118-F7488C4D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39A-1036-48E7-A6A8-912B2D0E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823-C10A-4619-B83F-CDDD0BA3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F2D-D0E4-4115-BED3-27E83055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7CF-0DE2-406C-92F0-BD0D1A6E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54C-992C-4E8A-8BDE-AC4BE1E2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BC6-0254-456F-8711-B2E02AE9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A27-291D-4B14-A4A0-42397E65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3E5-2A6A-4990-9371-BBE0EF07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15E-D4DE-4664-B79A-89C2237D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A78-71A8-496D-9D09-DD2C2B9B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D7B5-EDA4-4356-8C79-2B34EE93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3AFB-794D-46FA-A9FF-7341580F71C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6240" y="1314360"/>
            <a:ext cx="73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36734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00200" y="19288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acrid smell of shrimp, mussels, and other shellfish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erme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troy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mouflag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etrated or passed throug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Their journey through the park and the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 notor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lley shortcut had taken only about twenty minutes, but it seemed like a lifetim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ely, but unfavorably know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nd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4145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403280" y="4680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05080" y="5216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71960" y="27907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091040" y="46720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190008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49360" indent="-54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Isn’t it about time to head back?’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queri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breaking the silence.  She set down her rod and began doing jumping jacks, shaking the weathered planks and bouncing all five of her friends.  ‘I need to move!’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spcBef>
                <a:spcPts val="2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es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4630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03280" y="51656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5080" y="5702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4800" y="1905120"/>
            <a:ext cx="802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 chorus of ‘be still’ and ‘stop that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ssail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and she reluctantly stopped jumping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lmed, reassu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acked with arg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rept slowly ar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363996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03280" y="42004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76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lines got tangled, and the keypad must have activated when it crashed into my rod,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mis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uessed; thought without strong evid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l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36432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4203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405080" y="4753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way it looks around here, you could never get lonely in India,’ Summer commented as anot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hor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tourists approached them along the shadowy walkway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ss or crow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large fie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tree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05320" y="4043520"/>
            <a:ext cx="3176640" cy="23828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03280" y="4392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403280" y="4927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405080" y="5464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47280" y="18954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Four long, reflecting pool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isec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icured, formal gardens that lined broad, stone walkways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mold someth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erform an operation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cut or divide into equal or nearly equa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36781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03280" y="42130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799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It was so massive and yet so perfectly proportioned that it seem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real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racterized by a blurry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ction, not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3164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03280" y="3699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05080" y="4235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On and on the recording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dron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in various languages as more police led an ever-increasing number of visitors away from the doorway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in a flat, continuous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very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eated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41353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03280" y="46702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05080" y="52070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1640" y="192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cri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mell of shrimp, mussels, and other shellfish permeated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ppeal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ysterio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 or sting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Vince Hardy</cp:lastModifiedBy>
  <dcterms:modified xsi:type="dcterms:W3CDTF">2007-05-03T16:34:58Z</dcterms:modified>
  <cp:revision>88</cp:revision>
  <dc:subject/>
  <dc:title>Vocab Challenge</dc:title>
</cp:coreProperties>
</file>