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29B5-EDC7-4C41-BE1A-07666BA69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AC8-DC8C-4900-B56E-D40BC808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6DC-FBC3-4286-A00F-089F1231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DEF-86E9-4A0D-BBB4-CF1C1282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835-EF7E-475F-8C04-E25DDE8F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BDB-F2A6-4F3F-B315-C0C0C70F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561-016D-48D7-B157-9C555771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B26-0C29-4A17-861E-6BB75601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A10-10F3-45D5-B3E7-001697EC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DD4-F4E4-4323-9ECB-48E4AEA1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DD2-4F9E-41D7-87D9-BD6BFE30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588-4AC2-4CE1-B5A7-EC61D2A8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4AA-55BF-4D48-B287-4EDB115C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7349-AF0C-4B67-BE1F-8511EA83B53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OrganSystems/Module_3/index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pnet.com/hepa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idod/diseases/hepatitis/b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da.gov/fdac/features/1999/299_hepc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" y="5054400"/>
            <a:ext cx="8916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World-Wide Scourg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8922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:</a:t>
            </a:r>
            <a:br>
              <a:rPr sz="4400"/>
            </a:b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Is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Hepatitis is a disease of the liver caused by a family of viruse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ommon virus types are: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19840" y="2000160"/>
            <a:ext cx="2778120" cy="4400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0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Does – Destroys the Liv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2663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ubation period: a week or two to several mon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ver cells are killed and replaced with connective tissue (“hardening of the liver”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toxification capabilities of the liver are impaired.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here for review of how the liver work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disease may trigger liver canc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9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A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419120"/>
            <a:ext cx="4581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ating/drinking substances contaminated with feces (fruits, vegetables, raw seafood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lu-li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, cooking foods thorough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19051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3265560"/>
            <a:ext cx="2057400" cy="92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1040" y="446076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241280"/>
            <a:ext cx="644220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ver 500 million people are chronic carrier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ure to contaminated bloo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 or 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ries from a few symptoms to relatively sudden death or death from chronic liver disease (15-25% of infected people die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ry condition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10440" y="750960"/>
            <a:ext cx="15206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02320" y="2587680"/>
            <a:ext cx="1463760" cy="16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59680" y="459900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% or more of the population is infected in Africa, S. E. Asia, Middle East (except Israel), Haiti, and the Dominican Republic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-7% is infected in India, the rest of Asia, Israel, Japan, Russia, Amazon River basin, Honduras, and Guatemal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87720" y="2241720"/>
            <a:ext cx="4946400" cy="3431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1184040"/>
            <a:ext cx="777240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/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(80%) have no symptom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atigue, loss of appetite, nause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ark uri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, cirrhosi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vaccinat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(drug treatment is under development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50040" y="3054240"/>
            <a:ext cx="1876320" cy="20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320" y="17589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7-26% of all people in Egypt are infec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-5% are infected in Middle East, eastern Europe, Central America, parts of Africa, and Austral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U.S., 4 million are infected -- 10,000 die each yea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0000" y="1530360"/>
            <a:ext cx="4065480" cy="496872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Jeremiah McNichols</cp:lastModifiedBy>
  <dcterms:modified xsi:type="dcterms:W3CDTF">2005-05-26T17:06:30Z</dcterms:modified>
  <cp:revision>90</cp:revision>
  <dc:subject/>
  <dc:title>Tour of the Ukraine</dc:title>
</cp:coreProperties>
</file>