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13.jpeg" ContentType="image/jpeg"/>
  <Override PartName="/ppt/media/image8.jpeg" ContentType="image/jpeg"/>
  <Override PartName="/ppt/media/image12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9E3F-3CA9-43F2-9919-6EC06143E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BBFA-F019-4233-9BE0-82FEA150E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40A2-E2C7-4F3F-AD66-3C3DC2C8B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sk the students to name some of the parts in the human body. Then express that these parts are systems themselves: the circulatory system is made up of the heart, veins, blood vessels, etc ; and these parts are also systems because they are made up of cells which are made up of atoms which are the smalles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EF97-B707-472B-82EB-C8CDBCF25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F1ED-CEE5-4F7F-A049-A76EBF5A6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Fact: The liver is one of the only organs that can regenerate its cells; as little as 25% of the liver can regenerate to produce a whole liver again.  The liver is vital to survival; a human can only live for 24hrs without a functioning l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3937-55AB-419A-97F5-D6B091C2A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definitions might be necessary here: Eukaryote vs. prokaryotes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embrane bound organelles are found in eukaryotes only, which means they are stationary in the cell not floating around like in bacteria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C452-A3E8-4C63-B043-BCA572C21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live/function without your leg or an eye; but you cannot live/function without your brain or he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52D8-8129-4651-B13D-3AAF39ED9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 of the student’s examples, let them also decide if the examples ar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str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ys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784E-9F28-4272-AA62-DE523E0C0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a few examples, feel free to add or remove any of the ex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16A0-DE1D-4C88-9D9E-C949D8B4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6303-E946-4CA9-990F-184FB9F2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515F-0810-44A1-BE62-AC9E8082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EBAD-72C9-4B59-8E4E-34ABC2894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8F73-76D6-49F2-9A47-9EC6DF91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0153-A2B2-49AC-9FF5-BFA006B5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360E-8AC6-4E55-87ED-E71BFB86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A94C-3D9B-4D73-B876-C1212CD0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269D-9B46-47D7-A09B-D6B27512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B03B-8BBA-41D9-A1C1-5EB44F65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2FDE-DAD6-4121-837E-C41B594F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77A9-7B95-4212-99D1-661F6AB8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26E4-3F40-4B1B-BD1A-6DC206368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eer.tamu.ed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hyperlink" Target="http://www.earthlife.net/cells.html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7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mid"/>
          <p:cNvPicPr/>
          <p:nvPr/>
        </p:nvPicPr>
        <p:blipFill>
          <a:blip r:embed="rId1"/>
          <a:stretch/>
        </p:blipFill>
        <p:spPr>
          <a:xfrm>
            <a:off x="1219320" y="533520"/>
            <a:ext cx="6591240" cy="2752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71808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peer.tamu.ed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Midnight at the Marble Tomb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omputer_System"/>
          <p:cNvPicPr/>
          <p:nvPr/>
        </p:nvPicPr>
        <p:blipFill>
          <a:blip r:embed="rId2"/>
          <a:stretch/>
        </p:blipFill>
        <p:spPr>
          <a:xfrm>
            <a:off x="3429000" y="1600200"/>
            <a:ext cx="5715000" cy="4572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s/c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 t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 d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/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k d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n for c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deo/sound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Midnight at the Marble Tomb background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est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 smallest natural systems include cells and ato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atom"/>
          <p:cNvPicPr/>
          <p:nvPr/>
        </p:nvPicPr>
        <p:blipFill>
          <a:blip r:embed="rId2"/>
          <a:stretch/>
        </p:blipFill>
        <p:spPr>
          <a:xfrm>
            <a:off x="5351400" y="3048120"/>
            <a:ext cx="2954520" cy="3352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eury-cell"/>
          <p:cNvPicPr/>
          <p:nvPr/>
        </p:nvPicPr>
        <p:blipFill>
          <a:blip r:embed="rId3"/>
          <a:stretch/>
        </p:blipFill>
        <p:spPr>
          <a:xfrm>
            <a:off x="914400" y="2743200"/>
            <a:ext cx="2698920" cy="29624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601200" y="609660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www.earthlife.net/cells.htm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5562720" y="25588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Atomic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Midnight at the Marble Tomb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4572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humans a type of syst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52280" y="3809880"/>
            <a:ext cx="42674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are all composed of interconnected parts that rely on the other parts of the system to sustain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MCj03982010000[1]"/>
          <p:cNvPicPr/>
          <p:nvPr/>
        </p:nvPicPr>
        <p:blipFill>
          <a:blip r:embed="rId2"/>
          <a:stretch/>
        </p:blipFill>
        <p:spPr>
          <a:xfrm>
            <a:off x="4994280" y="1219320"/>
            <a:ext cx="3629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5" descr="Midnight at the Marble Tomb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2"/>
          <p:cNvGrpSpPr/>
          <p:nvPr/>
        </p:nvGrpSpPr>
        <p:grpSpPr>
          <a:xfrm>
            <a:off x="304920" y="304920"/>
            <a:ext cx="8545320" cy="6149520"/>
            <a:chOff x="304920" y="304920"/>
            <a:chExt cx="8545320" cy="6149520"/>
          </a:xfrm>
        </p:grpSpPr>
        <p:pic>
          <p:nvPicPr>
            <p:cNvPr id="104" name="Picture 3" descr="NIEHS"/>
            <p:cNvPicPr/>
            <p:nvPr/>
          </p:nvPicPr>
          <p:blipFill>
            <a:blip r:embed="rId2"/>
            <a:stretch/>
          </p:blipFill>
          <p:spPr>
            <a:xfrm>
              <a:off x="380880" y="19098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4" descr="Peer"/>
            <p:cNvPicPr/>
            <p:nvPr/>
          </p:nvPicPr>
          <p:blipFill>
            <a:blip r:embed="rId3"/>
            <a:stretch/>
          </p:blipFill>
          <p:spPr>
            <a:xfrm>
              <a:off x="380880" y="343368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5" descr="CollegeofEdu"/>
            <p:cNvPicPr/>
            <p:nvPr/>
          </p:nvPicPr>
          <p:blipFill>
            <a:blip r:embed="rId4"/>
            <a:stretch/>
          </p:blipFill>
          <p:spPr>
            <a:xfrm>
              <a:off x="380880" y="495792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6"/>
            <p:cNvSpPr/>
            <p:nvPr/>
          </p:nvSpPr>
          <p:spPr>
            <a:xfrm>
              <a:off x="304920" y="838080"/>
              <a:ext cx="8534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 product is available through the cooperation of the following: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7" descr="CERH"/>
            <p:cNvPicPr/>
            <p:nvPr/>
          </p:nvPicPr>
          <p:blipFill>
            <a:blip r:embed="rId5"/>
            <a:stretch/>
          </p:blipFill>
          <p:spPr>
            <a:xfrm>
              <a:off x="4724280" y="345132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8" descr="New CVM logo_ any color"/>
            <p:cNvPicPr/>
            <p:nvPr/>
          </p:nvPicPr>
          <p:blipFill>
            <a:blip r:embed="rId6"/>
            <a:stretch/>
          </p:blipFill>
          <p:spPr>
            <a:xfrm>
              <a:off x="4724280" y="49705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" name="Group 9"/>
            <p:cNvGrpSpPr/>
            <p:nvPr/>
          </p:nvGrpSpPr>
          <p:grpSpPr>
            <a:xfrm>
              <a:off x="4643280" y="1928880"/>
              <a:ext cx="1546560" cy="1371600"/>
              <a:chOff x="4643280" y="1928880"/>
              <a:chExt cx="1546560" cy="1371600"/>
            </a:xfrm>
          </p:grpSpPr>
          <p:sp>
            <p:nvSpPr>
              <p:cNvPr id="111" name="Rectangle 10"/>
              <p:cNvSpPr/>
              <p:nvPr/>
            </p:nvSpPr>
            <p:spPr>
              <a:xfrm>
                <a:off x="4724280" y="19288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12" name="Object 11"/>
              <p:cNvGraphicFramePr/>
              <p:nvPr/>
            </p:nvGraphicFramePr>
            <p:xfrm>
              <a:off x="4643280" y="2117880"/>
              <a:ext cx="1546560" cy="1012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13" name="Object 11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643280" y="2117880"/>
                        <a:ext cx="1546560" cy="1012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14" name="Text Box 12"/>
            <p:cNvSpPr/>
            <p:nvPr/>
          </p:nvSpPr>
          <p:spPr>
            <a:xfrm>
              <a:off x="1916280" y="2139840"/>
              <a:ext cx="2674800" cy="43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tional Institute of Environmental Health 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3"/>
            <p:cNvSpPr/>
            <p:nvPr/>
          </p:nvSpPr>
          <p:spPr>
            <a:xfrm>
              <a:off x="304920" y="304920"/>
              <a:ext cx="8458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achers, please click on this link to complete a short survey concerning this module: </a:t>
              </a:r>
              <a:r>
                <a:rPr b="0" lang="en-US" sz="2000" spc="-1" strike="noStrike" u="sng">
                  <a:solidFill>
                    <a:srgbClr val="009999"/>
                  </a:solidFill>
                  <a:uFillTx/>
                  <a:latin typeface="Times New Roman"/>
                  <a:hlinkClick r:id="rId9"/>
                </a:rPr>
                <a:t>http://peer.tamu.edu/forms/Curricula_Survey.shtm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6248520" y="2057400"/>
              <a:ext cx="260172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and identify a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stigate how systems are organiz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how properties of a system can be different from its p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Midnight at the Marble Tomb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PC group travels to India. They come into contact with many sick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patitis is a virus that attacks cells in the liver. Without healthy cells, the liver cannot function prope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a healthy liver, our bodies cannot function prope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Sto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MCj02115160000[1]"/>
          <p:cNvPicPr/>
          <p:nvPr/>
        </p:nvPicPr>
        <p:blipFill>
          <a:blip r:embed="rId2"/>
          <a:stretch/>
        </p:blipFill>
        <p:spPr>
          <a:xfrm>
            <a:off x="7391520" y="1066680"/>
            <a:ext cx="1427040" cy="20574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83"/>
          <p:cNvGrpSpPr/>
          <p:nvPr/>
        </p:nvGrpSpPr>
        <p:grpSpPr>
          <a:xfrm>
            <a:off x="7162920" y="3200400"/>
            <a:ext cx="1857240" cy="1295280"/>
            <a:chOff x="7162920" y="3200400"/>
            <a:chExt cx="1857240" cy="1295280"/>
          </a:xfrm>
        </p:grpSpPr>
        <p:sp>
          <p:nvSpPr>
            <p:cNvPr id="57" name="Freeform 34"/>
            <p:cNvSpPr/>
            <p:nvPr/>
          </p:nvSpPr>
          <p:spPr>
            <a:xfrm>
              <a:off x="7189920" y="3204720"/>
              <a:ext cx="1753200" cy="1018440"/>
            </a:xfrm>
            <a:prstGeom prst="pie">
              <a:avLst/>
            </a:prstGeom>
            <a:solidFill>
              <a:srgbClr val="d2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5"/>
            <p:cNvSpPr/>
            <p:nvPr/>
          </p:nvSpPr>
          <p:spPr>
            <a:xfrm>
              <a:off x="7182360" y="3264480"/>
              <a:ext cx="1818000" cy="1221120"/>
            </a:xfrm>
            <a:prstGeom prst="pie">
              <a:avLst/>
            </a:prstGeom>
            <a:solidFill>
              <a:srgbClr val="f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8"/>
            <p:cNvSpPr/>
            <p:nvPr/>
          </p:nvSpPr>
          <p:spPr>
            <a:xfrm>
              <a:off x="7486920" y="3391560"/>
              <a:ext cx="344520" cy="312840"/>
            </a:xfrm>
            <a:prstGeom prst="pie">
              <a:avLst/>
            </a:prstGeom>
            <a:solidFill>
              <a:srgbClr val="f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9"/>
            <p:cNvSpPr/>
            <p:nvPr/>
          </p:nvSpPr>
          <p:spPr>
            <a:xfrm>
              <a:off x="8331480" y="3447000"/>
              <a:ext cx="318240" cy="243000"/>
            </a:xfrm>
            <a:prstGeom prst="pie">
              <a:avLst/>
            </a:prstGeom>
            <a:solidFill>
              <a:srgbClr val="f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79"/>
            <p:cNvSpPr/>
            <p:nvPr/>
          </p:nvSpPr>
          <p:spPr>
            <a:xfrm>
              <a:off x="7162920" y="3200400"/>
              <a:ext cx="1015200" cy="1295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80"/>
            <p:cNvSpPr/>
            <p:nvPr/>
          </p:nvSpPr>
          <p:spPr>
            <a:xfrm>
              <a:off x="7193880" y="4026960"/>
              <a:ext cx="842760" cy="46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81"/>
            <p:cNvSpPr/>
            <p:nvPr/>
          </p:nvSpPr>
          <p:spPr>
            <a:xfrm>
              <a:off x="8101440" y="3278880"/>
              <a:ext cx="918720" cy="65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82"/>
            <p:cNvSpPr/>
            <p:nvPr/>
          </p:nvSpPr>
          <p:spPr>
            <a:xfrm>
              <a:off x="8200800" y="3623400"/>
              <a:ext cx="819000" cy="33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Picture 84" descr="j0302953"/>
          <p:cNvPicPr/>
          <p:nvPr/>
        </p:nvPicPr>
        <p:blipFill>
          <a:blip r:embed="rId3"/>
          <a:stretch/>
        </p:blipFill>
        <p:spPr>
          <a:xfrm>
            <a:off x="7467480" y="4572000"/>
            <a:ext cx="1414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n Organ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dividual living syst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uman body is an organism.  It is composed from a variety of different types of cells that work together so the body can function prop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8" descr="Midnight at the Marble Tomb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sm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sm – Ex. Hum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 systems – Ex. Circul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s – Ex. He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s – Ex. Mus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s – Ex. Red 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152280" y="2514600"/>
            <a:ext cx="457200" cy="3581280"/>
          </a:xfrm>
          <a:prstGeom prst="downArrow">
            <a:avLst>
              <a:gd name="adj1" fmla="val 50000"/>
              <a:gd name="adj2" fmla="val 195827"/>
            </a:avLst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228600" y="1447920"/>
            <a:ext cx="83818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organism is organized into lev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Midnight at the Marble Tomb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Cell to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the hepatitis virus attacks the liver cells, the entire liver cannot function prope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liver cannot do its job, then it affects the entire digestive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 you think might happen to a person whose digestive system quit wor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Midnight at the Marble Tomb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exactly is a sys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ys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 set of interacting or interdependent parts forming an integrated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define a system by grouping parts with the same set of relationships or characteris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pieces/parts of a system serve a specific role for the purpose of the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parts are more essential than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Midnight at the Marble Tomb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572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ural system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ring in nature, not created by huma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-made system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signed for a specific purpose or obj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Photo"/>
          <p:cNvPicPr/>
          <p:nvPr/>
        </p:nvPicPr>
        <p:blipFill>
          <a:blip r:embed="rId2"/>
          <a:stretch/>
        </p:blipFill>
        <p:spPr>
          <a:xfrm>
            <a:off x="4762440" y="1219320"/>
            <a:ext cx="4076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Midnight at the Marble Tomb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you name some example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atu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a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ot system of pla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 systems of an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ver/lak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n-m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ing scale/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the Solar System"/>
          <p:cNvPicPr/>
          <p:nvPr/>
        </p:nvPicPr>
        <p:blipFill>
          <a:blip r:embed="rId2"/>
          <a:stretch/>
        </p:blipFill>
        <p:spPr>
          <a:xfrm>
            <a:off x="4572000" y="1752480"/>
            <a:ext cx="4281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3T18:32:20Z</dcterms:created>
  <dc:creator>ljlab</dc:creator>
  <dc:description/>
  <dc:language>en-US</dc:language>
  <cp:lastModifiedBy>Hannah</cp:lastModifiedBy>
  <dcterms:modified xsi:type="dcterms:W3CDTF">2009-03-08T19:26:36Z</dcterms:modified>
  <cp:revision>40</cp:revision>
  <dc:subject/>
  <dc:title>TEKS additions</dc:title>
</cp:coreProperties>
</file>