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9F4E-68CB-4EBA-9A2E-BA9F50DB3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structure and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lationship between organism and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E05-2486-49E8-8A0B-1EE5D534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AD9-E765-4386-8457-D16F86FD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813-0E5B-4698-8687-DC9818FA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A1F4-16D0-4B74-8A95-6AC02A5F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86C-F5E1-4CD5-A215-941E56C7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012-DC1E-463F-86CF-01EA36FE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BF4-CFAA-403C-B2D0-18929810A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545-1A6E-4AAA-96D5-260E46C2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4CCE-35AF-41FE-9287-840B70C8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5BC0-FECB-49A5-A717-2D41E9CB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5074-7944-490B-AF0D-A4E0FD45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046F-27FA-41C4-915C-AAE2B553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6807-2DFB-4C46-AA6A-834F3CF47CA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curriculum_modules/OrganSystems/Module_3/index.htm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pnet.com/hepa.html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ncidod/diseases/hepatitis/b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da.gov/fdac/features/1999/299_hepc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6800" y="5054400"/>
            <a:ext cx="8916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World-Wide Scourg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905120"/>
            <a:ext cx="2892240" cy="28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fectious Hepatitis:</a:t>
            </a:r>
            <a:br>
              <a:rPr sz="4400"/>
            </a:b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Is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3240" y="20430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Hepatitis is a disease of the liver caused by a family of viruses.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ommon virus types are: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5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bebeb"/>
                </a:solidFill>
                <a:latin typeface="Times New Roman"/>
              </a:rPr>
              <a:t>E</a:t>
            </a:r>
            <a:endParaRPr b="0" lang="en-US" sz="3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19840" y="2000160"/>
            <a:ext cx="2778120" cy="440064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9108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 it Does – Destroys the Liv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81040" y="26636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ubation period: a week or two to several month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ver cells are killed and replaced with connective tissue (“hardening of the liver”)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toxification capabilities of the liver are impaired.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here for review of how the liver work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disease may trigger liver canc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9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A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440" y="1419120"/>
            <a:ext cx="4581720" cy="54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ating/drinking substances contaminated with feces (fruits, vegetables, raw seafood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lu-li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, cooking foods thorough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219640" y="1905120"/>
            <a:ext cx="1714680" cy="115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3265560"/>
            <a:ext cx="2057400" cy="92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61040" y="446076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008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6240" y="1241280"/>
            <a:ext cx="6442200" cy="53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ver 500 million people are chronic carrier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ure to contaminated bloo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 or 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ries from a few symptoms to relatively sudden death or death from chronic liver disease (15-25% of infected people die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ry condition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Vaccin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7210440" y="750960"/>
            <a:ext cx="1520640" cy="1428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6502320" y="2587680"/>
            <a:ext cx="1463760" cy="1622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159680" y="4599000"/>
            <a:ext cx="1520640" cy="1863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B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320840"/>
            <a:ext cx="8381880" cy="51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% or more of the population is infected in Africa, S. E. Asia, Middle East (except Israel), Haiti, and the Dominican Republic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-7% is infected in India, the rest of Asia, Israel, Japan, Russia, Amazon River basin, Honduras, and Guatemala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187720" y="2241720"/>
            <a:ext cx="4946400" cy="343188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6280" y="19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</a:t>
            </a:r>
            <a:br>
              <a:rPr sz="4400"/>
            </a:b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for mor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1184040"/>
            <a:ext cx="7772400" cy="54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nsmiss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taminated needles (drug abuse, tattooing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xual activi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Unsanitary medical/dental procedure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ymptom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ost (80%) have no symptom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atigue, loss of appetite, nause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ark uri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bdominal pai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Jaundice, cirrhosi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eventi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anit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 vaccination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(drug treatment is under development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350040" y="3054240"/>
            <a:ext cx="1876320" cy="2079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Hepatitis C – World Incidenc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44320" y="175896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7-26% of all people in Egypt are infect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-5% are infected in Middle East, eastern Europe, Central America, parts of Africa, and Austral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 the U.S., 4 million are infected -- 10,000 die each yea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0000" y="1530360"/>
            <a:ext cx="4065480" cy="4968720"/>
          </a:xfrm>
          <a:prstGeom prst="rect">
            <a:avLst/>
          </a:prstGeom>
          <a:ln w="88920">
            <a:solidFill>
              <a:srgbClr val="547052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ebeb"/>
                </a:solidFill>
                <a:latin typeface="Verdana"/>
              </a:rPr>
              <a:t>IN-11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6T22:49:54Z</dcterms:created>
  <dc:creator>Unknown User</dc:creator>
  <dc:description/>
  <dc:language>en-US</dc:language>
  <cp:lastModifiedBy>Jeremiah McNichols</cp:lastModifiedBy>
  <dcterms:modified xsi:type="dcterms:W3CDTF">2005-05-26T17:06:30Z</dcterms:modified>
  <cp:revision>90</cp:revision>
  <dc:subject/>
  <dc:title>Tour of the Ukraine</dc:title>
</cp:coreProperties>
</file>