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D0F3-B82F-440C-AA4D-9695CD290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C: The student is expected to: monitor his/her own comprehension and make modifications when understanding breaks down such as by rereading a portion aloud, using reference aids, searching for clues, and asking question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: use the text’s structure or progression of ideas such as cause and effect or chronology to locate and recall information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: draw inferences such as conclusions or generalizations and support them with text evidence and experienc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: Answer different types and levels of questions such as open-ended, literal, and interpretative as well as test-like questions such as multiple choice, true-false, and short answer(4-8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, including letters, news, records, and form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77FF-B0DD-4918-9454-DD4FDD76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989A-4662-45E2-A954-B93234D4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81B7-85F0-4459-BBB0-7B929021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64F-0E50-4BF7-87F6-8EC535B2F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B9B-7CFC-4396-B9FB-219AF47E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00FA-9EBA-4D81-9922-5B200AD3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D484-9218-4C48-9BF6-6B8FDDA8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3E55-924C-42D7-AFC0-531E8A5A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83B9-06F3-4E9E-B071-6C5416F7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ED5-34BC-4D41-A919-45326AA7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183-AE62-4C1C-A1CE-C0C46851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CC1-055C-49A2-8F93-FD68DEE5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9DD9-D335-44E2-ACEC-3D95A885967D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9880" y="1950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1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 Which one of the following presented a contrast to the sickness and poverty the friends saw in the alleyway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spcBef>
                <a:spcPts val="224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ld woman selling vegetabl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little girl begging for mone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visiting the Taj Maha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elderly man clutching his stomac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7480" y="33084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1251000" y="4989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1254240" y="38718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55120" y="1596960"/>
            <a:ext cx="7991640" cy="47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2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friends were able to travel together back to their home by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ilding new Backpack Comput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ke them the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ying on a commercial airli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iding on a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anting a magical incantation. grasping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92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rasping each other’s han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257480" y="29782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251000" y="5030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251000" y="4416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1254240" y="38368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1254240" y="592308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18040" y="28353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230720" y="51879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74720" y="1562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beginning of the story, who do you learn is bored by the moonlight fishing adventur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nni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oma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57480" y="3348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51000" y="4991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51000" y="4424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54240" y="3882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11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was Travis left on the fishing pier by himself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got tired and went ho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gone for a midnight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w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PC accident teleported the others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other pla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other kids had a major exam the next 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d had no more time to f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11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57480" y="2841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251000" y="5343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251000" y="441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254240" y="3481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find themselves transported to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palace of Versail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great wall of Chin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uckingham Palace in Lond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aj Mahal in Indi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257480" y="2362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251000" y="4033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251000" y="3467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1254240" y="29113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74720" y="1587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oes NOT correctly match a place from the story with a partial description of the place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hjahan Park:  filled with sweet smelling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we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eyway:  lined with shops and vend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ishing pier:  moonl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58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rdens:  includes four, long reflecting poo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257480" y="324468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251000" y="5180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251000" y="461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1254240" y="40575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f the following did the friends see as they traveled through the alleywa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imals including donkeys, goats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uits and vegetabl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ad chickens hung upside dow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afood shop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57480" y="28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251000" y="4740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251000" y="4184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1254240" y="3629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254240" y="5308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friends saw several people who did not seem well. Which of the following were not well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r. Pate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young couple on their honeymoo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man who was being tattooe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our gu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teenage gir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246320" y="31575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251000" y="4829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251000" y="427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25424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254240" y="5389560"/>
            <a:ext cx="37440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4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ithout the BPC language translator, how were the friends understood by the people they met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mmer spoke Hindi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used sign langua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ists acted as translator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12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econd language of the country wa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nglish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257480" y="3121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251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251000" y="4226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254240" y="36702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74720" y="155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0760" indent="0">
              <a:spcBef>
                <a:spcPts val="799"/>
              </a:spcBef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le walking through the alley, the friends were surprised to see a sign advertising</a:t>
            </a:r>
            <a:br>
              <a:rPr sz="3200"/>
            </a:b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st sheep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 do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s of the tomb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007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accination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8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IN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257480" y="331164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1251000" y="4992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1251000" y="44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254240" y="387360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20:55:03Z</dcterms:created>
  <dc:creator>Dr. Deborah Kochevar</dc:creator>
  <dc:description/>
  <dc:language>en-US</dc:language>
  <cp:lastModifiedBy>Vince Hardy</cp:lastModifiedBy>
  <dcterms:modified xsi:type="dcterms:W3CDTF">2007-05-04T18:03:11Z</dcterms:modified>
  <cp:revision>79</cp:revision>
  <dc:subject/>
  <dc:title>Investigator Challenge Quiz</dc:title>
</cp:coreProperties>
</file>