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0D29-FC80-45B4-8D22-2A8538366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, explain to the class what “audience” is or ask them to tell you. Who are some different audiences? How will the interview or conversation differ with different audienc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5 (B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effective volume, rate, tone, and pit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 class what “yes” and “no” questions are. Ask them how to ask open-ended questions that require time and thought. You may want to have them think of a few questions to start.  Examples: What do you think about……. or, If you had this to do over again…  Show the class how to ask questions that will make the interview interes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ng effective communication skil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021-C8FF-49EF-BC1A-8C94EF29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9B1-402E-4542-BD80-774F1C821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DAB7-8011-4CAE-98EC-AFAE8A401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8F1-D815-470D-8EF3-ED8B8442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735E-DE36-46EA-BCFD-B9CE9296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0DE-BBB8-446C-8D9B-95703EC3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1E6-4846-4209-AAB8-E688408B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93CB-B923-472C-AB17-71217FBD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E62E-8DC1-4C83-B6DC-E720BC79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01CC-D5B6-41FF-964D-B7FEB668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9CA-7883-4978-B06B-42CF435D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4A2-23F6-4D58-88C3-8E4DD5EA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5521-09F3-4FFA-B316-93F72C0C4A5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s An Interview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4952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is an encounter between a person collecting information (the interviewer) and a person from whom information is needed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interview allows you to collect specific information as you research a topic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get the most from the interview, be prepared!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Intrview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697120" cy="30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Before You Go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now your audience so you can dress and speak appropriately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swer some pre-interview questions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 will you interview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does this person like or dislik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ow will you speak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at are your expectations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09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lan Your Interview Using the 5W’s and H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246168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ppen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re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d it happe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Intrview2" descr=""/>
          <p:cNvPicPr/>
          <p:nvPr/>
        </p:nvPicPr>
        <p:blipFill>
          <a:blip r:embed="rId2"/>
          <a:stretch/>
        </p:blipFill>
        <p:spPr>
          <a:xfrm>
            <a:off x="4724280" y="2233440"/>
            <a:ext cx="3864240" cy="38642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 Closed Questions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osed questions” are questions that can be answered with one word – usually “yes” or ”no.”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Leave your “yes” and “no” questions at home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g deep and ask “opinion questions” to give detail to your report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2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’re Ready to Go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81200" y="171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w that you are on your way, don’t forget…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n, pencil, notepa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written list of prepared question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anners, courteous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cebreakers (conversation starters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28:21Z</dcterms:created>
  <dc:creator>Gina Balducci</dc:creator>
  <dc:description/>
  <dc:language>en-US</dc:language>
  <cp:lastModifiedBy>Texas A&amp;M Veterinary Medicine</cp:lastModifiedBy>
  <dcterms:modified xsi:type="dcterms:W3CDTF">2004-10-27T20:29:36Z</dcterms:modified>
  <cp:revision>24</cp:revision>
  <dc:subject/>
  <dc:title>What Do I Say?</dc:title>
</cp:coreProperties>
</file>