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C8B54-D6E1-4EE5-88AA-1CD0C07D1D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ing on the sensory details will take you to a description and an oral exercise for the class to brainst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ell organized description is very important. Explain more about how to describe an object or a scene in a well-organized mann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e sound devices and figures of speech, have the students go through a descriptive paragraph in the story and take out these devices. How did it change the story? Is it as interesting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8B77-58CC-490D-89E2-E1E8EFFA5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0718-D6B4-4E15-88EA-90EBD6684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6841-D222-41E2-80F9-52AE72383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6EDB-50B7-4126-B37E-74341EA14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4ECC-AC66-4B40-9F88-B0FAC84A1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D17E-87CE-472C-8368-65740B1F2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9F08-A9D2-4907-9377-CC8B18EF1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2529-C6C8-4C05-9C8A-8E498C199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164B-BFC0-41FB-94CD-D0E3E3035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2496-2ACB-47DD-93F4-F3112046D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591F-358D-4A43-A697-F146C2C7D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9191-48BD-45AE-8E1D-7ABFD87F5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1A4EC-3A93-455D-8997-7DD0AB914BCA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SensDet.ppt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escriptive Writing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you ever seen something so beautiful that words could not describe it?  Have you ever gone somewhere so enchanting that a picture could not capture it?  Was it a place in your own imaginatio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Roadway" descr=""/>
          <p:cNvPicPr/>
          <p:nvPr/>
        </p:nvPicPr>
        <p:blipFill>
          <a:blip r:embed="rId2"/>
          <a:stretch/>
        </p:blipFill>
        <p:spPr>
          <a:xfrm>
            <a:off x="990720" y="4114800"/>
            <a:ext cx="710856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Behold! The Power of Words!</a:t>
            </a: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Times New Roman"/>
              </a:rPr>
              <a:t>Good descriptive writing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llows the reader to see, hear, smell, taste and even feel what is being described.  It describes a particular person, place, or thing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 describes details that appeal to one or more of the five senses using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sensory word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fun!  Use good descriptive writing to paint a  vivid picture with precise and specific detail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ut It Into Practic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ink of something interesting to describe. Are there so many details to mention that you don’t know where to begi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ational charts can help organize your thoughts for descriptive writing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5" name="PutItIntoPractice" descr=""/>
          <p:cNvPicPr/>
          <p:nvPr/>
        </p:nvPicPr>
        <p:blipFill>
          <a:blip r:embed="rId2"/>
          <a:stretch/>
        </p:blipFill>
        <p:spPr>
          <a:xfrm>
            <a:off x="4876920" y="1752480"/>
            <a:ext cx="3725640" cy="44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Organizational Chart</a:t>
            </a:r>
            <a:br>
              <a:rPr sz="4400"/>
            </a:br>
            <a:br>
              <a:rPr sz="20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7" name="Senses" descr=""/>
          <p:cNvPicPr/>
          <p:nvPr/>
        </p:nvPicPr>
        <p:blipFill>
          <a:blip r:embed="rId1"/>
          <a:srcRect l="1016" t="1031" r="254" b="262"/>
          <a:stretch/>
        </p:blipFill>
        <p:spPr>
          <a:xfrm>
            <a:off x="914400" y="1523880"/>
            <a:ext cx="7391520" cy="47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</a:t>
            </a:r>
            <a:br>
              <a:rPr sz="20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Figurative Language</a:t>
            </a:r>
            <a:br>
              <a:rPr sz="36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imile – a comparison using “like” or “as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Fly like a butterfly, sting like a be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Metaphor – a statement that compares two things without using like or a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My brother is a turtle. He is too s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rsonification – gives human qualities to animals or object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wind whispered in my ea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 </a:t>
            </a: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Sound Devices</a:t>
            </a:r>
            <a:br>
              <a:rPr sz="3600"/>
            </a:b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lliteration – repetition of the same consonant sound at the beginning of multiple words in a sentenc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busy bees are buzzing about the garden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omatopoeia – the use of words that imitate or suggest the sounds they mak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Clackety-clackety-clacket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Get It Together!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e your description. Use different types of organization to make your paper f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patial order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op to bottom, left to right, near to far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der of impor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List details in order of the most to the least importan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47:30Z</dcterms:created>
  <dc:creator>Gina Balducci</dc:creator>
  <dc:description/>
  <dc:language>en-US</dc:language>
  <cp:lastModifiedBy>Vince Hardy</cp:lastModifiedBy>
  <dcterms:modified xsi:type="dcterms:W3CDTF">2007-01-12T21:47:12Z</dcterms:modified>
  <cp:revision>29</cp:revision>
  <dc:subject/>
  <dc:title>Descriptive Writing</dc:title>
</cp:coreProperties>
</file>