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3E516-2C90-4759-9F27-301F2641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rder text: Append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C52-9123-4CA9-AEA2-B2AF380A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81BD-B28F-4642-946C-C80C5720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968-B177-4F2B-81C9-3C81D285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2A3-C59C-4F90-A224-12DE0B0C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5D3-700D-4D81-9A13-E52DCBC6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ABF3-8ABC-4BCC-8378-B09B4667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63E-C593-484E-B155-4FDEF475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66A-23B8-4A43-BCAF-258AF808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7182-E24F-464D-92BE-A5F04EC1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17E-8F73-4F5A-B43A-DA5BC24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F5A-8B57-4CE1-9B97-BC8CD1F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255-E6D4-4B02-B4EE-6930E67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8CA6F-4967-4802-A4C7-BADFA5802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time of day is i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landscap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kind of animals are thes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do these animals naturally live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you guess where this picture was taken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143000"/>
            <a:ext cx="7696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observations can you make from looking at this picture?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Africa%20344" descr="Africa"/>
          <p:cNvPicPr/>
          <p:nvPr/>
        </p:nvPicPr>
        <p:blipFill>
          <a:blip r:embed="rId2"/>
          <a:stretch/>
        </p:blipFill>
        <p:spPr>
          <a:xfrm>
            <a:off x="469800" y="2438280"/>
            <a:ext cx="3962520" cy="2638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xt is the information that surrounds a particular word or passage that helps determine the meaning of the word or passage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y examining the context of the previous picture, you were able to guess that the picture was probably taken in Africa.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questions might you ask yourself when assessing the context of a passage of text?</a:t>
            </a:r>
            <a:endParaRPr b="0" lang="en-US" sz="28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Context Clues</a:t>
            </a:r>
            <a:endParaRPr b="0" lang="en-US" sz="4400" spc="-1" strike="noStrike">
              <a:solidFill>
                <a:srgbClr val="66c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7960" y="1727280"/>
            <a:ext cx="388620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author or speaker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is the reader or audien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passage about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does the action take place?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 you identify emotions that are expressed in the text? </a:t>
            </a:r>
            <a:endParaRPr b="0" lang="en-US" sz="2400" spc="-1" strike="noStrike">
              <a:solidFill>
                <a:srgbClr val="66ccff"/>
              </a:solidFill>
              <a:latin typeface="Times New Roman"/>
            </a:endParaRPr>
          </a:p>
        </p:txBody>
      </p:sp>
      <p:pic>
        <p:nvPicPr>
          <p:cNvPr id="56" name="QuestionMark" descr=""/>
          <p:cNvPicPr/>
          <p:nvPr/>
        </p:nvPicPr>
        <p:blipFill>
          <a:blip r:embed="rId2"/>
          <a:stretch/>
        </p:blipFill>
        <p:spPr>
          <a:xfrm>
            <a:off x="762120" y="2044800"/>
            <a:ext cx="3325680" cy="32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4:03:32Z</dcterms:created>
  <dc:creator>Gina Balducci</dc:creator>
  <dc:description/>
  <dc:language>en-US</dc:language>
  <cp:lastModifiedBy>vhardy</cp:lastModifiedBy>
  <dcterms:modified xsi:type="dcterms:W3CDTF">2002-12-19T23:00:29Z</dcterms:modified>
  <cp:revision>16</cp:revision>
  <dc:subject/>
  <dc:title>Context Clues</dc:title>
</cp:coreProperties>
</file>