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9 (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9 (A, B)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Construct Sample Spaces using Lists, Tree Diagrams, Combin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9 (A, B)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Construct Sample Spaces using Lists, Tree Diagrams, Combin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2B14D8-A1E1-4785-8B30-ED8371FC42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B844D6-7189-4FF3-98AD-9014BC2BDF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D5C9DF-3365-4CE5-854E-E84FDA4885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E9C482-DD8B-45AE-B88A-4EE5D82CCA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A8FC5F-D9FA-4FCB-8F6C-9FC043D6AF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A04224-AB98-4B6B-97FE-DFA7A013D3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5AF40A-AF54-4C3F-8CC0-32E1FED055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AF0BBE-8978-4CB0-9843-57FEE57528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38DD1F-8D6F-4AEA-9DA8-362D67A2F0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173977-8CA8-4F75-9C81-3FB76A8003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AC40A4-AF94-406D-829C-6B1D2A164A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357581-E3EF-4FC8-ADC5-F5CE13659B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B383A-D334-473F-8B6F-266887805B64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22960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Theoretical Probability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- the ratio of the number of ways the event can occur to the number of possible outcomes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P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(event)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umber of ways the event can occu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umber of possible outcome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590920" y="4191120"/>
            <a:ext cx="60195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8E9D16-6658-4365-A76D-DF83ABF2CF89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63560" y="1213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	</a:t>
            </a: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Probability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Occurrenc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0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Cannot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Not likely to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2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50-50 chanc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/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Very likely to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Always occurs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F73BB6-98EB-4B36-B693-AB8F9B1639EB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815328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40080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43828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14400" y="2514600"/>
            <a:ext cx="7315200" cy="0"/>
          </a:xfrm>
          <a:prstGeom prst="line">
            <a:avLst/>
          </a:prstGeom>
          <a:ln w="5724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839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annot      Not Likely     50-50      Very Likely      Certain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ccur        to Occur       Chance      to Occur         to Occu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 = 0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P = 1/4          P = 1/2           P = 3/4         P = 1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= 0 %      = 25%         = 50%         = 75%     = 100%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ote: The closer the probability is to 1, the more likely the event is to occur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9092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57200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55308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30592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04920" y="1295280"/>
            <a:ext cx="121896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828800" y="1295280"/>
            <a:ext cx="175248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809880" y="1295280"/>
            <a:ext cx="121932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81480" y="1295280"/>
            <a:ext cx="198144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391520" y="1295280"/>
            <a:ext cx="144756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CB569B-C6CB-4F8C-9DB2-B745B797F138}" type="slidenum">
              <a:t>3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9:50Z</dcterms:modified>
  <cp:revision>207</cp:revision>
  <dc:subject/>
  <dc:title>VTPP 423 - PHYSIOLOGY</dc:title>
</cp:coreProperties>
</file>