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82BC6-801A-4BA5-BFB8-470063A05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9B742-B0D9-4B70-ACA2-5288B8530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768C-7700-4753-AFB5-1780EAB4D5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61564-79AE-4A0F-8AEF-66603D052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9D4B-0BDF-4F38-8A6F-6A60C1B2A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3D51-C3C2-4DB3-8345-0BD471C03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ADA5-0A22-4DE0-AF9E-081A60197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CEA8-FA58-48E7-B0A2-5A289B29C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FF77-4EA9-4232-8BB8-E4C58E530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1027-AB6A-4D8D-856B-6F5F93EB1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EA386-9E7E-49B1-A700-A61D5196B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A53A3-28A3-419B-A2D2-AAADAE23F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AEDE-FFDB-4AA3-A7F1-3E37D15F2CA9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7552-2B4A-4CA1-B688-31FEFF249A2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39E8-343E-4D46-9522-E4219F0541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04FDA-3476-425A-BE0E-3EF1439E7D2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E581-C1A0-44E8-AC7B-3A6DA9DCD9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34E8-4EBB-43E6-BA4D-D18892FACF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D91E1-99BE-4120-9BAD-B253237EB1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AAE0-1BFD-4738-9FAD-ABAE621281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6849-6547-473F-AEE8-976B68C6C14D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Ljlab</cp:lastModifiedBy>
  <cp:lastPrinted>2001-01-16T19:55:21Z</cp:lastPrinted>
  <dcterms:modified xsi:type="dcterms:W3CDTF">2007-07-17T21:20:53Z</dcterms:modified>
  <cp:revision>241</cp:revision>
  <dc:subject/>
  <dc:title>VTPP 423 - PHYSIOLOGY</dc:title>
</cp:coreProperties>
</file>