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D5E0E-F804-4AB4-8F81-5F219DCB30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309A8-34BB-4784-9611-323B96BBC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4D0CB-2BF7-439B-A69A-8C45AE52C7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8B2C3-35CE-44A2-9577-D542E534D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82CA5-8C25-472E-B08B-B6E835EB7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D0315-6119-420A-9F82-64D39EC7B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DF8AC-D7E7-4B10-BDD7-788DE3937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88317-89E7-4892-9F4C-315FC0E8E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AB9FF-B4D6-416D-A667-F2B1BF722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70D95-511E-4A99-8DC9-6C83B554F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6351F-E39A-42C2-B58B-EAC8C83C2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F45D9-470D-499E-9630-33D25CE94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27E53-76EC-42F4-82EC-D855691F7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8BAC5-2DE8-4F61-9548-AADAEA0F3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49730-B9E3-4F96-8601-F949613AE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E6625-9768-4B9F-8DCD-3A9924D2C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D1709-1849-4CD4-81D0-6C99954A32B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040"/>
            <a:ext cx="7772400" cy="3997080"/>
          </a:xfrm>
          <a:prstGeom prst="rect">
            <a:avLst/>
          </a:prstGeom>
          <a:noFill/>
          <a:ln w="0">
            <a:noFill/>
          </a:ln>
        </p:spPr>
        <p:txBody>
          <a:bodyPr lIns="90000" rIns="90000" tIns="46800" bIns="46800" anchor="t">
            <a:normAutofit fontScale="97000"/>
          </a:bodyPr>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bserving and reflecting on what other scientists have don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ne’s own careful and thoughtful observations (seeing what others do not se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05120"/>
            <a:ext cx="8305920" cy="441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743200"/>
            <a:ext cx="7772400" cy="4114800"/>
          </a:xfrm>
          <a:prstGeom prst="rect">
            <a:avLst/>
          </a:prstGeom>
          <a:noFill/>
          <a:ln w="0">
            <a:noFill/>
          </a:ln>
        </p:spPr>
        <p:txBody>
          <a:bodyPr lIns="90000" rIns="90000" tIns="46800" bIns="46800" anchor="t">
            <a:normAutofit/>
          </a:bodyPr>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ased on something you think you know</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logical conclusion (de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creative synthesis (in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hould be testable</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perimental design should predict certain results</a:t>
            </a:r>
            <a:endParaRPr b="0" lang="en-US" sz="3200" spc="-1" strike="noStrike">
              <a:solidFill>
                <a:srgbClr val="ebebeb"/>
              </a:solidFill>
              <a:latin typeface="Times New Roman"/>
            </a:endParaRPr>
          </a:p>
        </p:txBody>
      </p:sp>
      <p:sp>
        <p:nvSpPr>
          <p:cNvPr id="62" name=""/>
          <p:cNvSpPr/>
          <p:nvPr/>
        </p:nvSpPr>
        <p:spPr>
          <a:xfrm>
            <a:off x="533520" y="1600200"/>
            <a:ext cx="8153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t ranges from an educated guess to an inspired ins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Ljlab</cp:lastModifiedBy>
  <dcterms:modified xsi:type="dcterms:W3CDTF">2007-07-17T21:22:56Z</dcterms:modified>
  <cp:revision>75</cp:revision>
  <dc:subject/>
  <dc:title>Science Appendix</dc:title>
</cp:coreProperties>
</file>