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6258-F327-49F3-8BBF-AE6A4B90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B522-2B68-4BB1-A812-6D47643F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8880-B37F-4D07-9486-2652D9D8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A31-BFC9-4E2B-BEFA-9DA1E95DE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6742-4EBF-43A7-B4D1-F03612CF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D50-9137-4308-9172-8BD40C4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790-23D0-4E02-9B42-179ECA78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663F-A3C0-467C-BA2D-97B677D7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DD9-35D9-4788-80FE-5FAE5455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6568-F1CB-4AF7-81EB-99681E95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322-9E64-4EA0-AB44-485D0122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E74-5D25-4901-A5FD-554733C6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167A-A213-4B53-9399-939739C60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verbs modify verbs, adjectives, or other adverb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k yourself, “What is the adverb modifying and what is it telling me about?”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?  Whe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?  How oft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o what exten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20:15:00Z</dcterms:created>
  <dc:creator>Instructional Tech Student</dc:creator>
  <dc:description/>
  <dc:language>en-US</dc:language>
  <cp:lastModifiedBy>ljlab</cp:lastModifiedBy>
  <dcterms:modified xsi:type="dcterms:W3CDTF">2003-09-11T17:14:38Z</dcterms:modified>
  <cp:revision>9</cp:revision>
  <dc:subject/>
  <dc:title>Adverbs Adverbs modify verbs, adjectives, or other adverbs.</dc:title>
</cp:coreProperties>
</file>