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428-3E63-416A-9C12-0CCDF2CA5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7162-A08C-4780-B8EC-99A9DFA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3DDC-A547-49FC-B1A2-B2761B82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934-22EB-444C-A4E3-D1F74AE9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D83A-F4CF-48E4-810D-8237E63B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871-9116-4734-9A3B-4D364DB2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11D2-0846-4082-989B-8A9B536C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F1F-1882-4F88-A9B3-B8B27F5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115-1CAE-46E9-9211-A8A2B60F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3F2-F12C-4B25-BAA8-E9587904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563-6E4E-4D62-B849-1042E4E1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187-0E89-41B8-B195-E22B35F2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028D-81A1-4CF0-89C7-774CE83F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Posi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simple form of an adjective or adverb that does not compare one thing to any specific thing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od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Comparisons: the Comparative Degre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dicates a higher or lower quality or manner. Two things are being compared and the comparison i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usuall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formed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-er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the positive form of  a word or by adding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more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les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o the positive form of longer word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I woke up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arlier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 than you. 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You should talk </a:t>
            </a:r>
            <a:r>
              <a:rPr b="0" i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more quietly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isons: the </a:t>
            </a: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Superlativ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Degre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perlative degree indicates the highest or lowest level of quality or manner. It is used when more than two things are compared and is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usuall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med by adding -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the end of the positive form or by adding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least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before the positive for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I woke up the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earliest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today.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You talk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most quietly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05:26:25Z</dcterms:created>
  <dc:creator>Gina Balducci</dc:creator>
  <dc:description/>
  <dc:language>en-US</dc:language>
  <cp:lastModifiedBy>Instructional Tech Student</cp:lastModifiedBy>
  <dcterms:modified xsi:type="dcterms:W3CDTF">2002-05-29T16:40:50Z</dcterms:modified>
  <cp:revision>7</cp:revision>
  <dc:subject/>
  <dc:title>PowerPoint Presentation</dc:title>
</cp:coreProperties>
</file>