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21B52-931D-4ED0-B8C6-A219F2D57F40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H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C12B-9E54-4CA3-AC02-CBB0DAA54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C7D9-6375-4A4E-A27D-A5925D0FA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3E1C-07FB-46A1-BDF3-8EDF4A8C5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8617-2EE9-40D6-8FC4-55EDFCA86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299F-7160-4A45-BC00-0F3866779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F449-D778-419D-B6F7-AE15F3D09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95E0-C4B0-47AC-B6D0-620A4F646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C5AA-AEE2-4ACC-9424-46F5962CD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5C5F-9A34-439C-950C-5B96D78A3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73C9-48D6-4778-8054-FEC817A8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5DF1-5840-40E1-8274-FD146762C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9357-3C26-4856-8ED9-13055782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6EE28-FFFE-4369-9008-183B898027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InfoEss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206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Vince Hardy</cp:lastModifiedBy>
  <dcterms:modified xsi:type="dcterms:W3CDTF">2007-01-12T21:45:01Z</dcterms:modified>
  <cp:revision>15</cp:revision>
  <dc:subject/>
  <dc:title>Informative Essay</dc:title>
</cp:coreProperties>
</file>