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9999-44F6-49FB-A447-F6092C859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9B: The student is expected to: draw on experiences to bring meanings to words in context such as interpreting idioms, multiple-meaning words, and analogies (6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: use multiple reference aid, including a thesaurus, a synonym finder, a dictionary, and software, to clarify meanings and usage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68B-169F-49E1-BD0B-90D19C0A3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FA5-BB02-48CD-A365-27191E9A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F40-6AB5-487A-B6AE-050FB049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7D5-A7C3-4987-A3E1-4E4CEFD7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1853-C708-4589-BB33-DEEDA8AB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6AC-8B2B-4CBA-9092-938948D9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CF1-2AC0-4C66-B040-1FB5A02D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81B6-27E9-40C3-83CE-B07CE9B0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17F-2D4D-4EB8-84B5-6034220A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4BD5-9118-4E55-B0BC-4C8ECF5D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702-5488-48C1-9E22-FE0E417F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EDA-61C3-4EF6-BD2B-8F5319D2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8681-4752-47BB-B78E-E82E00CBEC3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240" y="1314360"/>
            <a:ext cx="73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aeaea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6760" y="36734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00200" y="1928880"/>
            <a:ext cx="764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acrid smell of shrimp, mussels, and other shellfish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permea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troy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mouflag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etrated or passed throug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 “Their journey through the park and the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 notoriou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lley shortcut had taken only about twenty minutes, but it seemed like a lifetim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ely, but unfavorably know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nd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03280" y="4145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403280" y="4680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405080" y="5216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171960" y="2790720"/>
            <a:ext cx="27907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091040" y="467208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6440" y="1900080"/>
            <a:ext cx="8142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49360" indent="-549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Isn’t it about time to head back?’ 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queri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breaking the silence.  She set down her rod and began doing jumping jacks, shaking the weathered planks and bouncing all five of her friends.  ‘I need to move!’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9360" indent="-549360">
              <a:spcBef>
                <a:spcPts val="2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Ques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1680" indent="-329400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si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3280" y="4630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03280" y="51656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5080" y="5702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4800" y="190512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 chorus of ‘be still’ and ‘stop that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ssail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K.T. and she reluctantly stopped jumping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lmed, reassur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acked with arg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345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rept slowly arou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403280" y="363996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03280" y="42004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764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lines got tangled, and the keypad must have activated when it crashed into my rod,’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mis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ummer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uessed; thought without strong evid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li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403280" y="36432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403280" y="4203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1405080" y="4753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 ‘The way it looks around here, you could never get lonely in India,’ Summer commented as another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horde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of tourists approached them along the shadowy walkway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ss or crow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large fiel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6240" indent="-455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 "/>
              <a:tabLst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stree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305320" y="4043520"/>
            <a:ext cx="3176640" cy="2382840"/>
          </a:xfrm>
          <a:prstGeom prst="rect">
            <a:avLst/>
          </a:prstGeom>
          <a:ln w="88920">
            <a:solidFill>
              <a:srgbClr val="3b5323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03280" y="43927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403280" y="49276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1405080" y="546408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47280" y="1895400"/>
            <a:ext cx="785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Four long, reflecting pools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bisect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manicured, formal gardens that lined broad, stone walkways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2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mold someth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7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erform an operation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cut or divide into equal or nearly equa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36781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403280" y="42130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405080" y="47498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799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It was so massive and yet so perfectly proportioned that it seemed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surreal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racterized by a blurry out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ction, not 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  <a:tab algn="l" pos="8400960"/>
                <a:tab algn="l" pos="880128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03280" y="31640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403280" y="369900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405080" y="423540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895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On and on the recording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drone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in various languages as more police led an ever-increasing number of visitors away from the doorway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1"/>
              </a:spcBef>
              <a:buClr>
                <a:srgbClr val="000000"/>
              </a:buClr>
              <a:buFont typeface="Times New Roman"/>
              <a:buAutoNum type="alphaUcParenR"/>
              <a:tabLst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in a flat, continuous 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oke very lou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114624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peated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413532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403280" y="4670280"/>
            <a:ext cx="330120" cy="38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405080" y="52070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6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01640" y="192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6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Across from the butcher, the 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acrid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smell of shrimp, mussels, and other shellfish permeated the night air as the fish vendor stirred a thick, iron pot over the tiny flame of a dung fire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ppeal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ysterio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xtremely bitter or stingi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437688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403280" y="4911840"/>
            <a:ext cx="330120" cy="384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405080" y="5448240"/>
            <a:ext cx="3268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2:22:02Z</dcterms:created>
  <dc:creator>Gina Balducci</dc:creator>
  <dc:description/>
  <dc:language>en-US</dc:language>
  <cp:lastModifiedBy>Vince Hardy</cp:lastModifiedBy>
  <dcterms:modified xsi:type="dcterms:W3CDTF">2007-05-03T16:34:58Z</dcterms:modified>
  <cp:revision>88</cp:revision>
  <dc:subject/>
  <dc:title>Vocab Challenge</dc:title>
</cp:coreProperties>
</file>