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13.jpeg" ContentType="image/jpeg"/>
  <Override PartName="/ppt/media/image8.jpeg" ContentType="image/jpeg"/>
  <Override PartName="/ppt/media/image12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image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1FDE4-0D94-4096-98C0-390ABD407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5CC62-CF73-47FA-8A2A-1981CD715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801EF-7FE0-4BD7-8342-4921201C8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ask the students to name some of the parts in the human body. Then express that these parts are systems themselves: the circulatory system is made up of the heart, veins, blood vessels, etc ; and these parts are also systems because they are made up of cells which are made up of atoms which are the smallest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A72A8-35CA-4E8B-8147-BB54A0B44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BC275-94D7-4F9B-9F71-BA2C817F1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ing Fact: The liver is one of the only organs that can regenerate its cells; as little as 25% of the liver can regenerate to produce a whole liver again.  The liver is vital to survival; a human can only live for 24hrs without a functioning li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C676E-099B-4335-B4CD-47EFC5FBC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definitions might be necessary here: Eukaryote vs. prokaryotes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embrane bound organelles are found in eukaryotes only, which means they are stationary in the cell not floating around like in bacteria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45779-5E59-42D5-B8EB-3A67DDEED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live/function without your leg or an eye; but you cannot live/function without your brain or he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528DE-8621-4D42-A6DC-2AC3F2E6F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 of the student’s examples, let them also decide if the examples ar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bstra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yste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BA8F9-CB32-4E86-A24C-B7FEB686C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just a few examples, feel free to add or remove any of the examp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F5C6-BFFA-4B66-80E0-C4FC77824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92C7-29FA-4E94-9839-94E589E65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2C9A-1F13-438C-901E-3C8223C05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17C4-6FC5-4AD8-AD5E-CD2BE4F1F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EE09-5F5B-4E83-89A6-D9EBB7416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24CF-0ACA-4C18-A633-A8BC5A2B5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E641-EDCA-4B8E-BF8A-23CD18691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6793-8375-4394-8465-189BD1E94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EF9D-7A34-4FFE-A77B-0C4AD4700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EFB6-3111-4BBE-93D9-F9E4EBAC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9485-EC77-4797-B1BE-C2C5B68C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7B79-6446-45F7-B835-F12851C6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50572-0A91-44BE-AD13-79DC2F6514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peer.tamu.edu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hyperlink" Target="http://www.earthlife.net/cells.html" TargetMode="Externa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7.png"/><Relationship Id="rId9" Type="http://schemas.openxmlformats.org/officeDocument/2006/relationships/hyperlink" Target="http://peer.tamu.edu/forms/Curricula_Survey.shtml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mid"/>
          <p:cNvPicPr/>
          <p:nvPr/>
        </p:nvPicPr>
        <p:blipFill>
          <a:blip r:embed="rId1"/>
          <a:stretch/>
        </p:blipFill>
        <p:spPr>
          <a:xfrm>
            <a:off x="1219320" y="533520"/>
            <a:ext cx="6591240" cy="27525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3718080"/>
            <a:ext cx="792504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0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http://peer.tamu.ed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Midnight at the Marble Tomb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Computer_System"/>
          <p:cNvPicPr/>
          <p:nvPr/>
        </p:nvPicPr>
        <p:blipFill>
          <a:blip r:embed="rId2"/>
          <a:stretch/>
        </p:blipFill>
        <p:spPr>
          <a:xfrm>
            <a:off x="3429000" y="1600200"/>
            <a:ext cx="5715000" cy="4572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r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s/c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r t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d dr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M/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P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k dr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n for coo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deo/sound c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7" descr="Midnight at the Marble Tomb background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est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of the smallest natural systems include cells and ato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atom"/>
          <p:cNvPicPr/>
          <p:nvPr/>
        </p:nvPicPr>
        <p:blipFill>
          <a:blip r:embed="rId2"/>
          <a:stretch/>
        </p:blipFill>
        <p:spPr>
          <a:xfrm>
            <a:off x="5351400" y="3048120"/>
            <a:ext cx="2954520" cy="3352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eury-cell"/>
          <p:cNvPicPr/>
          <p:nvPr/>
        </p:nvPicPr>
        <p:blipFill>
          <a:blip r:embed="rId3"/>
          <a:stretch/>
        </p:blipFill>
        <p:spPr>
          <a:xfrm>
            <a:off x="914400" y="2743200"/>
            <a:ext cx="2698920" cy="296244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5"/>
          <p:cNvSpPr/>
          <p:nvPr/>
        </p:nvSpPr>
        <p:spPr>
          <a:xfrm>
            <a:off x="601200" y="6096600"/>
            <a:ext cx="28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www.earthlife.net/cells.htm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5562720" y="255888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Atomic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Midnight at the Marble Tomb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4572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humans a type of syste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52280" y="3809880"/>
            <a:ext cx="426744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are all composed of interconnected parts that rely on the other parts of the system to sustain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MCj03982010000[1]"/>
          <p:cNvPicPr/>
          <p:nvPr/>
        </p:nvPicPr>
        <p:blipFill>
          <a:blip r:embed="rId2"/>
          <a:stretch/>
        </p:blipFill>
        <p:spPr>
          <a:xfrm>
            <a:off x="4994280" y="1219320"/>
            <a:ext cx="36291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5" descr="Midnight at the Marble Tomb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2"/>
          <p:cNvGrpSpPr/>
          <p:nvPr/>
        </p:nvGrpSpPr>
        <p:grpSpPr>
          <a:xfrm>
            <a:off x="304920" y="304920"/>
            <a:ext cx="8545320" cy="6149520"/>
            <a:chOff x="304920" y="304920"/>
            <a:chExt cx="8545320" cy="6149520"/>
          </a:xfrm>
        </p:grpSpPr>
        <p:pic>
          <p:nvPicPr>
            <p:cNvPr id="104" name="Picture 3" descr="NIEHS"/>
            <p:cNvPicPr/>
            <p:nvPr/>
          </p:nvPicPr>
          <p:blipFill>
            <a:blip r:embed="rId2"/>
            <a:stretch/>
          </p:blipFill>
          <p:spPr>
            <a:xfrm>
              <a:off x="380880" y="19098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4" descr="Peer"/>
            <p:cNvPicPr/>
            <p:nvPr/>
          </p:nvPicPr>
          <p:blipFill>
            <a:blip r:embed="rId3"/>
            <a:stretch/>
          </p:blipFill>
          <p:spPr>
            <a:xfrm>
              <a:off x="380880" y="343368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5" descr="CollegeofEdu"/>
            <p:cNvPicPr/>
            <p:nvPr/>
          </p:nvPicPr>
          <p:blipFill>
            <a:blip r:embed="rId4"/>
            <a:stretch/>
          </p:blipFill>
          <p:spPr>
            <a:xfrm>
              <a:off x="380880" y="4957920"/>
              <a:ext cx="13590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Rectangle 6"/>
            <p:cNvSpPr/>
            <p:nvPr/>
          </p:nvSpPr>
          <p:spPr>
            <a:xfrm>
              <a:off x="304920" y="838080"/>
              <a:ext cx="8534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is product is available through the cooperation of the following: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Picture 7" descr="CERH"/>
            <p:cNvPicPr/>
            <p:nvPr/>
          </p:nvPicPr>
          <p:blipFill>
            <a:blip r:embed="rId5"/>
            <a:stretch/>
          </p:blipFill>
          <p:spPr>
            <a:xfrm>
              <a:off x="4724280" y="345132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8" descr="New CVM logo_ any color"/>
            <p:cNvPicPr/>
            <p:nvPr/>
          </p:nvPicPr>
          <p:blipFill>
            <a:blip r:embed="rId6"/>
            <a:stretch/>
          </p:blipFill>
          <p:spPr>
            <a:xfrm>
              <a:off x="4724280" y="49705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" name="Group 9"/>
            <p:cNvGrpSpPr/>
            <p:nvPr/>
          </p:nvGrpSpPr>
          <p:grpSpPr>
            <a:xfrm>
              <a:off x="4643280" y="1928880"/>
              <a:ext cx="1546560" cy="1371600"/>
              <a:chOff x="4643280" y="1928880"/>
              <a:chExt cx="1546560" cy="1371600"/>
            </a:xfrm>
          </p:grpSpPr>
          <p:sp>
            <p:nvSpPr>
              <p:cNvPr id="111" name="Rectangle 10"/>
              <p:cNvSpPr/>
              <p:nvPr/>
            </p:nvSpPr>
            <p:spPr>
              <a:xfrm>
                <a:off x="4724280" y="1928880"/>
                <a:ext cx="137160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12" name="Object 11"/>
              <p:cNvGraphicFramePr/>
              <p:nvPr/>
            </p:nvGraphicFramePr>
            <p:xfrm>
              <a:off x="4643280" y="2117880"/>
              <a:ext cx="1546560" cy="1012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13" name="Object 11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4643280" y="2117880"/>
                        <a:ext cx="1546560" cy="1012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14" name="Text Box 12"/>
            <p:cNvSpPr/>
            <p:nvPr/>
          </p:nvSpPr>
          <p:spPr>
            <a:xfrm>
              <a:off x="1916280" y="2139840"/>
              <a:ext cx="2674800" cy="43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ational Institute of Environmental Health Sci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artnership for Environmental Education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llege of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3"/>
            <p:cNvSpPr/>
            <p:nvPr/>
          </p:nvSpPr>
          <p:spPr>
            <a:xfrm>
              <a:off x="304920" y="304920"/>
              <a:ext cx="8458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eachers, please click on this link to complete a short survey concerning this module: </a:t>
              </a:r>
              <a:r>
                <a:rPr b="0" lang="en-US" sz="2000" spc="-1" strike="noStrike" u="sng">
                  <a:solidFill>
                    <a:srgbClr val="009999"/>
                  </a:solidFill>
                  <a:uFillTx/>
                  <a:latin typeface="Times New Roman"/>
                  <a:hlinkClick r:id="rId9"/>
                </a:rPr>
                <a:t>http://peer.tamu.edu/forms/Curricula_Survey.shtml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4"/>
            <p:cNvSpPr/>
            <p:nvPr/>
          </p:nvSpPr>
          <p:spPr>
            <a:xfrm>
              <a:off x="6248520" y="2057400"/>
              <a:ext cx="2601720" cy="38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epartment of Agricultural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Center for Environmental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ege of Veterinary Medicine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and identify a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estigate how systems are organiz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 how properties of a system can be different from its pa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Midnight at the Marble Tomb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685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PC group travels to India. They come into contact with many sick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patitis is a virus that attacks cells in the liver. Without healthy cells, the liver cannot function proper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out a healthy liver, our bodies cannot function proper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Stor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MCj02115160000[1]"/>
          <p:cNvPicPr/>
          <p:nvPr/>
        </p:nvPicPr>
        <p:blipFill>
          <a:blip r:embed="rId2"/>
          <a:stretch/>
        </p:blipFill>
        <p:spPr>
          <a:xfrm>
            <a:off x="7391520" y="1066680"/>
            <a:ext cx="1427040" cy="20574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83"/>
          <p:cNvGrpSpPr/>
          <p:nvPr/>
        </p:nvGrpSpPr>
        <p:grpSpPr>
          <a:xfrm>
            <a:off x="7162920" y="3200400"/>
            <a:ext cx="1857240" cy="1295280"/>
            <a:chOff x="7162920" y="3200400"/>
            <a:chExt cx="1857240" cy="1295280"/>
          </a:xfrm>
        </p:grpSpPr>
        <p:sp>
          <p:nvSpPr>
            <p:cNvPr id="57" name="Freeform 34"/>
            <p:cNvSpPr/>
            <p:nvPr/>
          </p:nvSpPr>
          <p:spPr>
            <a:xfrm>
              <a:off x="7189920" y="3204720"/>
              <a:ext cx="1753200" cy="1018440"/>
            </a:xfrm>
            <a:prstGeom prst="pie">
              <a:avLst/>
            </a:prstGeom>
            <a:solidFill>
              <a:srgbClr val="d2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35"/>
            <p:cNvSpPr/>
            <p:nvPr/>
          </p:nvSpPr>
          <p:spPr>
            <a:xfrm>
              <a:off x="7182360" y="3264480"/>
              <a:ext cx="1818000" cy="1221120"/>
            </a:xfrm>
            <a:prstGeom prst="pie">
              <a:avLst/>
            </a:prstGeom>
            <a:solidFill>
              <a:srgbClr val="ff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38"/>
            <p:cNvSpPr/>
            <p:nvPr/>
          </p:nvSpPr>
          <p:spPr>
            <a:xfrm>
              <a:off x="7486920" y="3391560"/>
              <a:ext cx="344520" cy="312840"/>
            </a:xfrm>
            <a:prstGeom prst="pie">
              <a:avLst/>
            </a:prstGeom>
            <a:solidFill>
              <a:srgbClr val="ff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39"/>
            <p:cNvSpPr/>
            <p:nvPr/>
          </p:nvSpPr>
          <p:spPr>
            <a:xfrm>
              <a:off x="8331480" y="3447000"/>
              <a:ext cx="318240" cy="243000"/>
            </a:xfrm>
            <a:prstGeom prst="pie">
              <a:avLst/>
            </a:prstGeom>
            <a:solidFill>
              <a:srgbClr val="ff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79"/>
            <p:cNvSpPr/>
            <p:nvPr/>
          </p:nvSpPr>
          <p:spPr>
            <a:xfrm>
              <a:off x="7162920" y="3200400"/>
              <a:ext cx="1015200" cy="1295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80"/>
            <p:cNvSpPr/>
            <p:nvPr/>
          </p:nvSpPr>
          <p:spPr>
            <a:xfrm>
              <a:off x="7193880" y="4026960"/>
              <a:ext cx="842760" cy="468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81"/>
            <p:cNvSpPr/>
            <p:nvPr/>
          </p:nvSpPr>
          <p:spPr>
            <a:xfrm>
              <a:off x="8101440" y="3278880"/>
              <a:ext cx="918720" cy="65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82"/>
            <p:cNvSpPr/>
            <p:nvPr/>
          </p:nvSpPr>
          <p:spPr>
            <a:xfrm>
              <a:off x="8200800" y="3623400"/>
              <a:ext cx="819000" cy="337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Picture 84" descr="j0302953"/>
          <p:cNvPicPr/>
          <p:nvPr/>
        </p:nvPicPr>
        <p:blipFill>
          <a:blip r:embed="rId3"/>
          <a:stretch/>
        </p:blipFill>
        <p:spPr>
          <a:xfrm>
            <a:off x="7467480" y="4572000"/>
            <a:ext cx="14144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an Organis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individual living syst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uman body is an organism.  It is composed from a variety of different types of cells that work together so the body can function prope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8" descr="Midnight at the Marble Tomb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sm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83822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sm – Ex. Huma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 systems – Ex. Circul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s – Ex. He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ssues – Ex. Mus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ls – Ex. Red Blood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7"/>
          <p:cNvSpPr/>
          <p:nvPr/>
        </p:nvSpPr>
        <p:spPr>
          <a:xfrm>
            <a:off x="152280" y="2514600"/>
            <a:ext cx="457200" cy="3581280"/>
          </a:xfrm>
          <a:prstGeom prst="downArrow">
            <a:avLst>
              <a:gd name="adj1" fmla="val 50000"/>
              <a:gd name="adj2" fmla="val 195827"/>
            </a:avLst>
          </a:prstGeom>
          <a:gradFill rotWithShape="0">
            <a:gsLst>
              <a:gs pos="0">
                <a:srgbClr val="333399"/>
              </a:gs>
              <a:gs pos="100000">
                <a:srgbClr val="1818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0"/>
          <p:cNvSpPr/>
          <p:nvPr/>
        </p:nvSpPr>
        <p:spPr>
          <a:xfrm>
            <a:off x="228600" y="1447920"/>
            <a:ext cx="83818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y organism is organized into leve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Midnight at the Marble Tomb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Cell to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the hepatitis virus attacks the liver cells, the entire liver cannot function proper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liver cannot do its job, then it affects the entire digestive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do you think might happen to a person whose digestive system quit wor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Midnight at the Marble Tomb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exactly is a syst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yst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 set of interacting or interdependent parts forming an integrated wh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define a system by grouping parts with the same set of relationships or characterist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pieces/parts of a system serve a specific role for the purpose of the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parts are more essential than oth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Midnight at the Marble Tomb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s of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4572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ural system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rring in nature, not created by huma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-made system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signed for a specific purpose or objec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Photo"/>
          <p:cNvPicPr/>
          <p:nvPr/>
        </p:nvPicPr>
        <p:blipFill>
          <a:blip r:embed="rId2"/>
          <a:stretch/>
        </p:blipFill>
        <p:spPr>
          <a:xfrm>
            <a:off x="4762440" y="1219320"/>
            <a:ext cx="4076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Midnight at the Marble Tomb backgroun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you name some examples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91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atur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ar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ot system of pla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 systems of anim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ver/lake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an-ma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ding scale/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the Solar System"/>
          <p:cNvPicPr/>
          <p:nvPr/>
        </p:nvPicPr>
        <p:blipFill>
          <a:blip r:embed="rId2"/>
          <a:stretch/>
        </p:blipFill>
        <p:spPr>
          <a:xfrm>
            <a:off x="4572000" y="1752480"/>
            <a:ext cx="42814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3T18:32:20Z</dcterms:created>
  <dc:creator>ljlab</dc:creator>
  <dc:description/>
  <dc:language>en-US</dc:language>
  <cp:lastModifiedBy>Hannah</cp:lastModifiedBy>
  <dcterms:modified xsi:type="dcterms:W3CDTF">2009-03-08T19:26:36Z</dcterms:modified>
  <cp:revision>40</cp:revision>
  <dc:subject/>
  <dc:title>TEKS additions</dc:title>
</cp:coreProperties>
</file>