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D88-B986-4BBC-847D-5F9FE92C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34D-6037-4B02-8833-AE7BFD64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2BEC-7002-4C4A-8D03-ADF691B3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7C08-8622-4374-8F6A-ADD92D23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973-7C92-4C27-BD38-12D5BBE4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C996-D2AE-4E23-91CE-8B70DBB9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BF89-5835-4ED8-B089-1291B9BE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289-6693-4C5A-B342-1779FCD4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01F-152C-4EAB-AD4F-64DB910E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B7D-3CD4-4FE3-BA59-9AC1FC6A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583-BC25-40B8-9609-BBBF97A0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2EDC-0521-4A55-8A93-5A885B8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391C-E5EE-43B5-A972-43D3C091112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djectives modify nouns or pronou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Using adjectives gives an accurate description of the object at hand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?  What kind?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ow many?  How much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21:31:57Z</dcterms:created>
  <dc:creator>ITMD</dc:creator>
  <dc:description/>
  <dc:language>en-US</dc:language>
  <cp:lastModifiedBy>vhardy</cp:lastModifiedBy>
  <dcterms:modified xsi:type="dcterms:W3CDTF">2002-12-19T23:01:26Z</dcterms:modified>
  <cp:revision>61</cp:revision>
  <dc:subject/>
  <dc:title>Locating Places</dc:title>
</cp:coreProperties>
</file>