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4FEB-5869-4405-95DB-ED9754B4E507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D45A-2197-42F4-B25F-B30801A3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7FB4-4371-4FDB-BE67-79EA4D30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09EB-3097-4DCD-BDFF-1861B8D93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B241-34F5-4204-8073-3292780EA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D864-9FCE-48B0-A10C-5B66517C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9A19-304C-4A18-9758-C6945CAB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E262-A679-4984-92EA-A34D0AAE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CC95-7B11-4603-8FC8-20836ED3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6ED9-6104-43A8-8A6C-8AD96C31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D99C-48E9-4FF3-A56F-3499743B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FC43-C71E-4E7D-934C-DE566334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8182-F46F-4452-A3D1-1B1CEF56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0C56-8341-4F4B-8317-9ECE0110AC5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Texas A&amp;M Veterinary Medicine</cp:lastModifiedBy>
  <dcterms:modified xsi:type="dcterms:W3CDTF">2004-10-27T18:50:40Z</dcterms:modified>
  <cp:revision>16</cp:revision>
  <dc:subject/>
  <dc:title>Writing a Business Letter</dc:title>
</cp:coreProperties>
</file>