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43C-09A3-4356-B272-DFB202E3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AC4-CEA7-4E96-85B5-396452CAF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F70E-5B15-4484-BA25-32F78CEC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C22-E506-4227-B701-A224DBB87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7C1-729B-4462-99ED-373370C6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CC9-227E-4C73-B539-BF6323EA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840-2CE6-4DDE-833A-D606F76E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19F6-D339-48BD-AE02-B359FE3A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76F-2221-4AC4-B86A-D288912A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, Nepal, Buthan, Mongo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7E13-D56F-4CCD-AB05-347D287F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Del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0E0-6C40-41B3-BEE6-0610DEB2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outhern Asia” would be o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67C-7528-496C-8782-2C659B08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F77-2AB4-4A2E-8A6A-2796AB9D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88D-C0FD-49D5-8DEB-7ADBA8A9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C9D-AE9F-4DC4-BE1D-946076CA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6C5-8625-4157-A331-69208AB0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24E-B617-48B7-A2B4-CF83A99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B2F-A60D-44C2-954D-66D035FF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C58-9ADE-40A2-8DA5-1B371DFB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7C9-6608-4FFE-9CEB-B60562E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697-014D-4230-ADF0-BAC8A1F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DE6-8570-4142-BBB6-D44CDC4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93F-0AA5-4C6C-B5D7-156CE91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6D0-E594-436C-98F8-16C28098C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76200" y="833400"/>
            <a:ext cx="6591600" cy="275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5840" y="196992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1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the ability to use directions from one place to find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nd interpret locations on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is India in rel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other pl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440" y="5203800"/>
            <a:ext cx="56386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 is outlined on the map abov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what continent is India locate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is southwest of Ind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tinent is southeast of India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76320" y="11160"/>
            <a:ext cx="8991360" cy="5229000"/>
            <a:chOff x="76320" y="11160"/>
            <a:chExt cx="8991360" cy="5229000"/>
          </a:xfrm>
        </p:grpSpPr>
        <p:pic>
          <p:nvPicPr>
            <p:cNvPr id="59" name="Picture 7" descr=""/>
            <p:cNvPicPr/>
            <p:nvPr/>
          </p:nvPicPr>
          <p:blipFill>
            <a:blip r:embed="rId1"/>
            <a:stretch/>
          </p:blipFill>
          <p:spPr>
            <a:xfrm>
              <a:off x="76320" y="11160"/>
              <a:ext cx="8991360" cy="52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Freeform 5"/>
            <p:cNvSpPr/>
            <p:nvPr/>
          </p:nvSpPr>
          <p:spPr>
            <a:xfrm>
              <a:off x="5943600" y="1763280"/>
              <a:ext cx="533520" cy="6094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52578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travel using the shortest distanc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a from your home, which direction would you trave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76320" y="0"/>
            <a:ext cx="8991360" cy="5229360"/>
            <a:chOff x="76320" y="0"/>
            <a:chExt cx="8991360" cy="5229360"/>
          </a:xfrm>
        </p:grpSpPr>
        <p:pic>
          <p:nvPicPr>
            <p:cNvPr id="64" name="Picture 8" descr=""/>
            <p:cNvPicPr/>
            <p:nvPr/>
          </p:nvPicPr>
          <p:blipFill>
            <a:blip r:embed="rId1"/>
            <a:stretch/>
          </p:blipFill>
          <p:spPr>
            <a:xfrm>
              <a:off x="76320" y="0"/>
              <a:ext cx="89913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Freeform 9"/>
            <p:cNvSpPr/>
            <p:nvPr/>
          </p:nvSpPr>
          <p:spPr>
            <a:xfrm>
              <a:off x="5943600" y="1752480"/>
              <a:ext cx="533520" cy="60984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World1"/>
          <p:cNvPicPr/>
          <p:nvPr/>
        </p:nvPicPr>
        <p:blipFill>
          <a:blip r:embed="rId1"/>
          <a:stretch/>
        </p:blipFill>
        <p:spPr>
          <a:xfrm>
            <a:off x="754200" y="380880"/>
            <a:ext cx="7704000" cy="4411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876276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680" y="5029200"/>
            <a:ext cx="855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 India is now positioned in the left part of the map.  This is because we are looking at the earth from a different direction.  The Pacific Ocean is now in the center of the map instead of the Atlantic Ocea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the map above, in which direction would you travel using the shortest distance from India to your ho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5"/>
          <p:cNvSpPr/>
          <p:nvPr/>
        </p:nvSpPr>
        <p:spPr>
          <a:xfrm>
            <a:off x="2552760" y="226044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371600" y="2666880"/>
            <a:ext cx="9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733920" y="4343400"/>
            <a:ext cx="22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NTARC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162920" y="2819520"/>
            <a:ext cx="10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867280" y="1600200"/>
            <a:ext cx="122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819520" y="190512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4600" y="33526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523880" y="1828800"/>
            <a:ext cx="9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33520" y="312408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TLAN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67080" y="53352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RC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438280" y="3048120"/>
            <a:ext cx="12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DIAN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800600" y="1981080"/>
            <a:ext cx="92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ACIFIC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7162920" y="182880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TLANTIC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"/>
          <p:cNvPicPr/>
          <p:nvPr/>
        </p:nvPicPr>
        <p:blipFill>
          <a:blip r:embed="rId1"/>
          <a:srcRect l="2640" t="3858" r="28907" b="0"/>
          <a:stretch/>
        </p:blipFill>
        <p:spPr>
          <a:xfrm>
            <a:off x="3672000" y="1209600"/>
            <a:ext cx="5214960" cy="54072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800" y="1922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 is circled on the map be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36480"/>
            <a:ext cx="3346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ea is to the west of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is to the northwest of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 country on the map that is northeast of In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091200" y="3792600"/>
            <a:ext cx="1541520" cy="2695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24240" y="291600"/>
            <a:ext cx="2989080" cy="64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npur is highlighted on the 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city is the capital of India? (Look for the star!)  It is located in what direction from Kanpur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ity of Nagpur is located in what direction from Kanpur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were to travel straight northwest from Kanpur, what country would you reac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-7920"/>
            <a:ext cx="5987880" cy="6858000"/>
            <a:chOff x="0" y="-7920"/>
            <a:chExt cx="5987880" cy="6858000"/>
          </a:xfrm>
        </p:grpSpPr>
        <p:pic>
          <p:nvPicPr>
            <p:cNvPr id="9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7920"/>
              <a:ext cx="5987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Oval 6"/>
            <p:cNvSpPr/>
            <p:nvPr/>
          </p:nvSpPr>
          <p:spPr>
            <a:xfrm>
              <a:off x="3581280" y="2506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"/>
            <p:cNvSpPr/>
            <p:nvPr/>
          </p:nvSpPr>
          <p:spPr>
            <a:xfrm>
              <a:off x="3157560" y="2179800"/>
              <a:ext cx="152280" cy="1522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alking with a friend.  She asks, “Where is India?”  How would you resp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ravel from India to France, in which direction would you tra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closer to India: Germany , the USA, or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5:28:47Z</dcterms:created>
  <dc:creator>Texas A&amp;M Veterinary Medicine</dc:creator>
  <dc:description/>
  <dc:language>en-US</dc:language>
  <cp:lastModifiedBy>Hannah</cp:lastModifiedBy>
  <dcterms:modified xsi:type="dcterms:W3CDTF">2009-03-08T19:03:34Z</dcterms:modified>
  <cp:revision>39</cp:revision>
  <dc:subject/>
  <dc:title>Slide 1</dc:title>
</cp:coreProperties>
</file>