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4.wmf" ContentType="image/x-wmf"/>
  <Override PartName="/ppt/media/image10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EAB6-F1F4-4702-A2A2-E50B67CE8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8200-8D29-489A-9AE7-240FED5D1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F2F1-69C2-4797-AC62-A77F41ABE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A828-FE12-4B5F-915A-29DF48E49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Delhi is located in the Eastern Hemi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ton is farther north than New Delh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ton is located in the Western Hemi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Delhi is located closer to the Prime Meridian than Hous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9A48-CA65-4DDB-A92C-7E41955EB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nn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np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mb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DFC8-CA0B-481C-B7B3-D965AB255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nn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np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mb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4BA2-C694-4393-999A-E1BC621C7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tu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77C2-834F-4AF6-9AEB-63287AAB1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latitude longitude absolute location challenge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EDD6-45F0-4645-A89A-2C6B675AA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20C2-CA0C-4696-8439-373F6C5B0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F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th skills to interpret social studies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B) Analyze information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385E-4407-4553-BFB6-C4E8E52F8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ern!  Easte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F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th skills to interpret social studies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H) Use mathematical skills to interpret social studies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B) Analyze information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48EB-CEB4-4338-A1F7-82D1E950A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B) Analyze information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5D4B-571F-46DE-8A6A-B900F725B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B) Analyze information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AF8C-AD9A-46A2-A220-95144E5B5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D9BA-2DCB-4E07-93AD-4B3617B25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66DA-8608-4EB6-AF2B-E2EA7F632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F0BD-A6B6-42C7-9AAB-27BDC4953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 – 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ps, globes, graphs, charts, models, and datab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544F-AC03-4C3B-AEAA-13DD7B88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C587-D941-4D30-9F36-E4CEFC4C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1780-9825-4A61-866D-038AA87F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3AB4-7522-4D18-9C06-B987667E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8018-5539-4794-978D-0C5A9B07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B990-80FA-46C9-8CFC-1948BC0A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1C60-B4D2-4C4A-A23A-4642E829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1A78-D3C7-4869-973A-00845556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8AD-01B1-4300-8BEB-B4E9E6D1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AE21-A50D-4B77-8D80-483AFDBB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73BA-E87D-4BB0-AD63-BBD40345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7D8D-7AE3-4347-BF87-D19B6B00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D3DB-F17F-4FEB-9E1E-A45A3F41A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mid"/>
          <p:cNvPicPr/>
          <p:nvPr/>
        </p:nvPicPr>
        <p:blipFill>
          <a:blip r:embed="rId1"/>
          <a:stretch/>
        </p:blipFill>
        <p:spPr>
          <a:xfrm>
            <a:off x="1219320" y="533520"/>
            <a:ext cx="6591240" cy="2752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71808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http://peer.tamu.edu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019920" y="457200"/>
            <a:ext cx="31240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re you correct?  Look for the highlight around New Delhi, India on the m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latitude for New Delhi?      _____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th or Sout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longitude for New Delhi?   _______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st or Ea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absolute location for New Delh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3">
            <a:hlinkClick r:id="" action="ppaction://hlinkshowjump?jump=nextslide"/>
          </p:cNvPr>
          <p:cNvSpPr/>
          <p:nvPr/>
        </p:nvSpPr>
        <p:spPr>
          <a:xfrm>
            <a:off x="4952880" y="1584360"/>
            <a:ext cx="244440" cy="168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59878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304920" y="647712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8"/>
          <p:cNvSpPr/>
          <p:nvPr/>
        </p:nvSpPr>
        <p:spPr>
          <a:xfrm>
            <a:off x="3200400" y="2209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4874760"/>
            <a:ext cx="8229600" cy="229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bsolute location for New Delhi, India is 2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N.L., 77° E.L.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solute location of Houston, Texas is 30° N.L., 95° W.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ity is located in the Eastern Hemispher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ity is located in the Western Hemisphere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ity is closer to the Prime Meridia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ity is further Nort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04920" y="5791320"/>
            <a:ext cx="861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5"/>
          <p:cNvGrpSpPr/>
          <p:nvPr/>
        </p:nvGrpSpPr>
        <p:grpSpPr>
          <a:xfrm>
            <a:off x="457200" y="0"/>
            <a:ext cx="8381880" cy="4800600"/>
            <a:chOff x="457200" y="0"/>
            <a:chExt cx="8381880" cy="4800600"/>
          </a:xfrm>
        </p:grpSpPr>
        <p:pic>
          <p:nvPicPr>
            <p:cNvPr id="94" name="Picture 9" descr=""/>
            <p:cNvPicPr/>
            <p:nvPr/>
          </p:nvPicPr>
          <p:blipFill>
            <a:blip r:embed="rId1"/>
            <a:stretch/>
          </p:blipFill>
          <p:spPr>
            <a:xfrm>
              <a:off x="457200" y="0"/>
              <a:ext cx="838188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Oval 11"/>
            <p:cNvSpPr/>
            <p:nvPr/>
          </p:nvSpPr>
          <p:spPr>
            <a:xfrm>
              <a:off x="2535120" y="1679400"/>
              <a:ext cx="71640" cy="70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2"/>
            <p:cNvSpPr/>
            <p:nvPr/>
          </p:nvSpPr>
          <p:spPr>
            <a:xfrm>
              <a:off x="6045120" y="1835280"/>
              <a:ext cx="71640" cy="69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5520" y="533160"/>
            <a:ext cx="3048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on the map above to find what cities match the addresses given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ity is located at 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N.L., 78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ity is located at 22° N.L., 79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ity is located at 18° N.L., 74° E.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59878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184320" y="647712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019920" y="533160"/>
            <a:ext cx="30477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re you corre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nnai (Madras) is located at 1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N.L., 78° E.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npur is located at 22° N.L., 79° E.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mbai (Bombay) is located at 18° N.L., 74° E.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52280" y="647712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0" y="0"/>
            <a:ext cx="5987880" cy="6858000"/>
            <a:chOff x="0" y="0"/>
            <a:chExt cx="5987880" cy="6858000"/>
          </a:xfrm>
        </p:grpSpPr>
        <p:pic>
          <p:nvPicPr>
            <p:cNvPr id="105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987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Oval 6"/>
            <p:cNvSpPr/>
            <p:nvPr/>
          </p:nvSpPr>
          <p:spPr>
            <a:xfrm>
              <a:off x="274320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7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8"/>
            <p:cNvSpPr/>
            <p:nvPr/>
          </p:nvSpPr>
          <p:spPr>
            <a:xfrm>
              <a:off x="3581280" y="2514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10"/>
          <p:cNvSpPr/>
          <p:nvPr/>
        </p:nvSpPr>
        <p:spPr>
          <a:xfrm>
            <a:off x="184320" y="647712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4640" y="34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6480" y="1581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global address of a place using latitude and longitude is known 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addresses north of the Equator are referred to as North ________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addresses west of the Prime Meridian are referred to as West _______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latitude and longitude are measured in ______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1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866880" y="1774800"/>
            <a:ext cx="7512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st your understanding of latitude and longitude by taking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bsolute Location Challenge Quiz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1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NIEHS"/>
          <p:cNvPicPr/>
          <p:nvPr/>
        </p:nvPicPr>
        <p:blipFill>
          <a:blip r:embed="rId1"/>
          <a:stretch/>
        </p:blipFill>
        <p:spPr>
          <a:xfrm>
            <a:off x="380880" y="1982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Peer"/>
          <p:cNvPicPr/>
          <p:nvPr/>
        </p:nvPicPr>
        <p:blipFill>
          <a:blip r:embed="rId2"/>
          <a:stretch/>
        </p:blipFill>
        <p:spPr>
          <a:xfrm>
            <a:off x="380880" y="350676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ollegeofEdu"/>
          <p:cNvPicPr/>
          <p:nvPr/>
        </p:nvPicPr>
        <p:blipFill>
          <a:blip r:embed="rId3"/>
          <a:stretch/>
        </p:blipFill>
        <p:spPr>
          <a:xfrm>
            <a:off x="380880" y="503064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04760" y="2130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Institute of Environmental Heal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48160" y="1914480"/>
            <a:ext cx="259380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8" descr="CERH"/>
          <p:cNvPicPr/>
          <p:nvPr/>
        </p:nvPicPr>
        <p:blipFill>
          <a:blip r:embed="rId4"/>
          <a:stretch/>
        </p:blipFill>
        <p:spPr>
          <a:xfrm>
            <a:off x="4724280" y="350676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New CVM logo_ any color"/>
          <p:cNvPicPr/>
          <p:nvPr/>
        </p:nvPicPr>
        <p:blipFill>
          <a:blip r:embed="rId5"/>
          <a:stretch/>
        </p:blipFill>
        <p:spPr>
          <a:xfrm>
            <a:off x="4724280" y="502596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0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2"/>
          <p:cNvGrpSpPr/>
          <p:nvPr/>
        </p:nvGrpSpPr>
        <p:grpSpPr>
          <a:xfrm>
            <a:off x="4643280" y="1981080"/>
            <a:ext cx="1546560" cy="1371600"/>
            <a:chOff x="4643280" y="1981080"/>
            <a:chExt cx="1546560" cy="1371600"/>
          </a:xfrm>
        </p:grpSpPr>
        <p:sp>
          <p:nvSpPr>
            <p:cNvPr id="126" name="Rectangle 13"/>
            <p:cNvSpPr/>
            <p:nvPr/>
          </p:nvSpPr>
          <p:spPr>
            <a:xfrm>
              <a:off x="4724280" y="19810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7" name="Object 14"/>
            <p:cNvGraphicFramePr/>
            <p:nvPr/>
          </p:nvGraphicFramePr>
          <p:xfrm>
            <a:off x="4643280" y="2170080"/>
            <a:ext cx="1546560" cy="101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8" name="Object 1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643280" y="21700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9" name="Text Box 15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ttp://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absolute lo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knowledge and ability to apply measurements of latitude and longitu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and interpret locations on ma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4640" y="34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Ind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457200" y="2438280"/>
            <a:ext cx="792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768320"/>
            <a:ext cx="822960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704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lobal address or absolute location of the center of India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° N.L. and 77° E.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ndia in the Northern or Southern Hemisp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ndia in the Eastern or Western Hemisphere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28600" y="5715000"/>
            <a:ext cx="863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 to the center of India.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N.L., 77° E.L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8">
            <a:hlinkClick r:id="" action="ppaction://hlinkshowjump?jump=nextslide"/>
          </p:cNvPr>
          <p:cNvSpPr/>
          <p:nvPr/>
        </p:nvSpPr>
        <p:spPr>
          <a:xfrm>
            <a:off x="5818320" y="1709640"/>
            <a:ext cx="47124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76320" y="104760"/>
            <a:ext cx="899136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04920" y="5638680"/>
            <a:ext cx="87436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titude for the center of India is ___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.  North or Sou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longitude for the center of India? ______°  West or E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76320" y="104760"/>
            <a:ext cx="8991360" cy="5229360"/>
          </a:xfrm>
          <a:prstGeom prst="rect">
            <a:avLst/>
          </a:prstGeom>
          <a:ln w="0">
            <a:noFill/>
          </a:ln>
        </p:spPr>
      </p:pic>
      <p:sp>
        <p:nvSpPr>
          <p:cNvPr id="63" name="Freeform 5"/>
          <p:cNvSpPr/>
          <p:nvPr/>
        </p:nvSpPr>
        <p:spPr>
          <a:xfrm>
            <a:off x="5943600" y="1828800"/>
            <a:ext cx="533520" cy="685800"/>
          </a:xfrm>
          <a:prstGeom prst="pie">
            <a:avLst/>
          </a:pr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5562720" y="2165400"/>
            <a:ext cx="3352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a is the largest democracy in the world, the seventh largest country, and the second most populou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057400" y="15228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4770360" cy="55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4226040" y="1933560"/>
            <a:ext cx="4449600" cy="2868480"/>
            <a:chOff x="4226040" y="1933560"/>
            <a:chExt cx="4449600" cy="2868480"/>
          </a:xfrm>
        </p:grpSpPr>
        <p:pic>
          <p:nvPicPr>
            <p:cNvPr id="69" name="Picture 3" descr="landmass-USA2"/>
            <p:cNvPicPr/>
            <p:nvPr/>
          </p:nvPicPr>
          <p:blipFill>
            <a:blip r:embed="rId1"/>
            <a:srcRect l="0" t="0" r="3123" b="4309"/>
            <a:stretch/>
          </p:blipFill>
          <p:spPr>
            <a:xfrm>
              <a:off x="4226040" y="1933560"/>
              <a:ext cx="4449600" cy="2868480"/>
            </a:xfrm>
            <a:prstGeom prst="rect">
              <a:avLst/>
            </a:prstGeom>
            <a:ln w="76320">
              <a:solidFill>
                <a:srgbClr val="547052"/>
              </a:solidFill>
              <a:miter/>
            </a:ln>
          </p:spPr>
        </p:pic>
        <p:pic>
          <p:nvPicPr>
            <p:cNvPr id="70" name="Object 4" descr=""/>
            <p:cNvPicPr/>
            <p:nvPr/>
          </p:nvPicPr>
          <p:blipFill>
            <a:blip r:embed="rId2"/>
            <a:stretch/>
          </p:blipFill>
          <p:spPr>
            <a:xfrm>
              <a:off x="5589720" y="2064960"/>
              <a:ext cx="2349360" cy="265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Text Box 5"/>
          <p:cNvSpPr/>
          <p:nvPr/>
        </p:nvSpPr>
        <p:spPr>
          <a:xfrm>
            <a:off x="347760" y="1725480"/>
            <a:ext cx="35845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a is about one third as large as the United States, having a total landmass of 3,287,600 sq. k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56% of India’s land is fit for cultivation, while roughly 23% is woodland or for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779400" y="53172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a’s Land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InSolve_01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600" y="3427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Delhi is the capital city of In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305712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lobal address or absolute location of New Delhi is</a:t>
            </a:r>
            <a:br>
              <a:rPr sz="2800"/>
            </a:br>
            <a:br>
              <a:rPr sz="1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° N.L. and 77° E.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49280" y="17524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is it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019920" y="1904760"/>
            <a:ext cx="31240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int to New Delhi, India.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N.L., 77° E.L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5">
            <a:hlinkClick r:id="" action="ppaction://hlinkshowjump?jump=nextslide"/>
          </p:cNvPr>
          <p:cNvSpPr/>
          <p:nvPr/>
        </p:nvSpPr>
        <p:spPr>
          <a:xfrm>
            <a:off x="4952880" y="1584360"/>
            <a:ext cx="244440" cy="168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59878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1"/>
          <p:cNvSpPr/>
          <p:nvPr/>
        </p:nvSpPr>
        <p:spPr>
          <a:xfrm>
            <a:off x="228600" y="647712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3T15:25:34Z</dcterms:created>
  <dc:creator>Texas A&amp;M Veterinary Medicine</dc:creator>
  <dc:description/>
  <dc:language>en-US</dc:language>
  <cp:lastModifiedBy>Hannah</cp:lastModifiedBy>
  <dcterms:modified xsi:type="dcterms:W3CDTF">2009-03-08T19:02:27Z</dcterms:modified>
  <cp:revision>58</cp:revision>
  <dc:subject/>
  <dc:title>Slide 1</dc:title>
</cp:coreProperties>
</file>