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C5B8-A5CC-4F3B-803F-2E81C5C60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9B: The student is expected to: draw on experiences to bring meanings to words in context such as interpreting idioms, multiple-meaning words, and analogies (6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A0D-567E-4AA9-B057-71BDC68E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F3C-AB5A-41A8-A1CA-2654EB1C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FCC-0236-4E22-BF51-9FA4DE54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4B95-503E-4F07-BA79-21BE72B2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5EF-255D-486A-BC00-E7A47056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ED3-498D-41CC-A4AA-64B620FB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487C-FDB8-40E6-878E-3A34CB8C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186A-5D26-4E02-8D7A-CDDE8F6D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EDC-0D01-4271-B201-48B727BE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E31-0ADA-4920-AA55-32628235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4B8-9661-4870-8FE6-8C640CC1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56E-6CF3-4FFA-8A0C-83D37AED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1B3D-81A7-45F5-875E-770DD336191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6240" y="1314360"/>
            <a:ext cx="73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36734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00200" y="1928880"/>
            <a:ext cx="764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acrid smell of shrimp, mussels, and other shellfish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erme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troy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mouflag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etrated or passed throug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Their journey through the park and the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 notor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lley shortcut had taken only about twenty minutes, but it seemed like a lifetim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ely, but unfavorably know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nd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4145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403280" y="4680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05080" y="5216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171960" y="27907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091040" y="46720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440" y="1900080"/>
            <a:ext cx="814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49360" indent="-549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Isn’t it about time to head back?’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queri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breaking the silence.  She set down her rod and began doing jumping jacks, shaking the weathered planks and bouncing all five of her friends.  ‘I need to move!’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spcBef>
                <a:spcPts val="2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es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3280" y="4630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03280" y="51656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5080" y="5702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4800" y="1905120"/>
            <a:ext cx="802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 chorus of ‘be still’ and ‘stop that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ssail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and she reluctantly stopped jumping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lmed, reassu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acked with arg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rept slowly ar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03280" y="363996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03280" y="42004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764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lines got tangled, and the keypad must have activated when it crashed into my rod,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mis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uessed; thought without strong evid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l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3280" y="36432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03280" y="4203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405080" y="4753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way it looks around here, you could never get lonely in India,’ Summer commented as anot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hor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tourists approached them along the shadowy walkway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ss or crow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large fie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tree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05320" y="4043520"/>
            <a:ext cx="3176640" cy="23828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03280" y="4392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403280" y="4927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405080" y="5464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47280" y="189540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Four long, reflecting pool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isec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icured, formal gardens that lined broad, stone walkways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mold someth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erform an operation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cut or divide into equal or nearly equa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36781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03280" y="42130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799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It was so massive and yet so perfectly proportioned that it seem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real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racterized by a blurry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ction, not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03280" y="3164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03280" y="3699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05080" y="4235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2001"/>
              </a:spcBef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On and on the recording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dron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in various languages as more police led an ever-increasing number of visitors away from the doorway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in a flat, continuous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very lou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eated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03280" y="41353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03280" y="46702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405080" y="52070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01640" y="192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cri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mell of shrimp, mussels, and other shellfish permeated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ppeal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ysterio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 or sting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Vince Hardy</cp:lastModifiedBy>
  <dcterms:modified xsi:type="dcterms:W3CDTF">2007-05-03T16:34:58Z</dcterms:modified>
  <cp:revision>88</cp:revision>
  <dc:subject/>
  <dc:title>Vocab Challenge</dc:title>
</cp:coreProperties>
</file>