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7B09-9FAD-48D1-905F-131BC5A1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61C6-8F4F-49CF-AB7D-9E9999647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97AA-20CA-4F29-BDE0-3A0FDC55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4311-37F4-49DD-9850-E376292A8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Delhi is located in the Eastern Hemi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ton is farther north than New Delh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ton is located in the Western Hemi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Delhi is located closer to the Prime Meridian than Hous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9D56-DECB-4347-9963-C8FABF902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n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265A-6B74-4339-A0D1-FC9D51021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n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9676-B060-4E3E-BF21-CA711A49B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A787-F012-437A-B83B-31EA1C3F9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latitude longitude absolute location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52E8-F8EA-4CEA-BE3A-218DB4C9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11C3-53F0-4A1D-980A-AD74C4E2D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BDF0-D6C0-4FD9-B86A-3E30B045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ern!  Easte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C1C2-B919-4A2D-8235-9AF3415B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6A22-1A26-4698-9DE9-CEA803F73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2B08-4A5A-44EC-A131-FAFA8EF36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4E8E-F6EC-4D51-843D-85EA19DB5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A6A7-C366-441A-854A-9ABFBDC00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F450-798F-4EBF-8145-E92D38845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064-6821-4260-A4AB-EC3EF617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693-6CEB-477E-BE7A-BF69643A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5D3-2F56-4DC8-AE21-A5DC5653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BEA-BE2E-473F-A097-A324C710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B16-2E8A-42A3-8734-37857F8F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C8D-523C-46B5-8948-23E5C88F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54D-10C2-4256-A6A0-C41303C4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DD0-A329-4292-BADF-2CE81B58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A9C9-542D-4D0A-9587-E9C158AC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AF3-E914-4B26-B293-9D713AD0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75C-6BB9-4068-B322-5E833F17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3C3-B2E6-4426-A9F5-46F24A9C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5754-64B2-4C89-A0BA-96EF8E2A7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mid"/>
          <p:cNvPicPr/>
          <p:nvPr/>
        </p:nvPicPr>
        <p:blipFill>
          <a:blip r:embed="rId1"/>
          <a:stretch/>
        </p:blipFill>
        <p:spPr>
          <a:xfrm>
            <a:off x="1219320" y="533520"/>
            <a:ext cx="6591240" cy="2752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71808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19920" y="4572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New Delhi, India on th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latitude for New Delhi?      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h or So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New Delhi?   _______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 or Ea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absolute location for New Delh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3">
            <a:hlinkClick r:id="" action="ppaction://hlinkshowjump?jump=nextslide"/>
          </p:cNvPr>
          <p:cNvSpPr/>
          <p:nvPr/>
        </p:nvSpPr>
        <p:spPr>
          <a:xfrm>
            <a:off x="4952880" y="1584360"/>
            <a:ext cx="244440" cy="168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9878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04920" y="647712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32004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4874760"/>
            <a:ext cx="8229600" cy="229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solute location for New Delhi, India is 2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.L., 77° E.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lute location of Houston, Texas is 30° N.L., 95° W.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ity is located in the Eastern Hemispher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ity is located in the Western Hemisphere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ity is closer to the Prime Meridia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ity is further Nor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04920" y="57913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5"/>
          <p:cNvGrpSpPr/>
          <p:nvPr/>
        </p:nvGrpSpPr>
        <p:grpSpPr>
          <a:xfrm>
            <a:off x="457200" y="0"/>
            <a:ext cx="8381880" cy="4800600"/>
            <a:chOff x="457200" y="0"/>
            <a:chExt cx="8381880" cy="4800600"/>
          </a:xfrm>
        </p:grpSpPr>
        <p:pic>
          <p:nvPicPr>
            <p:cNvPr id="94" name="Picture 9" descr=""/>
            <p:cNvPicPr/>
            <p:nvPr/>
          </p:nvPicPr>
          <p:blipFill>
            <a:blip r:embed="rId1"/>
            <a:stretch/>
          </p:blipFill>
          <p:spPr>
            <a:xfrm>
              <a:off x="457200" y="0"/>
              <a:ext cx="838188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Oval 11"/>
            <p:cNvSpPr/>
            <p:nvPr/>
          </p:nvSpPr>
          <p:spPr>
            <a:xfrm>
              <a:off x="2535120" y="1679400"/>
              <a:ext cx="71640" cy="7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2"/>
            <p:cNvSpPr/>
            <p:nvPr/>
          </p:nvSpPr>
          <p:spPr>
            <a:xfrm>
              <a:off x="6045120" y="1835280"/>
              <a:ext cx="71640" cy="69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5520" y="533160"/>
            <a:ext cx="3048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on the map above to find what cities match the addresses give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ity is located at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.L., 7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ity is located at 22° N.L., 79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ity is located at 18° N.L., 74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9878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84320" y="647712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19920" y="533160"/>
            <a:ext cx="30477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e you corr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nnai (Madras) is located at 1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.L., 78° E.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pur is located at 22° N.L., 79° E.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mbai (Bombay) is located at 18° N.L., 74° E.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2280" y="647712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0" y="0"/>
            <a:ext cx="5987880" cy="6858000"/>
            <a:chOff x="0" y="0"/>
            <a:chExt cx="5987880" cy="6858000"/>
          </a:xfrm>
        </p:grpSpPr>
        <p:pic>
          <p:nvPicPr>
            <p:cNvPr id="10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987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Oval 6"/>
            <p:cNvSpPr/>
            <p:nvPr/>
          </p:nvSpPr>
          <p:spPr>
            <a:xfrm>
              <a:off x="274320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8"/>
            <p:cNvSpPr/>
            <p:nvPr/>
          </p:nvSpPr>
          <p:spPr>
            <a:xfrm>
              <a:off x="3581280" y="2514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0"/>
          <p:cNvSpPr/>
          <p:nvPr/>
        </p:nvSpPr>
        <p:spPr>
          <a:xfrm>
            <a:off x="184320" y="647712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464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6480" y="1581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global address of a place using latitude and longitude is known 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north of the Equator are referred to as North __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west of the Prime Meridian are referred to as West _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latitude and longitude are measured in 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66880" y="177480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bsolute Location Challenge Quiz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NIEHS"/>
          <p:cNvPicPr/>
          <p:nvPr/>
        </p:nvPicPr>
        <p:blipFill>
          <a:blip r:embed="rId1"/>
          <a:stretch/>
        </p:blipFill>
        <p:spPr>
          <a:xfrm>
            <a:off x="380880" y="198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Peer"/>
          <p:cNvPicPr/>
          <p:nvPr/>
        </p:nvPicPr>
        <p:blipFill>
          <a:blip r:embed="rId2"/>
          <a:stretch/>
        </p:blipFill>
        <p:spPr>
          <a:xfrm>
            <a:off x="3808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ollegeofEdu"/>
          <p:cNvPicPr/>
          <p:nvPr/>
        </p:nvPicPr>
        <p:blipFill>
          <a:blip r:embed="rId3"/>
          <a:stretch/>
        </p:blipFill>
        <p:spPr>
          <a:xfrm>
            <a:off x="380880" y="503064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4760" y="2130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48160" y="1914480"/>
            <a:ext cx="25938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CERH"/>
          <p:cNvPicPr/>
          <p:nvPr/>
        </p:nvPicPr>
        <p:blipFill>
          <a:blip r:embed="rId4"/>
          <a:stretch/>
        </p:blipFill>
        <p:spPr>
          <a:xfrm>
            <a:off x="47242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New CVM logo_ any color"/>
          <p:cNvPicPr/>
          <p:nvPr/>
        </p:nvPicPr>
        <p:blipFill>
          <a:blip r:embed="rId5"/>
          <a:stretch/>
        </p:blipFill>
        <p:spPr>
          <a:xfrm>
            <a:off x="4724280" y="50259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4643280" y="1981080"/>
            <a:ext cx="1546560" cy="1371600"/>
            <a:chOff x="4643280" y="1981080"/>
            <a:chExt cx="1546560" cy="1371600"/>
          </a:xfrm>
        </p:grpSpPr>
        <p:sp>
          <p:nvSpPr>
            <p:cNvPr id="126" name="Rectangle 13"/>
            <p:cNvSpPr/>
            <p:nvPr/>
          </p:nvSpPr>
          <p:spPr>
            <a:xfrm>
              <a:off x="4724280" y="19810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" name="Object 14"/>
            <p:cNvGraphicFramePr/>
            <p:nvPr/>
          </p:nvGraphicFramePr>
          <p:xfrm>
            <a:off x="4643280" y="21700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8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700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" name="Text Box 15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absolute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knowledge and ability to apply measurements of latitude and long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nd interpret locations on m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Ind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68320"/>
            <a:ext cx="82296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704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address or absolute location of the center of India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dia in the Northern or Southern Hemisp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dia in the Eastern or Western Hemisphere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28600" y="5715000"/>
            <a:ext cx="86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to the center of India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.L., 77° E.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>
            <a:hlinkClick r:id="" action="ppaction://hlinkshowjump?jump=nextslide"/>
          </p:cNvPr>
          <p:cNvSpPr/>
          <p:nvPr/>
        </p:nvSpPr>
        <p:spPr>
          <a:xfrm>
            <a:off x="5818320" y="1709640"/>
            <a:ext cx="47124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76320" y="104760"/>
            <a:ext cx="89913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04920" y="5638680"/>
            <a:ext cx="87436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titude for the center of India is 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.  North or Sou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the center of India? ______°  West or E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76320" y="104760"/>
            <a:ext cx="8991360" cy="5229360"/>
          </a:xfrm>
          <a:prstGeom prst="rect">
            <a:avLst/>
          </a:prstGeom>
          <a:ln w="0">
            <a:noFill/>
          </a:ln>
        </p:spPr>
      </p:pic>
      <p:sp>
        <p:nvSpPr>
          <p:cNvPr id="63" name="Freeform 5"/>
          <p:cNvSpPr/>
          <p:nvPr/>
        </p:nvSpPr>
        <p:spPr>
          <a:xfrm>
            <a:off x="5943600" y="1828800"/>
            <a:ext cx="533520" cy="68580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562720" y="2165400"/>
            <a:ext cx="335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a is the largest democracy in the world, the seventh largest country, and the second most populou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057400" y="1522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77036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4226040" y="1933560"/>
            <a:ext cx="4449600" cy="2868480"/>
            <a:chOff x="4226040" y="1933560"/>
            <a:chExt cx="4449600" cy="2868480"/>
          </a:xfrm>
        </p:grpSpPr>
        <p:pic>
          <p:nvPicPr>
            <p:cNvPr id="69" name="Picture 3" descr="landmass-USA2"/>
            <p:cNvPicPr/>
            <p:nvPr/>
          </p:nvPicPr>
          <p:blipFill>
            <a:blip r:embed="rId1"/>
            <a:srcRect l="0" t="0" r="3123" b="4309"/>
            <a:stretch/>
          </p:blipFill>
          <p:spPr>
            <a:xfrm>
              <a:off x="4226040" y="1933560"/>
              <a:ext cx="4449600" cy="2868480"/>
            </a:xfrm>
            <a:prstGeom prst="rect">
              <a:avLst/>
            </a:prstGeom>
            <a:ln w="76320">
              <a:solidFill>
                <a:srgbClr val="547052"/>
              </a:solidFill>
              <a:miter/>
            </a:ln>
          </p:spPr>
        </p:pic>
        <p:pic>
          <p:nvPicPr>
            <p:cNvPr id="70" name="Object 4" descr=""/>
            <p:cNvPicPr/>
            <p:nvPr/>
          </p:nvPicPr>
          <p:blipFill>
            <a:blip r:embed="rId2"/>
            <a:stretch/>
          </p:blipFill>
          <p:spPr>
            <a:xfrm>
              <a:off x="5589720" y="2064960"/>
              <a:ext cx="2349360" cy="265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ext Box 5"/>
          <p:cNvSpPr/>
          <p:nvPr/>
        </p:nvSpPr>
        <p:spPr>
          <a:xfrm>
            <a:off x="347760" y="1725480"/>
            <a:ext cx="35845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 is about one third as large as the United States, having a total landmass of 3,287,600 sq.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56% of India’s land is fit for cultivation, while roughly 23% is woodland or for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79400" y="53172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’s Land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InSolve_01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600" y="3427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Delhi is the capital city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05712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address or absolute location of New Delhi is</a:t>
            </a:r>
            <a:br>
              <a:rPr sz="2800"/>
            </a:br>
            <a:br>
              <a:rPr sz="1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49280" y="1752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is it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019920" y="1904760"/>
            <a:ext cx="3124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int to New Delhi, India.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.L., 77° E.L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5">
            <a:hlinkClick r:id="" action="ppaction://hlinkshowjump?jump=nextslide"/>
          </p:cNvPr>
          <p:cNvSpPr/>
          <p:nvPr/>
        </p:nvSpPr>
        <p:spPr>
          <a:xfrm>
            <a:off x="4952880" y="1584360"/>
            <a:ext cx="244440" cy="168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59878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1"/>
          <p:cNvSpPr/>
          <p:nvPr/>
        </p:nvSpPr>
        <p:spPr>
          <a:xfrm>
            <a:off x="228600" y="647712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5:25:34Z</dcterms:created>
  <dc:creator>Texas A&amp;M Veterinary Medicine</dc:creator>
  <dc:description/>
  <dc:language>en-US</dc:language>
  <cp:lastModifiedBy>Hannah</cp:lastModifiedBy>
  <dcterms:modified xsi:type="dcterms:W3CDTF">2009-03-08T19:02:27Z</dcterms:modified>
  <cp:revision>58</cp:revision>
  <dc:subject/>
  <dc:title>Slide 1</dc:title>
</cp:coreProperties>
</file>