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4573-84E9-48FF-85A7-10B867C56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C: The student is expected to: monitor his/her own comprehension and make modifications when understanding breaks down such as by rereading a portion aloud, using reference aids, searching for clues, and asking question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: use the text’s structure or progression of ideas such as cause and effect or chronology to locate and recall information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: draw inferences such as conclusions or generalizations and support them with text evidence and experienc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: Answer different types and levels of questions such as open-ended, literal, and interpretative as well as test-like questions such as multiple choice, true-false, and short answer(4-8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, including letters, news, records, and form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93C4-D835-46BE-9AC8-4FECF017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18DA-4A00-4281-8121-C947A0E1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6930-DB11-4FA5-A04A-3302D5180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337A-BA83-40CA-BE9E-CF7BF9BAE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E543-5524-44FC-815B-F7E41FB6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7FA9-54ED-44FA-A7BD-F3EE2068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8E9D-F153-48D2-B11E-B0D7158A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B088-32C6-44E0-B652-A93B1CDB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7CB9-A5F3-49A3-BA79-66555642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707F-F770-4AEE-8133-F0A31834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0BED-BCEC-4141-810E-719EF30A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B959-80BD-41D5-A098-BFA2048B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8FEA-5DE3-410C-96F7-F93470159EC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9880" y="195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 Which one of the following presented a contrast to the sickness and poverty the friends saw in the alleyway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spcBef>
                <a:spcPts val="224"/>
              </a:spcBef>
              <a:buNone/>
              <a:tabLst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ld woman selling vegetabl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little girl begging for mon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ists visiting the Taj Maha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lderly man clutching his stomac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257480" y="3308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251000" y="498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25100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1254240" y="38718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55120" y="1596960"/>
            <a:ext cx="7991640" cy="47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92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friends were able to travel together back to their home b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 new Backpack Computers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ke them the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ying on a commercial airli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iding on a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ting a magical incantation. grasping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ach other’s han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rasping each other’s han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257480" y="2978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251000" y="5030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1251000" y="4416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1254240" y="38368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1254240" y="5923080"/>
            <a:ext cx="3744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218040" y="28353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230720" y="51879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74720" y="1562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beginning of the story, who do you learn is bored by the moonlight fishing adventur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57480" y="3348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51000" y="4991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51000" y="4424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54240" y="3882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11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was Travis left on the fishing pier by himself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got tired and went ho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had gone for a midnight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w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PC accident teleported the others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other pla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had a major exam the next 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d had no more time to fis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257480" y="2841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251000" y="5343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251000" y="441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254240" y="3481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friends find themselves transported to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alace of Versaill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great wall of Chin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ckingham Palace in Lond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aj Mahal in Indi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257480" y="2362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251000" y="4033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251000" y="3467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1254240" y="2911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74720" y="1587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f the following does NOT correctly match a place from the story with a partial description of the plac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hjahan Park:  filled with sweet smelling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w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eyway:  lined with shops and vend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shing pier:  moonl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rdens:  includes four, long reflecting poo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257480" y="324468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251000" y="5180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251000" y="461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1254240" y="4057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f the following did the friends see as they traveled through the alleywa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 including donkeys, goats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ep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uits and vegetabl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ad chickens hung upside dow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afood shop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257480" y="28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251000" y="4740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251000" y="4184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254240" y="3629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1254240" y="5308560"/>
            <a:ext cx="3744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friends saw several people who did not seem well. Which of the following were not well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. Pat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young couple on their honeymo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man who was being tattoo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tour gu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teenage gir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246320" y="31575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251000" y="4829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251000" y="4276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125424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1254240" y="5389560"/>
            <a:ext cx="3744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ithout the BPC language translator, how were the friends understood by the people they met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 spoke Hindi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used sign langua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ists acted as translat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econd language of the country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nglis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257480" y="3121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251000" y="4921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251000" y="4226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1254240" y="36702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0076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le walking through the alley, the friends were surprised to see a sign advertising</a:t>
            </a:r>
            <a:br>
              <a:rPr sz="32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st sheep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 donatio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s of the tomb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accinatio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257480" y="3311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251000" y="4992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25100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1254240" y="38736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20:55:03Z</dcterms:created>
  <dc:creator>Dr. Deborah Kochevar</dc:creator>
  <dc:description/>
  <dc:language>en-US</dc:language>
  <cp:lastModifiedBy>Vince Hardy</cp:lastModifiedBy>
  <dcterms:modified xsi:type="dcterms:W3CDTF">2007-05-04T18:03:11Z</dcterms:modified>
  <cp:revision>79</cp:revision>
  <dc:subject/>
  <dc:title>Investigator Challenge Quiz</dc:title>
</cp:coreProperties>
</file>