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CD8-EF95-4982-AEA7-0C8DB940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0E3-820B-4FE3-BE5F-F311D545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F85-D779-429E-9EF1-55AB2FED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D06-E61E-4D3C-B551-964216BE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FD3-9890-4F63-9B76-2D298B75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C49-AB1F-44B7-A91C-3155E390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D4C-1299-448B-967D-DB8A1957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0D4-55E4-4815-B362-82507617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129-7A4C-42D1-B392-7A11BBE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34B-6AEB-4DF9-B9D7-EC940137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16A-9545-48EC-9742-1FAB445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AA6-10B2-4661-B292-03994AA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0B64-D708-4367-AEF7-34BDF38F9FD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ndiaAll"/>
          <p:cNvPicPr/>
          <p:nvPr/>
        </p:nvPicPr>
        <p:blipFill>
          <a:blip r:embed="rId1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worldmap1"/>
          <p:cNvPicPr/>
          <p:nvPr/>
        </p:nvPicPr>
        <p:blipFill>
          <a:blip r:embed="rId1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Text Box 5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818320" y="1709640"/>
            <a:ext cx="471240" cy="54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6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worldmap1"/>
          <p:cNvPicPr/>
          <p:nvPr/>
        </p:nvPicPr>
        <p:blipFill>
          <a:blip r:embed="rId1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5818320" y="1709640"/>
            <a:ext cx="471240" cy="54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5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worldmap1"/>
          <p:cNvPicPr/>
          <p:nvPr/>
        </p:nvPicPr>
        <p:blipFill>
          <a:blip r:embed="rId1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Freeform 7"/>
          <p:cNvSpPr/>
          <p:nvPr/>
        </p:nvSpPr>
        <p:spPr>
          <a:xfrm>
            <a:off x="5818320" y="1709640"/>
            <a:ext cx="471240" cy="54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5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diaNewDelhi"/>
          <p:cNvPicPr/>
          <p:nvPr/>
        </p:nvPicPr>
        <p:blipFill>
          <a:blip r:embed="rId1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Text Box 5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indiaNewDelhi"/>
          <p:cNvPicPr/>
          <p:nvPr/>
        </p:nvPicPr>
        <p:blipFill>
          <a:blip r:embed="rId1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ndiaNewDelhi"/>
          <p:cNvPicPr/>
          <p:nvPr/>
        </p:nvPicPr>
        <p:blipFill>
          <a:blip r:embed="rId1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Text Box 5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indiaAll"/>
          <p:cNvPicPr/>
          <p:nvPr/>
        </p:nvPicPr>
        <p:blipFill>
          <a:blip r:embed="rId1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Text Box 5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ndiaAll"/>
          <p:cNvPicPr/>
          <p:nvPr/>
        </p:nvPicPr>
        <p:blipFill>
          <a:blip r:embed="rId1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Text Box 5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Hannah</cp:lastModifiedBy>
  <dcterms:modified xsi:type="dcterms:W3CDTF">2009-03-08T19:02:16Z</dcterms:modified>
  <cp:revision>339</cp:revision>
  <dc:subject/>
  <dc:title>Hard River Escape</dc:title>
</cp:coreProperties>
</file>