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283-283E-449E-9F10-090AFD8F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9CB-CB0B-4026-A243-3CA2DA0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903-9DB9-4DA5-A9CD-FC0F2C23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B17-1006-4E76-843D-38F16B3D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F58-AF0E-4470-B11F-BC969460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A32-0945-4271-8C3C-E2B09BE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DA9-E4AF-4C00-9A1A-89AD883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31E-CC26-4294-8C0D-15C09499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699-5F50-4A7F-A866-2185F73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AE8-12A1-4AC6-BE60-051FC1F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B5F-8302-43BE-A20F-E1CE474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8C6-11D6-4AB7-967B-68E6E1E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1546-BD07-4AA4-A76E-DD761A8AAF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6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worldmap1"/>
          <p:cNvPicPr/>
          <p:nvPr/>
        </p:nvPicPr>
        <p:blipFill>
          <a:blip r:embed="rId1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Freeform 7"/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5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ndiaNewDelhi"/>
          <p:cNvPicPr/>
          <p:nvPr/>
        </p:nvPicPr>
        <p:blipFill>
          <a:blip r:embed="rId1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ndiaAll"/>
          <p:cNvPicPr/>
          <p:nvPr/>
        </p:nvPicPr>
        <p:blipFill>
          <a:blip r:embed="rId1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IndiaButtonC"/>
          <p:cNvPicPr/>
          <p:nvPr/>
        </p:nvPicPr>
        <p:blipFill>
          <a:blip r:embed="rId2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IndiaButtonA"/>
          <p:cNvPicPr/>
          <p:nvPr/>
        </p:nvPicPr>
        <p:blipFill>
          <a:blip r:embed="rId3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ndiaButtonB"/>
          <p:cNvPicPr/>
          <p:nvPr/>
        </p:nvPicPr>
        <p:blipFill>
          <a:blip r:embed="rId4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Hannah</cp:lastModifiedBy>
  <dcterms:modified xsi:type="dcterms:W3CDTF">2009-03-08T19:02:16Z</dcterms:modified>
  <cp:revision>339</cp:revision>
  <dc:subject/>
  <dc:title>Hard River Escape</dc:title>
</cp:coreProperties>
</file>