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077-D713-4A08-9B2A-2E31D113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C0D-A9D2-441A-B580-E1B58929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4CF-5CEA-4DD9-90BB-4B546925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6C9-45B6-4876-A0DA-AA7E7DEA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1643-19D7-4E6F-BBA5-F1374113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3FF-5B1F-479F-B69C-054B3D1D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143B-D075-4717-BDD4-5B4096EF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4B0-A1E2-454B-8FC4-78F5E03AF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6E4-AC37-487A-8AC6-D25A804A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, Nepal, Buthan, Mongo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181-9810-461C-AB98-00258112D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9BA-E32E-46F8-B139-119B436D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outhern Asia” would be o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F97-1D90-4663-A6A7-648712E3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000-C071-4AFE-B2AD-6D45791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E9C-549D-404E-81EB-FB2EC18A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456-001E-4EBC-BF84-E2C1AD1A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404-FD14-44C7-B372-36DAEB3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182-CBDC-440A-B609-988A418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EEF-3B10-4F09-BD98-B378BBA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5DD-9B4F-4325-9BFB-9A63886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524-05C1-4297-99E8-4DA55B71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FA1-45C3-40B8-BB9C-E24EB07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D9A-C5B7-425B-BDFB-BC8521C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985-D8D8-447D-B1DC-B1230F33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4C9-7E08-45E1-96CE-7F27DABF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76200" y="833400"/>
            <a:ext cx="6591600" cy="275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840" y="196992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1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the ability to use directions from one place to find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interpret locations on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India in rel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other pl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440" y="5203800"/>
            <a:ext cx="56386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 is outlined on the map abov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what continent is India locate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southwest of Ind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southeast of India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76320" y="11160"/>
            <a:ext cx="8991360" cy="5229000"/>
            <a:chOff x="76320" y="11160"/>
            <a:chExt cx="8991360" cy="5229000"/>
          </a:xfrm>
        </p:grpSpPr>
        <p:pic>
          <p:nvPicPr>
            <p:cNvPr id="59" name="Picture 7" descr=""/>
            <p:cNvPicPr/>
            <p:nvPr/>
          </p:nvPicPr>
          <p:blipFill>
            <a:blip r:embed="rId1"/>
            <a:stretch/>
          </p:blipFill>
          <p:spPr>
            <a:xfrm>
              <a:off x="76320" y="11160"/>
              <a:ext cx="8991360" cy="52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Freeform 5"/>
            <p:cNvSpPr/>
            <p:nvPr/>
          </p:nvSpPr>
          <p:spPr>
            <a:xfrm>
              <a:off x="5943600" y="1763280"/>
              <a:ext cx="533520" cy="6094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52578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 from your home, which direction would you trave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76320" y="0"/>
            <a:ext cx="8991360" cy="5229360"/>
            <a:chOff x="76320" y="0"/>
            <a:chExt cx="8991360" cy="522936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76320" y="0"/>
              <a:ext cx="89913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Freeform 9"/>
            <p:cNvSpPr/>
            <p:nvPr/>
          </p:nvSpPr>
          <p:spPr>
            <a:xfrm>
              <a:off x="5943600" y="1752480"/>
              <a:ext cx="533520" cy="60984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World1"/>
          <p:cNvPicPr/>
          <p:nvPr/>
        </p:nvPicPr>
        <p:blipFill>
          <a:blip r:embed="rId1"/>
          <a:stretch/>
        </p:blipFill>
        <p:spPr>
          <a:xfrm>
            <a:off x="754200" y="380880"/>
            <a:ext cx="7704000" cy="441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680" y="5029200"/>
            <a:ext cx="855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India is now positioned in the left part of the map.  This is because we are looking at the earth from a different direction.  The Pacific Ocean is now in the center of the map instead of the Atlantic Ocea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the map above, in which direction would you travel using the shortest distance from India to your ho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552760" y="226044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371600" y="2666880"/>
            <a:ext cx="9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733920" y="4343400"/>
            <a:ext cx="22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NTARC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162920" y="2819520"/>
            <a:ext cx="10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867280" y="1600200"/>
            <a:ext cx="122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819520" y="190512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4600" y="33526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523880" y="1828800"/>
            <a:ext cx="9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33520" y="312408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TLAN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67080" y="53352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RC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438280" y="3048120"/>
            <a:ext cx="12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DIAN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800600" y="1981080"/>
            <a:ext cx="9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ACIFI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162920" y="182880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TLAN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"/>
          <p:cNvPicPr/>
          <p:nvPr/>
        </p:nvPicPr>
        <p:blipFill>
          <a:blip r:embed="rId1"/>
          <a:srcRect l="2640" t="3858" r="28907" b="0"/>
          <a:stretch/>
        </p:blipFill>
        <p:spPr>
          <a:xfrm>
            <a:off x="3672000" y="1209600"/>
            <a:ext cx="5214960" cy="54072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800" y="1922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 is circled on the map be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36480"/>
            <a:ext cx="3346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ea is to the west of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is to the northwest of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 country on the map that is northeast of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091200" y="3792600"/>
            <a:ext cx="1541520" cy="2695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24240" y="291600"/>
            <a:ext cx="2989080" cy="64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npur is highlighted on the 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city is the capital of India? (Look for the star!)  It is located in what direction from Kanpur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ity of Nagpur is located in what direction from Kanpur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straight northwest from Kanpur, what country would you rea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-7920"/>
            <a:ext cx="5987880" cy="6858000"/>
            <a:chOff x="0" y="-7920"/>
            <a:chExt cx="5987880" cy="6858000"/>
          </a:xfrm>
        </p:grpSpPr>
        <p:pic>
          <p:nvPicPr>
            <p:cNvPr id="9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7920"/>
              <a:ext cx="5987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Oval 6"/>
            <p:cNvSpPr/>
            <p:nvPr/>
          </p:nvSpPr>
          <p:spPr>
            <a:xfrm>
              <a:off x="3581280" y="2506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3157560" y="2179800"/>
              <a:ext cx="152280" cy="1522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India?”  How would you resp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ravel from India to France, in which direction would you tra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closer to India: Germany , the USA, or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5:28:47Z</dcterms:created>
  <dc:creator>Texas A&amp;M Veterinary Medicine</dc:creator>
  <dc:description/>
  <dc:language>en-US</dc:language>
  <cp:lastModifiedBy>Hannah</cp:lastModifiedBy>
  <dcterms:modified xsi:type="dcterms:W3CDTF">2009-03-08T19:03:34Z</dcterms:modified>
  <cp:revision>39</cp:revision>
  <dc:subject/>
  <dc:title>Slide 1</dc:title>
</cp:coreProperties>
</file>