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D261-4F6E-4B0F-8A8D-B379B33F3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1AF6-1729-4714-B80D-57A053E5A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9202-BDD4-4AE0-A75F-EC9778D95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562C-8066-4EB2-A452-44AE68FD1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136D-9794-4685-901D-36792E4A7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6D9D-A564-4611-9868-3C62E75FF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7B37-4A75-46E9-81A3-55D89810E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C05E-E5CB-47D9-AA37-4277D16A7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97FE-1E4D-4667-89C4-F705994D3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FE86-789E-4C63-B0FD-79BA3168D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776C-8B9D-44D2-8E22-627F49095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481E-7F9F-46B8-AA11-7BDC4E27D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829E-6C20-45EB-A352-A1CDB8800E5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7F32-F947-4E7B-8F72-04362E5D07F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0F18-CD0C-46E2-9A71-49EA4931075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DCCA-D972-441F-8075-6CFA41D185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5659-587E-4244-9848-7C979DE4F34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D1C2-1EF4-41A8-ACC1-2B1E5F0D9E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94A0-E3E1-4687-BC1E-D648CEC23E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D127-58C0-4F8A-AF1C-0A0B492D83E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89F7-CC9A-411A-BAA8-3462A9FEC43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Texas A&amp;M Veterinary Medicine</cp:lastModifiedBy>
  <cp:lastPrinted>2001-01-16T19:55:21Z</cp:lastPrinted>
  <dcterms:modified xsi:type="dcterms:W3CDTF">2004-10-28T16:04:20Z</dcterms:modified>
  <cp:revision>240</cp:revision>
  <dc:subject/>
  <dc:title>VTPP 423 - PHYSIOLOGY</dc:title>
</cp:coreProperties>
</file>