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FAB9A-897A-4095-B264-AD7E6E6A10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5CB2E-2EAD-4A5A-A7BC-987272119E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B8193-29A7-4D9D-954C-E40332A839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2DF66-BFC6-4D02-A8C9-A500C85B35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9BB9C-D6EB-418A-AF65-7252113E45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14934-F577-4D93-AB12-30FE0C7EB3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D95B0-ABF5-4CFC-8C33-7B97845AF7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D883D-B0D4-4FB3-BA21-DBBBD8CF93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670A0-5F88-4290-86D8-43B6AC03B6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F90E2-2453-47A8-AB6E-7247F75518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AA17F-C48D-4F95-A960-662A50FD93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3A843-331F-489D-A48C-9AC283CDE3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D2721-5D9C-40B9-9BBE-660C8E8E581A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6858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5/100  = 0.25  = a quarte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percentage of a dollar is a dime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en cents = 0.10 = 0.10 x 100 = 10%  of one dolla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1E95D-F3DA-4D74-B950-83C30402353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Example: What coins would you use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to represent 17% of a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7/100 = 0.17 = 0.10 + 0.05 + 0.02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a dime, nickel, and 2 pennies!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e how you can always CA$H in on percentage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835D4-BC7B-4CA9-9D88-84F037E94062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41Z</dcterms:modified>
  <cp:revision>211</cp:revision>
  <dc:subject/>
  <dc:title>VTPP 423 - PHYSIOLOGY</dc:title>
</cp:coreProperties>
</file>