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65E6-0019-42C6-B606-7DB0B37A3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D96D-ABE1-41F3-8B65-FB9AF1D53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2B25-6B28-4A64-9FCD-BF02D9DB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5564-5272-421C-AF4D-FE4C6BDD3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8395-3FCA-4A5B-BB4D-08E00B2EE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402B-2BEB-40F1-B427-D51377E4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D854-1377-46DF-B415-3F783817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34B5-09B0-42C0-B2F1-A3B3EF42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5239-17CC-44A8-96EA-90303846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3880-7885-42EB-AB40-90D12875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85D1-BB2B-467B-981D-F801A73B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B018-8308-4C8E-B41D-89D92637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A1B2-A33F-4357-8D33-FDBAA38B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EA11-8A25-42EF-8A08-ECC0B1068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7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na was put in jail for a while but was never convicted of a crime. Why was she not convict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had a good attorney who defended her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jurors could be found to serve at the tria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everyone was sic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jury ruled that Rufus, the fisherman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itted the cr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victim’s body was decomposed and s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ld not be ident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22200" y="5237280"/>
            <a:ext cx="365400" cy="474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90520" y="3281400"/>
            <a:ext cx="365400" cy="474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204920" y="4260960"/>
            <a:ext cx="365040" cy="474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177920" y="2597040"/>
            <a:ext cx="365040" cy="4748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7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 The memory of which of the things listed below caused Miss Annie’s face to become young agai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 chi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 m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ast l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d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31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181160" y="4780080"/>
            <a:ext cx="365040" cy="474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179360" y="3564000"/>
            <a:ext cx="365400" cy="4744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185840" y="4162320"/>
            <a:ext cx="365040" cy="474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179360" y="2965320"/>
            <a:ext cx="365400" cy="4748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178160" y="5067360"/>
            <a:ext cx="962280" cy="504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3225960" y="2857680"/>
            <a:ext cx="279072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 and her friend Connie are in Galveston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a school field tri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they live the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ting K.T.’s grandmother for spring brea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they are traveling to South Texas an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is on the way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81160" y="401328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179360" y="2822400"/>
            <a:ext cx="365400" cy="474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181160" y="342108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1184400" y="2228760"/>
            <a:ext cx="365040" cy="4748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characters listed below, which one is still living at the time that K.T. and Connie find the treasure box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l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fus, the fisher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hn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na Ruth Dod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74680" y="4761000"/>
            <a:ext cx="365040" cy="474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179360" y="2960640"/>
            <a:ext cx="365400" cy="474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177920" y="3564000"/>
            <a:ext cx="365040" cy="474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176480" y="4160880"/>
            <a:ext cx="365040" cy="4744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is not a source of information for K.T. and Connie as the story proceed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ntents of the treasure b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zy Annie’s di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’s grandm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spaper articles from 191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77920" y="4756320"/>
            <a:ext cx="365040" cy="47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176480" y="356544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1177920" y="415764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1174680" y="2962440"/>
            <a:ext cx="365040" cy="4744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best describes the fate of Arlis in the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dies many years after the meeting on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er with An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still lives in a nursing home in Galvest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is killed in WWI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slips off the pier and drow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31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179360" y="4756320"/>
            <a:ext cx="365400" cy="475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177920" y="355752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177920" y="415764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1171440" y="2679840"/>
            <a:ext cx="365400" cy="4744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1587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nversation K.T. and Connie overhear between Arlis and Anna leads them to believe which of the following about Johnny Schmid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hnny never made it to the battlefie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lis respected Johnny and thought he was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na loved John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hnny was an officer from a wealth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lveston fami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181160" y="524520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179360" y="3645000"/>
            <a:ext cx="365400" cy="476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181160" y="455436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184400" y="2965320"/>
            <a:ext cx="365040" cy="474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587600"/>
            <a:ext cx="788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202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id Connie and K.T. arrive in a location that allowed them to overhear the conversation on the pi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02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swam from Mrs. Watson’s hou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02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ordinates for the East Pier in 1918 we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tered into their backpack computers (BPC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02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borrowed a small boat and float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der the pi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02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crept onto the pier and hid behind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pile of fish net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185840" y="562608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177920" y="364500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185840" y="463392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1184400" y="2962440"/>
            <a:ext cx="365040" cy="474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158760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id the treasure box come to be buried close to the East Pier where it was found by K.T. and Conni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lis buried it there after he stole the box from Ann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hnny and Anna buried the box together befor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hnny left for the w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na hid the box from her parents by burying it i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and by the East Pi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rs. Watson buried the box in a place she knew K.T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Connie might look so that they would hav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thing interesting to fin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184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184400" y="521496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182600" y="354816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1184400" y="440532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1182600" y="2928960"/>
            <a:ext cx="365040" cy="4744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was NOT found in the treasure box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litary med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ld newspaper clipp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k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31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179360" y="4402080"/>
            <a:ext cx="365400" cy="47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177920" y="321300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1179360" y="3797280"/>
            <a:ext cx="365400" cy="476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1177920" y="2630520"/>
            <a:ext cx="365040" cy="4744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Texas A&amp;M Veterinary Medicine</cp:lastModifiedBy>
  <dcterms:modified xsi:type="dcterms:W3CDTF">2007-09-04T20:02:13Z</dcterms:modified>
  <cp:revision>79</cp:revision>
  <dc:subject/>
  <dc:title>PowerPoint Presentation</dc:title>
</cp:coreProperties>
</file>