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FABD-6F4C-4311-86EB-1DCB6A45C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809B-B487-419C-ABB0-E4A62984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7695-E2F2-41D6-9AE9-D2E3275A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F056-6E8D-4062-9EF2-3C5B0E29D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5A2C-094D-47F3-A82A-0980FEDF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7240-F790-4518-95AD-B8A3CA22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8D84-4E08-4018-98CA-336CC695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5C25-87FC-499D-892B-C6F26347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B18F-DEE7-4340-A904-80D43621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75D7-BE06-406E-9755-6DE9BE19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B2B1-CE5D-4216-B46E-FED201DE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6E67-08F7-402D-A1BB-B2F3C9ED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B78F-D85D-4024-8833-DE17251B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8817-0273-4D13-A93A-DE87AFC33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7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a was put in jail for a while but was never convicted of a crime. Why was she not convic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had a good attorney who defended her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jurors could be found to serve at the tria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everyone was si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jury ruled that Rufus, the fisherman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itted the cr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victim’s body was decomposed and s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ld not be ident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22200" y="5237280"/>
            <a:ext cx="365400" cy="474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90520" y="3281400"/>
            <a:ext cx="365400" cy="474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204920" y="426096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77920" y="2597040"/>
            <a:ext cx="365040" cy="474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7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The memory of which of the things listed below caused Miss Annie’s face to become young agai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chi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ast l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31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181160" y="478008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179360" y="3564000"/>
            <a:ext cx="365400" cy="474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185840" y="4162320"/>
            <a:ext cx="365040" cy="474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179360" y="2965320"/>
            <a:ext cx="365400" cy="4748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178160" y="5067360"/>
            <a:ext cx="962280" cy="504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225960" y="2857680"/>
            <a:ext cx="27907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 and her friend Connie are in Galveston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a school field tri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y live the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ting K.T.’s grandmother for spring brea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y are traveling to South Texas 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on the way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81160" y="401328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179360" y="2822400"/>
            <a:ext cx="365400" cy="474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181160" y="342108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184400" y="2228760"/>
            <a:ext cx="365040" cy="4748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characters listed below, which one is still living at the time that K.T. and Connie find the treasure box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l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fus, the fisher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a Ruth Dod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74680" y="476100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179360" y="2960640"/>
            <a:ext cx="365400" cy="474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177920" y="356400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176480" y="416088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not a source of information for K.T. and Connie as the story proceed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tents of the treasure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zy Annie’s di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’s 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spaper articles from 19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77920" y="4756320"/>
            <a:ext cx="365040" cy="47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176480" y="356544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177920" y="415764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174680" y="296244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best describes the fate of Arli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dies many years after the meeting o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er with An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still lives in a nursing home in Galvest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is killed in WWI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slips off the pier and drow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31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79360" y="4756320"/>
            <a:ext cx="365400" cy="475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77920" y="355752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77920" y="415764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71440" y="2679840"/>
            <a:ext cx="365400" cy="474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587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versation K.T. and Connie overhear between Arlis and Anna leads them to believe which of the following about Johnny Schmid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ny never made it to the battlefie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lis respected Johnny and thought he was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a loved John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ny was an officer from a wealth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lveston fami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181160" y="524520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179360" y="3645000"/>
            <a:ext cx="365400" cy="476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181160" y="455436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184400" y="2965320"/>
            <a:ext cx="365040" cy="474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58760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Connie and K.T. arrive in a location that allowed them to overhear the conversation on the pi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swam from Mrs. Watson’s hou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ordinates for the East Pier in 1918 w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ered into their backpack computers (BPC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borrowed a small boat and float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 the pi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crept onto the pier and hid behind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pile of fish net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85840" y="562608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177920" y="364500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185840" y="463392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1184400" y="296244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58760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the treasure box come to be buried close to the East Pier where it was found by K.T. and Conni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lis buried it there after he stole the box from Ann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hnny and Anna buried the box together befor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hnny left for the w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na hid the box from her parents by burying it i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nd by the East Pi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s. Watson buried the box in a place she knew K.T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Connie might look so that they would hav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thing interesting to fi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184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84400" y="521496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182600" y="354816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184400" y="440532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1182600" y="292896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was NOT found in the treasure box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litary med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ld newspaper clipp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k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31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79360" y="4402080"/>
            <a:ext cx="365400" cy="47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177920" y="321300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179360" y="3797280"/>
            <a:ext cx="365400" cy="476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177920" y="263052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09-04T20:02:13Z</dcterms:modified>
  <cp:revision>79</cp:revision>
  <dc:subject/>
  <dc:title>PowerPoint Presentation</dc:title>
</cp:coreProperties>
</file>