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2CB3-146E-4CC2-AE97-8A937C3E1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4224-50DA-44E1-8975-60EADBF8D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FA26-EACF-4C3F-BC31-45851A5AC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79F6-0058-447C-B464-18B4AC999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921D-7DF0-48BB-9C65-536F2136C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3C49-DA16-4091-ADA8-FCD7BC8B7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FA17-E5CF-4E28-AD58-BB761EB4D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A51C-5860-448A-89F4-8D1C0D4B7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82D8-EA90-4DD9-883A-18EAA6724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627F-D94B-44AA-B708-6E70F349C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AA46-2FC7-415D-9D7C-0622A59B0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5664-FB4B-47BE-97A7-8CE796DBC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6054-F7A0-4BCA-880D-88E04738410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4E4E-7371-4FA7-820D-0BB0505C23C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2F35-1694-4BF9-8FC9-195A3FA8366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CEA8-FB5B-46D7-ABC5-FEBCD76F31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1E8F-60D7-434E-8B9B-98BA18EAB5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156C-CD4C-42D4-BDB1-324DFC7B79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BAB7-3A63-43D2-8AA0-7351A181F1B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5349-A688-4F32-929B-9F6F3A8523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E3C2-F215-4BEB-AAE1-FC1A4D0C46A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Texas A&amp;M Veterinary Medicine</cp:lastModifiedBy>
  <cp:lastPrinted>2001-01-16T19:55:21Z</cp:lastPrinted>
  <dcterms:modified xsi:type="dcterms:W3CDTF">2004-10-28T16:04:20Z</dcterms:modified>
  <cp:revision>240</cp:revision>
  <dc:subject/>
  <dc:title>VTPP 423 - PHYSIOLOGY</dc:title>
</cp:coreProperties>
</file>