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– 6.2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2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B3798-DCC7-43DF-925C-B8BB2191A5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61682-F5C2-419C-9640-529ACBBEE4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38909-E9F2-4F08-8514-63BD5EDD70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BB84C-DD71-41F0-B4D5-569F18C899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52603-B3D6-4C7A-BF0E-0271C0CAAC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319D9-2BD9-43C7-838E-4C4BE99AAB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A007D-C6F2-4657-A561-10DDBD84F6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F57CF-72EA-4D31-8C85-31E75B2A6A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600AE-C9F7-4015-A8F0-7DB6C105C7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93B2B-9110-4DF3-8594-0EBAB94D39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D04B6-896B-404E-ABBB-B18883CECA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723A5-B63B-411F-980D-A1E49B2351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5BC1D-0A81-4E4C-9DD2-D52CF9C4C74E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Time Measurem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 hour (h) = 60 minutes (min)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 minute = 60 seconds (s)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Example: Add the following times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 h 30 min 59 s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 u="sng">
                <a:solidFill>
                  <a:srgbClr val="ebebeb"/>
                </a:solidFill>
                <a:uFillTx/>
                <a:latin typeface="Times New Roman"/>
              </a:rPr>
              <a:t>	</a:t>
            </a:r>
            <a:r>
              <a:rPr b="0" lang="en-US" sz="3300" spc="-1" strike="noStrike" u="sng">
                <a:solidFill>
                  <a:srgbClr val="ebebeb"/>
                </a:solidFill>
                <a:uFillTx/>
                <a:latin typeface="Times New Roman"/>
              </a:rPr>
              <a:t>+ 1 h 29 min   1 s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2 h 59 min 60 s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3 hours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343400" y="5105520"/>
            <a:ext cx="15238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C1A5C-1710-48CF-99DB-B3BBA18CF3C3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Time Measurem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xample: Subtract the following times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h 37 min   8 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h 36 min 68 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- 2 h 29 min 52 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- 2 h 29 min 52 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7 min 16 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te: Since you cannot subtract 52 s from 8 s, you must restate 37 min 8 s as 36 min 68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733920" y="2819520"/>
            <a:ext cx="12952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A246C-6088-42A1-9ECD-67CD71A3E42A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20:29Z</dcterms:modified>
  <cp:revision>208</cp:revision>
  <dc:subject/>
  <dc:title>VTPP 423 - PHYSIOLOGY</dc:title>
</cp:coreProperties>
</file>