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1AF9-9366-43D8-9286-D0F1DB300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055C-7A0C-4C51-81E3-AFF2C4D34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5805-1A46-4363-BEBC-108EE13FB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D712-4384-4623-AD46-B8E8303DB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97C7-36F0-42A6-96B7-45C0FF6AB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7E49-0B7E-4E3E-888D-FA29E344A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9693-556C-4126-B5C0-C2DFBE154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8340-C380-4AED-8B12-FEFCA88F0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205F-EC98-42F4-A46E-C3BD5D835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95FA-02F4-4EE5-8681-3CFD61EAF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0228-A1F2-4C3C-BF40-D953AEBF1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E5FF-A516-4A37-8904-45B581CFF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0529-9269-4EF8-BD56-92A97137E7B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2FE6-60AF-4703-A5D1-54238DCA279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22338-A8DF-47E5-8CEE-6207DC98955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FF8E-95FA-4C41-B33E-56229758364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49BC-8313-4673-AD85-E94B9A8C048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FA05-6DB6-4F72-AD76-FEAD56A3F0E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CFF5-1A2D-4589-A558-BDEBF24BF8E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7083-2AEA-442E-BE14-725FD793A47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C869-3C78-43DD-82D2-F35D5D71B2B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Texas A&amp;M Veterinary Medicine</cp:lastModifiedBy>
  <cp:lastPrinted>2001-01-16T19:55:21Z</cp:lastPrinted>
  <dcterms:modified xsi:type="dcterms:W3CDTF">2004-10-28T16:04:20Z</dcterms:modified>
  <cp:revision>240</cp:revision>
  <dc:subject/>
  <dc:title>VTPP 423 - PHYSIOLOGY</dc:title>
</cp:coreProperties>
</file>