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38224-9205-46D7-A608-2E47BD00D2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A9D1-B180-487A-BECA-E8B590F70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B290-B780-4F09-9D7B-C61CB0EF4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92AF-A70E-4BB9-A93F-7E2457426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33B2-A58A-4F48-B780-71D1517FE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4F65-CD0F-49EE-88B1-47DF62A54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5F37-E1F6-452C-9800-D9286A056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158F-1030-44D7-89A0-3BBBB9634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D014-2337-4354-9CBE-6566AB408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4962-CB15-4223-9C84-2A81FCE93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1256-D0A9-4C27-A91B-943BF0995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8DBE-E4BA-4C71-8EAE-A46FC1C3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1BB8-C54D-46C2-B292-CBDF4AC62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921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9566D-2924-4F33-825A-D3B0A41271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77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25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na was put in jail for a while but was never convicted of a crime. Why was she not convict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e had a good attorney who defended her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jurors could be found to serve at the trial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cause everyone was sic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jury ruled that Rufus, the fisherman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itted the cr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victim’s body was decomposed and s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ld not be identif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22200" y="5237280"/>
            <a:ext cx="365400" cy="4744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190520" y="3281400"/>
            <a:ext cx="365400" cy="4744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204920" y="4260960"/>
            <a:ext cx="365040" cy="4744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1177920" y="2597040"/>
            <a:ext cx="365040" cy="4748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6"/>
          <a:stretch/>
        </p:blipFill>
        <p:spPr>
          <a:xfrm>
            <a:off x="7754760" y="6102360"/>
            <a:ext cx="12081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77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 The memory of which of the things listed below caused Miss Annie’s face to become young agai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r chi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r mo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past lo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d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31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181160" y="4780080"/>
            <a:ext cx="365040" cy="4744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179360" y="3564000"/>
            <a:ext cx="365400" cy="4744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185840" y="4162320"/>
            <a:ext cx="365040" cy="4748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179360" y="2965320"/>
            <a:ext cx="365400" cy="47484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7754760" y="6102360"/>
            <a:ext cx="12081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178160" y="5067360"/>
            <a:ext cx="962280" cy="5047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3225960" y="2857680"/>
            <a:ext cx="279072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7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.T. and her friend Connie are in Galveston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 a school field trip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cause they live the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siting K.T.’s grandmother for spring brea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cause they are traveling to South Texas an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is on the way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181160" y="401328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179360" y="2822400"/>
            <a:ext cx="365400" cy="474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1181160" y="342108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1184400" y="2228760"/>
            <a:ext cx="365040" cy="4748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7754760" y="6102360"/>
            <a:ext cx="12081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the characters listed below, which one is still living at the time that K.T. and Connie find the treasure box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l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ufus, the fisherm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hnn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na Ruth Dod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7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174680" y="4761000"/>
            <a:ext cx="365040" cy="4744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179360" y="2960640"/>
            <a:ext cx="365400" cy="4748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1177920" y="3564000"/>
            <a:ext cx="365040" cy="4744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1176480" y="4160880"/>
            <a:ext cx="365040" cy="4744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7754760" y="6102360"/>
            <a:ext cx="12081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7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f the following is not a source of information for K.T. and Connie as the story proceed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ontents of the treasure bo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azy Annie’s di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.T.’s grandmo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spaper articles from 191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177920" y="4756320"/>
            <a:ext cx="365040" cy="475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1176480" y="356544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1177920" y="415764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1174680" y="2962440"/>
            <a:ext cx="365040" cy="47448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7754760" y="6102360"/>
            <a:ext cx="12081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7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f the following best describes the fate of Arlis in the stor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dies many years after the meeting on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ier with An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still lives in a nursing home in Galvest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is killed in WWI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slips off the pier and drow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31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179360" y="4756320"/>
            <a:ext cx="365400" cy="4759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1177920" y="355752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1177920" y="415764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1171440" y="2679840"/>
            <a:ext cx="365400" cy="4744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7754760" y="6102360"/>
            <a:ext cx="12081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7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85800" y="1587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25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onversation K.T. and Connie overhear between Arlis and Anna leads them to believe which of the following about Johnny Schmid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hnny never made it to the battlefiel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lis respected Johnny and thought he was a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r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na loved Johnn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hnny was an officer from a wealth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lveston fami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181160" y="524520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1179360" y="3645000"/>
            <a:ext cx="365400" cy="476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1181160" y="455436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1184400" y="2965320"/>
            <a:ext cx="365040" cy="4748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7754760" y="6102360"/>
            <a:ext cx="12081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7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1587600"/>
            <a:ext cx="7886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202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did Connie and K.T. arrive in a location that allowed them to overhear the conversation on the pier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02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swam from Mrs. Watson’s hou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02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ordinates for the East Pier in 1918 wer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tered into their backpack computers (BPC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02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borrowed a small boat and floate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der the pi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02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crept onto the pier and hid behind a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rge pile of fish nett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185840" y="562608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177920" y="364500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1185840" y="463392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1184400" y="2962440"/>
            <a:ext cx="365040" cy="4744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6"/>
          <a:stretch/>
        </p:blipFill>
        <p:spPr>
          <a:xfrm>
            <a:off x="7754760" y="6102360"/>
            <a:ext cx="1208160" cy="5587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7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158760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did the treasure box come to be buried close to the East Pier where it was found by K.T. and Conni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rlis buried it there after he stole the box from Ann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ohnny and Anna buried the box together befor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ohnny left for the w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na hid the box from her parents by burying it in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and by the East Pi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rs. Watson buried the box in a place she knew K.T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Connie might look so that they would hav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thing interesting to fin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184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184400" y="521496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1182600" y="354816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1184400" y="440532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1182600" y="2928960"/>
            <a:ext cx="365040" cy="4744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7754760" y="6102360"/>
            <a:ext cx="12081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7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f the following was NOT found in the treasure box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military med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ld newspaper clipp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k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31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179360" y="4402080"/>
            <a:ext cx="365400" cy="476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1177920" y="321300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1179360" y="3797280"/>
            <a:ext cx="365400" cy="476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1177920" y="2630520"/>
            <a:ext cx="365040" cy="4744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7754760" y="6102360"/>
            <a:ext cx="12081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Texas A&amp;M Veterinary Medicine</cp:lastModifiedBy>
  <dcterms:modified xsi:type="dcterms:W3CDTF">2007-09-04T20:02:13Z</dcterms:modified>
  <cp:revision>79</cp:revision>
  <dc:subject/>
  <dc:title>PowerPoint Presentation</dc:title>
</cp:coreProperties>
</file>