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(C) Describe Relationship Between Radius, Diameter, Circumfer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1663E1-EFB5-4CD8-9B4A-E9225F5322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D64189-EA24-46F6-8660-7A29986814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5811AF-EFD4-4D8A-AC1D-0E6A058851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BD7915-103B-479D-83FE-74C1260C5C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3D520D-47B0-46B2-8DC5-BC46CF5A87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AA31C7-7792-48F8-B94E-CF8699F4D0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B67E49-487C-471C-8A34-E825D0A985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3A7DF3-CB79-474A-918F-084B22DF20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5AFB7E-55AF-42A0-8DE4-31DEC4B631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AB7DED-947F-46A5-A5B5-D01C788C5F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D8E03C-DA76-4E87-A8EB-39FCF3C1A7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FAB921-288B-43A6-B596-FA62F8BB0F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50175-045F-4FBC-A520-B81112B83682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685800" y="990360"/>
            <a:ext cx="77709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circumference (C) of a circle is the distance around a circle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 = 2 </a:t>
            </a:r>
            <a:r>
              <a:rPr b="0" lang="en-US" sz="3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r                           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 = </a:t>
            </a:r>
            <a:r>
              <a:rPr b="0" lang="en-US" sz="3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r = radiu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 = diamete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 = r + r = 2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Symbol"/>
                <a:ea typeface="Symbol"/>
              </a:rPr>
              <a:t>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ircumferenc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410080" y="3124080"/>
            <a:ext cx="0" cy="2210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409720" y="419112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4114800" y="2666880"/>
            <a:ext cx="4194000" cy="27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1CEA66-7CF8-44E9-AE55-762A9D8A168F}" type="slidenum">
              <a:t>1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6:50Z</dcterms:modified>
  <cp:revision>208</cp:revision>
  <dc:subject/>
  <dc:title>VTPP 423 - PHYSIOLOGY</dc:title>
</cp:coreProperties>
</file>