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0F57-9DBD-48FA-BE0B-52F445F3A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8E689-0215-479A-8108-4BA921D0E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E581A-6CB7-4962-B377-A68DB2FB3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0923-6050-4A8E-AFD3-A212784D1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31703-9D45-402F-90E6-985D399480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85E1F-C7DE-492C-BB63-B93240B75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2ACA6-28BE-47C2-8D35-64729DE62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3E38-36AB-4FE4-81E1-5293AD2C5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28CEE-2155-4EF6-A899-E3CDED08A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284D-A142-4F29-8145-6E85821C0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0020D-5083-4CCE-92E9-F4B96ADED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48AF0-048F-4B0C-ABC9-E38AE217E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69C4-2B54-4582-96CA-4B6BEF964A2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992D4-906C-4444-B6A6-5E190935DE8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3688-B193-41F1-96E4-9682175F226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AF91-9907-43BA-938F-2C404B11720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40998-2451-43CB-A8B9-90A5F22AAED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A3DAE-9A38-4775-9771-4E98E089CAB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21D1-1C65-465F-9ADB-EE63E6F0EC5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6D3A4-C908-43FB-8567-A4217A726BA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D5A11-6F9F-4F21-9D62-65D36D5D9877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Texas A&amp;M Veterinary Medicine</cp:lastModifiedBy>
  <cp:lastPrinted>2001-01-16T19:55:21Z</cp:lastPrinted>
  <dcterms:modified xsi:type="dcterms:W3CDTF">2004-10-28T16:04:20Z</dcterms:modified>
  <cp:revision>240</cp:revision>
  <dc:subject/>
  <dc:title>VTPP 423 - PHYSIOLOGY</dc:title>
</cp:coreProperties>
</file>