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948B-A3C5-4FA0-9390-3F9DA45B0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B1D4-FF0A-40CB-8E0B-50B15011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4F1C-92E9-4F93-A713-C8EA80A2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9522-9D6C-45B9-BFE9-FF19F40F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9434-134A-4DAF-AB5C-B3134640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A088-4016-4238-9757-9FC9AC3C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AE36-0266-42BB-A808-7A385EBD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0AA6-8659-4C11-99C4-22ED5079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91CF-E384-447A-8B42-2515C7EF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53D0-6BF6-4D71-AEB0-A71812A2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5199-082F-4E47-9C84-0A91DBD7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4E49-9FBB-4F61-B215-7D0DA4FE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D389-F62D-4061-B00D-BCE39BFF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482B-0B0D-47C0-966B-6A87EA7C3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was put in jail for a while but was never convicted of a crime. Why was she not convic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had a good attorney who defended her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jurors could be found to serve at the tri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everyone was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jury ruled that Rufus, the fisherman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itted the cr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ictim’s body was decomposed and s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not be ident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22200" y="523728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90520" y="328140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204920" y="426096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77920" y="259704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The memory of which of the things listed below caused Miss Annie’s face to become young agai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chi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ast l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81160" y="478008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179360" y="356400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185840" y="4162320"/>
            <a:ext cx="365040" cy="474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79360" y="2965320"/>
            <a:ext cx="365400" cy="4748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178160" y="5067360"/>
            <a:ext cx="962280" cy="504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225960" y="2857680"/>
            <a:ext cx="27907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 and her friend Connie are in Galvesto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a school field tr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y live t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ing K.T.’s grandmother for spring brea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y are traveling to South Texas 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on the way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81160" y="40132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179360" y="2822400"/>
            <a:ext cx="365400" cy="474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181160" y="34210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184400" y="222876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characters listed below, which one is still living at the time that K.T. and Connie find the treasure box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l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fus, the fisher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Ruth Dod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74680" y="476100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79360" y="2960640"/>
            <a:ext cx="365400" cy="474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177920" y="356400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176480" y="416088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not a source of information for K.T. and Connie as the story proceed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tents of the treasure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zy Annie’s di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’s 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spaper articles from 19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77920" y="4756320"/>
            <a:ext cx="365040" cy="47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176480" y="35654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177920" y="41576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174680" y="296244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the fate of Arli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es many years after the meeting o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er with An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till lives in a nursing home in Galvest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is killed in WW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lips off the pier and drow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79360" y="4756320"/>
            <a:ext cx="365400" cy="47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77920" y="35575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77920" y="41576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71440" y="2679840"/>
            <a:ext cx="365400" cy="474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versation K.T. and Connie overhear between Arlis and Anna leads them to believe which of the following about Johnny Schmid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 never made it to the battlefie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lis respected Johnny and thought he was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loved John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 was an officer from a wealth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lveston fami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81160" y="52452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179360" y="364500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81160" y="45543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184400" y="296532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Connie and K.T. arrive in a location that allowed them to overhear the conversation on the pi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swam from Mrs. Watson’s hou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rdinates for the East Pier in 1918 w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ered into their backpack computers (BP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borrowed a small boat and floa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 the pi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rept onto the pier and hid behind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pile of fish net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85840" y="56260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177920" y="36450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185840" y="46339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1184400" y="296244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the treasure box come to be buried close to the East Pier where it was found by K.T. and Conni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lis buried it there after he stole the box from An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ny and Anna buried the box together befo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ny left for the w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na hid the box from her parents by burying it i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nd by the East Pi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s. Watson buried the box in a place she knew K.T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Connie might look so that they would hav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hing interesting to f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18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84400" y="52149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182600" y="35481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184400" y="44053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182600" y="292896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was NOT found in the treasure box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litary med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ld newspaper clipp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79360" y="440208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177920" y="32130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79360" y="379728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177920" y="263052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09-04T20:02:13Z</dcterms:modified>
  <cp:revision>79</cp:revision>
  <dc:subject/>
  <dc:title>PowerPoint Presentation</dc:title>
</cp:coreProperties>
</file>