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A849-11DD-4A9D-ACC1-E0522D973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8DD-35BB-4868-8F66-74BB35A3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1B7-4E06-4AD4-9CB8-50964C20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403-0271-4CDE-9627-81DCDB0B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C85-3083-4C19-BCA1-28862252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DC5-CE57-4469-8728-5FBFEA02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BC5-624D-43F3-8844-E2C1A2A7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C5D-B254-495D-BA1B-80F58600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4E8-6B60-4E58-ADF8-B73B77FA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317-E0F7-4BE9-9E78-99771293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FDE-903A-454D-A97B-8924330E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B32-3534-4D96-865A-9D9AD8C1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498-EABE-4994-AAB3-7F570765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A9E5-184B-42F5-B011-14F19B63D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was put in jail for a while but was never convicted of a crime. Why was she not convic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had a good attorney who defended her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jurors could be found to serve at the tr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everyone wa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jury ruled that Rufus, the fisherman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itted the cr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ctim’s body was decomposed and s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not be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22200" y="523728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90520" y="32814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04920" y="426096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77920" y="259704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he memory of which of the things listed below caused Miss Annie’s face to become young agai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ast 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1160" y="478008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179360" y="3564000"/>
            <a:ext cx="365400" cy="47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185840" y="4162320"/>
            <a:ext cx="365040" cy="474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79360" y="2965320"/>
            <a:ext cx="3654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178160" y="5067360"/>
            <a:ext cx="962280" cy="504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22596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 and her friend Connie are in Galvest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a school field tr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live the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ing K.T.’s grandmother for spring bre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y are traveling to South Texas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n the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81160" y="40132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179360" y="282240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181160" y="3421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4400" y="222876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characters listed below, which one is still living at the time that K.T. and Connie find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fus, the fisher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Ruth Dod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74680" y="4761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179360" y="2960640"/>
            <a:ext cx="365400" cy="474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177920" y="356400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6480" y="416088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not a source of information for K.T. and Connie as the story proceed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of the treasure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zy Annie’s di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’s 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spaper articles from 19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77920" y="4756320"/>
            <a:ext cx="365040" cy="47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6480" y="35654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174680" y="296244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fate of Arli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es many years after the meeting o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er with An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till lives in a nursing home in Galves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killed in WW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lips off the pier and drow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79360" y="4756320"/>
            <a:ext cx="365400" cy="475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77920" y="35575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77920" y="415764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71440" y="2679840"/>
            <a:ext cx="365400" cy="47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versation K.T. and Connie overhear between Arlis and Anna leads them to believe which of the following about Johnny Schmid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never made it to the battlefie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lis respected Johnny and thought he was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a loved John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56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hnny was an officer from a wealth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lveston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81160" y="52452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79360" y="364500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81160" y="45543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184400" y="2965320"/>
            <a:ext cx="365040" cy="474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Connie and K.T. arrive in a location that allowed them to overhear the conversation on the pi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swam from Mrs. Watson’s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rdinates for the East Pier in 1918 w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ed into their backpack computers (BP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borrowed a small boat and floa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 the p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02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rept onto the pier and hid behind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pile of fish ne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85840" y="562608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77920" y="3645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5840" y="46339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184400" y="2962440"/>
            <a:ext cx="365040" cy="47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the treasure box come to be buried close to the East Pier where it was found by K.T. and Conn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lis buried it there after he stole the box from An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and Anna buried the box together befo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hnny left for the w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na hid the box from her parents by burying it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nd by the East Pi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s. Watson buried the box in a place she knew K.T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nnie might look so that they would hav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thing interesting to f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18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84400" y="52149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2600" y="354816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184400" y="440532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2600" y="292896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Verdana"/>
              </a:rPr>
              <a:t>MM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was NOT found in the treasure bo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litary med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ld newspaper clipp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31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79360" y="44020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77920" y="3213000"/>
            <a:ext cx="365040" cy="476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179360" y="3797280"/>
            <a:ext cx="365400" cy="476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77920" y="2630520"/>
            <a:ext cx="365040" cy="474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754760" y="6102360"/>
            <a:ext cx="12081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09-04T20:02:13Z</dcterms:modified>
  <cp:revision>79</cp:revision>
  <dc:subject/>
  <dc:title>PowerPoint Presentation</dc:title>
</cp:coreProperties>
</file>