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C) Solve Ratios/Rates using Multiplication/Division of Whole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C) Solve Ratios/Rates using Multiplication/Division of Whole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16250A-29C4-4EFA-927E-805B8622CA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45115E-EF52-4F0D-A60A-39DD75B76A2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18C003-6ED9-478E-9EAA-BE58D882648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956DFC-C934-45E6-8BEA-0923158C2FC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0799BF-F913-4768-AA36-8152DF13227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4A50C0-A503-4985-8C4E-6770B6EBB3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7F3111-B2A0-4707-B444-34DAFCB78C6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44D357-1F15-4140-BC0A-8C9180A64D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98A58E-CDD2-4A77-9322-C49C926B7D8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235319-8AAD-45A6-8E5B-A75C6500CE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7DF92C-CC89-488F-BA95-999CC784245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5889E3-DED8-4719-903D-6A4C4F4E25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F11F9-F2EE-4645-9EC9-C46D8FB7EC05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09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ercentage Per$pective!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3520" y="68580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What else has a whole = 100?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How about 100 pennies in one dollar?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Example: What is 25% of one dollar?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25/100  = 0.25  = a quarter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Example: What percentage of a dollar is a dime?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en cents = 0.10 = 0.10 x 100 = 10%  of one dollar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6248520" y="914400"/>
            <a:ext cx="2422440" cy="1839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A0B20D-70B6-4C24-9DC8-E4331F032218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09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ercentage Per$pective!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6840" y="685800"/>
            <a:ext cx="853452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Example: What coins would you use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to represent 17% of a dollar?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17/100 = 0.17 = 0.10 + 0.05 + 0.02 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(a dime, nickel, and 2 pennies!)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e how you can always CA$H in on percentages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6248520" y="914400"/>
            <a:ext cx="2422440" cy="1839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DAD073-5AB3-45C0-8CA2-9201CAEA347B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9:41Z</dcterms:modified>
  <cp:revision>211</cp:revision>
  <dc:subject/>
  <dc:title>VTPP 423 - PHYSIOLOGY</dc:title>
</cp:coreProperties>
</file>