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F8F2-F4BA-4624-8521-2D5DD219E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332A-45E8-45F2-ABB5-85469E9E0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D5C3-BEF4-4DC7-9FC4-302A7EBF9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A877-69F4-46CA-B1EC-E83A7D405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08C8-0300-455C-BB6D-B8091459A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3DE3-3A74-43F3-A699-D74350033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DA01-E2CB-4B00-AD65-D1C7C1D4B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5DD2-140F-4184-9D90-1CAE75B56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5E5A-3CAE-478C-BE95-939589693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9BE3-1A6F-4D12-A498-826A25F92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82C1-4047-40DB-896F-DC3E6F54A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468B-AE21-429C-A9AC-9C485017A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AF20-BE67-4D36-A60C-02AE634F108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FA85-EAEB-4F55-9689-F2BB6673ADF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970D-2497-4804-9F2B-2D1CC7C428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1A9E-AD64-46D0-906C-9BA2F9DD02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A6BA5-22AF-4901-B668-348956806E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1A24-8F9B-48C3-819F-BD9DE7E9B8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6CFB-B334-4F5B-8023-E5A3A2C0B3C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55AB-E384-43E9-AB94-189FCAFADBD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B420-14CA-4A1A-9815-8DD874D30A7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Texas A&amp;M Veterinary Medicine</cp:lastModifiedBy>
  <cp:lastPrinted>2001-01-16T19:55:21Z</cp:lastPrinted>
  <dcterms:modified xsi:type="dcterms:W3CDTF">2004-10-28T16:04:20Z</dcterms:modified>
  <cp:revision>240</cp:revision>
  <dc:subject/>
  <dc:title>VTPP 423 - PHYSIOLOGY</dc:title>
</cp:coreProperties>
</file>