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D3A3-B503-438C-ADFD-8AC09080D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F35A-0035-4F39-8477-50302E449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B9B-A831-4FAA-BBF4-4E03DCB6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E451-6868-4722-975B-0A51EEA8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20D-6480-4891-BB02-CDE283A4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4AF4-A53E-40E0-B052-49AFA768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551-2137-443E-9F01-5BBE74E7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A010-0EDA-4E2C-8CD1-57B22438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825-221C-42E2-928D-AF4C73BD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6AF-2EA6-4825-A024-A0514256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F04B-2250-431A-A3FC-BAF86039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9F9C-E53D-4145-B0EE-465BDE98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E5A-6D4F-460C-93E4-F2938744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8287-98D6-491F-8889-310977B5B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was put in jail for a while but was never convicted of a crime. Why was she not convi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had a good attorney who defended her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jurors could be found to serve at the tri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everyone wa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jury ruled that Rufus, the fisherman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itted the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ctim’s body was decomposed and s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not be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22200" y="523728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90520" y="32814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04920" y="426096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77920" y="259704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The memory of which of the things listed below caused Miss Annie’s face to become young aga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ast 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1160" y="478008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179360" y="35640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185840" y="4162320"/>
            <a:ext cx="365040" cy="474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79360" y="2965320"/>
            <a:ext cx="365400" cy="474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78160" y="5067360"/>
            <a:ext cx="962280" cy="50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22596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 and her friend Connie are in Galvesto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a school field tr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live 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ing K.T.’s grandmother for spring bre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are traveling to South Texas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on the way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1160" y="40132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79360" y="282240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81160" y="3421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222876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characters listed below, which one is still living at the time that K.T. and Connie find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fus, the fisher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Ruth Dod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74680" y="4761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79360" y="296064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77920" y="3564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76480" y="416088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source of information for K.T. and Connie as the story proceed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ents of the treasure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zy Annie’s di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’s 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spaper articles from 19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77920" y="4756320"/>
            <a:ext cx="365040" cy="47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76480" y="35654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174680" y="296244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fate of Arli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es many years after the meeting o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er with An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till lives in a nursing home in Galvest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killed in WW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lips off the pier and drow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79360" y="4756320"/>
            <a:ext cx="365400" cy="47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77920" y="35575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1440" y="2679840"/>
            <a:ext cx="365400" cy="474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versation K.T. and Connie overhear between Arlis and Anna leads them to believe which of the following about Johnny Schmid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never made it to the battlefie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 respected Johnny and thought he was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loved John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was an officer from a wealth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lveston fami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1160" y="52452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79360" y="364500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81160" y="45543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184400" y="296532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Connie and K.T. arrive in a location that allowed them to overhear the conversation on the pi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swam from Mrs. Watson’s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rdinates for the East Pier in 1918 w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ed into their backpack computers (BP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borrowed a small boat and floa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 the p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rept onto the pier and hid behind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pile of fish net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85840" y="5626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177920" y="3645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185840" y="46339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184400" y="296244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the treasure box come to be buried close to the East Pier where it was found by K.T. and Conni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lis buried it there after he stole the box from An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and Anna buried the box together befo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left for the w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na hid the box from her parents by burying it 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nd by the East Pi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s. Watson buried the box in a place she knew K.T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onnie might look so that they would ha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hing interesting to f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18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84400" y="52149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182600" y="35481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184400" y="44053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182600" y="292896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was NOT found in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litary med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d newspaper clipp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79360" y="44020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177920" y="3213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79360" y="37972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77920" y="263052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09-04T20:02:13Z</dcterms:modified>
  <cp:revision>79</cp:revision>
  <dc:subject/>
  <dc:title>PowerPoint Presentation</dc:title>
</cp:coreProperties>
</file>