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28830A-8EF7-47FC-B80A-FFD0171066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82BB41-0C1C-45C4-9C00-324A282CD7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A28EB8-4D9A-451D-B719-881AA67268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7AC228-FC73-4029-82A4-10D1E2E788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7C7229-EED3-44D8-8FBC-4BEBADD969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D396E3-8EAE-4100-98F5-745C01A620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9EBD97-5BDB-4AA9-B98A-4ADC7DBDFC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51615A-CB54-4058-A381-E4DFD202C2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09EA1D-B9A9-4205-BCE5-56194276A9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6F4F9E-7C82-47A2-80C3-770AEC4F00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B0C672-14B2-4157-88E7-66D9463C0D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8EB744-EF4C-46FA-95C7-E0586EB1C3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A52A2-1B54-49D1-A7BD-DA81274E79EB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 ratio is a comparison of two numbers by division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ratio comparing 1 to 4 can be stated as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 to 4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:4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 out of 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4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814D7F-BFBA-46F6-9716-F961DB8E3A68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odel the ratio 1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4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Start by separating a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le into 4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Shade 1 par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e how 1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4 parts are shaded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*Note that the model also represents the fraction 1/4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5943600" y="914400"/>
            <a:ext cx="2664000" cy="349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BF4961-681A-4031-A355-125D5B32D207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294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odel the ratio 3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5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Start by separating a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le into 5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Shade 3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e how 3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5 parts are shaded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*Note that the model also represents the fraction 3/5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791320" y="1143000"/>
            <a:ext cx="2778120" cy="2835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BCCF22-342B-48EA-B6EF-49F103ACE4B1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7240" y="-228600"/>
            <a:ext cx="777096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762120"/>
            <a:ext cx="8534160" cy="569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ompare the ratios 4/6 and 2/3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Draw a rectangle with 6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Draw another rectangle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with 3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3. Shade 4 parts of the upper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rectangle and shade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2 parts of the lower rectangl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Since the areas shaded are the same,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ratios are equivalent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6324480" y="990720"/>
            <a:ext cx="2286000" cy="4035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60307E-8333-4158-B0D9-1AED14A2D004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7240" y="0"/>
            <a:ext cx="7770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096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nce ratios can be written as fractions,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4:6 and 2:3 are equivalent ratios </a:t>
            </a:r>
            <a:br>
              <a:rPr sz="3200"/>
            </a:b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just as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4/6 and 2/3 are equivalent fraction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x 2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÷ 2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6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6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x 2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         ÷ 2</a:t>
            </a:r>
            <a:endParaRPr b="0" lang="en-US" sz="27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528640" y="4557600"/>
            <a:ext cx="44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097320" y="4557600"/>
            <a:ext cx="44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905120" y="3809880"/>
            <a:ext cx="1603080" cy="920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" y="10579"/>
                </a:moveTo>
                <a:arcTo wR="10800" hR="10800" stAng="-10729577" swAng="10418481"/>
                <a:lnTo>
                  <a:pt x="10800" y="10800"/>
                </a:lnTo>
                <a:close/>
              </a:path>
              <a:path fill="none" w="21600" h="21600">
                <a:moveTo>
                  <a:pt x="2" y="10579"/>
                </a:moveTo>
                <a:arcTo wR="10800" hR="10800" stAng="-10729577" swAng="10418481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 flipV="1">
            <a:off x="1905120" y="4820400"/>
            <a:ext cx="1599120" cy="873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2" y="9473"/>
                </a:moveTo>
                <a:arcTo wR="10800" hR="10800" stAng="-10376525" swAng="10376525"/>
                <a:lnTo>
                  <a:pt x="10800" y="10800"/>
                </a:lnTo>
                <a:close/>
              </a:path>
              <a:path fill="none" w="21600" h="21600">
                <a:moveTo>
                  <a:pt x="82" y="9473"/>
                </a:moveTo>
                <a:arcTo wR="10800" hR="10800" stAng="-10376525" swAng="10376525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 flipV="1">
            <a:off x="5562720" y="4897080"/>
            <a:ext cx="1599120" cy="872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8" y="9501"/>
                </a:moveTo>
                <a:arcTo wR="10800" hR="10800" stAng="-10385669" swAng="10385669"/>
                <a:lnTo>
                  <a:pt x="10800" y="10800"/>
                </a:lnTo>
                <a:close/>
              </a:path>
              <a:path fill="none" w="21600" h="21600">
                <a:moveTo>
                  <a:pt x="78" y="9501"/>
                </a:moveTo>
                <a:arcTo wR="10800" hR="10800" stAng="-10385669" swAng="10385669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562720" y="3733920"/>
            <a:ext cx="1603080" cy="919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" y="10579"/>
                </a:moveTo>
                <a:arcTo wR="10800" hR="10800" stAng="-10729577" swAng="10418481"/>
                <a:lnTo>
                  <a:pt x="10800" y="10800"/>
                </a:lnTo>
                <a:close/>
              </a:path>
              <a:path fill="none" w="21600" h="21600">
                <a:moveTo>
                  <a:pt x="2" y="10579"/>
                </a:moveTo>
                <a:arcTo wR="10800" hR="10800" stAng="-10729577" swAng="10418481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8" name=""/>
          <p:cNvCxnSpPr/>
          <p:nvPr/>
        </p:nvCxnSpPr>
        <p:spPr>
          <a:xfrm>
            <a:off x="3504960" y="419076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99" name=""/>
          <p:cNvCxnSpPr/>
          <p:nvPr/>
        </p:nvCxnSpPr>
        <p:spPr>
          <a:xfrm>
            <a:off x="7162560" y="411444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100" name=""/>
          <p:cNvCxnSpPr/>
          <p:nvPr/>
        </p:nvCxnSpPr>
        <p:spPr>
          <a:xfrm flipV="1">
            <a:off x="3504960" y="5181120"/>
            <a:ext cx="76680" cy="15336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101" name=""/>
          <p:cNvCxnSpPr/>
          <p:nvPr/>
        </p:nvCxnSpPr>
        <p:spPr>
          <a:xfrm flipV="1">
            <a:off x="7162560" y="525708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sp>
        <p:nvSpPr>
          <p:cNvPr id="102" name=""/>
          <p:cNvSpPr/>
          <p:nvPr/>
        </p:nvSpPr>
        <p:spPr>
          <a:xfrm>
            <a:off x="15238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26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1814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0102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2596F7-41CE-420A-B365-10E1987A87ED}" type="slidenum">
              <a:t>5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20:00Z</dcterms:modified>
  <cp:revision>219</cp:revision>
  <dc:subject/>
  <dc:title>VTPP 423 - PHYSIOLOGY</dc:title>
</cp:coreProperties>
</file>