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51B3-431D-41D2-AC9E-B91D15920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to the extensive propaganda, back home everyone changed virtually every aspect of their life to benefit the war eff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few things includ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Changing their diets for food intake reduction and vitamin enhanc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Building ships, planes, ammunition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ewing uni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Loaning government mon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omen having to take over many of the jobs usually fulfilled by 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B) use a decision-making process to identify a situation that requires a decision, gather information, identify options, predict consequences, and take action to implement a deci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enefits to loaning the government money includes getting more money back and helping the war effort at the same ti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robably helped the movement for women suffrage and clearly assisted in the war effo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(B) identif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vic responsibilit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f Texas citiz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War I probably helped women towards being able to vote because they really helped the government out and proved themselves as responsible, independent, equal being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DF2-9CB6-46CD-ABE0-1AE536A6E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sible ways the war affected the lives of Texans includes (but is not limited to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carcity in food when everyone retur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s on the predominant oil industry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 crops that had been left unattended now needed major hel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 (B) apply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bsolute and relative chronolog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the sequencing of significant individuals, events, and time peri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outlines, reports, databases, and visuals including graphs, charts, timelines, and ma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telegram is a page full of numbers because it is written in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(C) express and defend a point of view on an issue of historical or contemporary interest in Tex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3 (A) use a problem-solving process to identify a problem, gather information, list and consider options, consider advantages and disadvantages, choose and implement a solution, and evaluated the effectiveness of the solu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ies most notably includ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ssi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entral countries (who the allies were fighting) included most namel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D) identify points of view from the historical context surrounding an event and the frame of reference that influenced the participa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 analyze the political, economic, and social impact of major wars, including World War I and World War II, on the history of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s services, biographies, interviews, and artifacts to acquire information about Tex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D) identify points of view from the historical context surrounding an event and the frame of reference that influenced the participa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0C2-8F86-4C70-B64A-62E0105B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238-7D15-4BFB-8669-B78BFC94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7E1-9992-4901-B010-AB67FDA6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D3C-975F-4FC0-B9BF-9D1F4A67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482-7059-4020-8E98-67F4F65C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80E-269E-408F-8BAD-78536B49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6CD-6B62-47ED-A66C-DF47DB3C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0D7-6987-4142-A836-C2D61FB8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928-C4BF-4539-B368-BEBFDA30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472-53B8-4635-BB7E-9D0524E1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D22-A5F6-4718-A2D2-A6B5BF2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ACFC-0DF2-41DF-92BC-FEA7CDF8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B83D-0515-4E80-A62E-75D1F35C1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3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49416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8520" y="1442880"/>
            <a:ext cx="8381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am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1680" y="1295280"/>
            <a:ext cx="8294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camps were s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train soldiers 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 United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cture to the r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s soldiers arriv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Camp Travis in S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onio, Tex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f these camp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tent cities or sm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en building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me very crowd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owded conditions increased the spread of diseases within the ca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419720" cy="3484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259160" y="515448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337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nch Warf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1203120"/>
            <a:ext cx="8066160" cy="53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soldiers made it to Europe, they often fou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very harsh cond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iers in World War I saw advances in ammunition that made the battlefields dangerous and unpredicta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iers took shelter and fought from trenches dug into the groun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ches flooded and often                                                      filled with mud.  The tigh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unsanitary condi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ncouraged the spread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diseas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351320" y="3429000"/>
            <a:ext cx="4419720" cy="2971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4635360" y="6500880"/>
            <a:ext cx="358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icture from http://www.greycounty.on.ca/museum/ww1mud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r Effort at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could not fight in the war joined the war effort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think people at home in Texas helped with the war in Europ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10212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724280" y="65232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5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erving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6520" y="1420560"/>
            <a:ext cx="4835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ted States supplied food to the Allied soldiers overse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ere encouraged to substitute other foods for wheat, oils and mea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exans helped out by volunteering to eat no meat or wheat on certain days of the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s reminded civilians of the need to conserve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rying to conserve food for the war, what type of food would you miss the most?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19600" y="1600200"/>
            <a:ext cx="294984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65120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99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Ga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1920" y="1676520"/>
            <a:ext cx="4460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n the city and in the country started to grow their own vegetab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growing their own vegetables, more food was available for the Allied tr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d a Victory Garden, what types of vegetables would you g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15040" y="1676520"/>
            <a:ext cx="313200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24280" y="64832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9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and the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5600" y="1309680"/>
            <a:ext cx="854892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 is expensive and the govern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more money to keep up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h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ns bought Liberty Bonds to hel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the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meone bought a Liberty Bond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were loaning money to the U.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at a certain interest rat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loan was paid back,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ceived the amount they pai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bond plus money they earn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nterest on the b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would people want to loan the government money?  What was the benef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735520" y="1319040"/>
            <a:ext cx="3071880" cy="4246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24280" y="651204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61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010040" y="1641600"/>
            <a:ext cx="45514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as, as a great agricultural state, was needed to produce cotton during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s advertised for men to quit their desk jobs and join others in harvesting cotton for the war effo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6840" y="1585800"/>
            <a:ext cx="3062160" cy="4449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31840" y="6108840"/>
            <a:ext cx="34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50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n the Home Fr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88960" y="1652760"/>
            <a:ext cx="4311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ers also built military equipment and produced oil for ships and pl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one was encouraged to do their best at Wa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95880" y="1440000"/>
            <a:ext cx="3459240" cy="4827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03880" y="6294600"/>
            <a:ext cx="362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8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9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on the Home Fro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en during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53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 were not the only people that worked during the w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he war, most women stayed at home.  In fact, some jobs were reserved for men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en gone to war, women had the opportunity to fill positions that had never before been open to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re the benefits of women being able to work for the first time during the wa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3386160" cy="4648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280" y="649908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61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83440" y="64944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en 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024440" y="1418760"/>
            <a:ext cx="468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omen went to work, they were able to prove that they were responsible and could make dec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18, women won the right to vote in primary e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20, th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endment to the U. S. Constitution gave women the right to vote in all el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mpact do you think World War I had on women being able to vo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1523880"/>
            <a:ext cx="2913120" cy="426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14400" y="579132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a picture of the 1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mend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3200" y="447840"/>
            <a:ext cx="78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4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33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how WWI affected the lives of Tex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the events leading to the U.S. involvement in WW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current and historical propaganda po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important social issues in Texas during WW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to Thin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r life be different if you lived in Texas during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as life different for men and women during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mpact did World War I have on life in Texas today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46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9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73200" y="447840"/>
            <a:ext cx="78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and 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85680" y="1790640"/>
            <a:ext cx="7331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ch Mad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y, Arlis had just returned home from World War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think the war might have affected the lives of Texan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98400" y="2921040"/>
            <a:ext cx="7893000" cy="36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2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of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1015920"/>
            <a:ext cx="8562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 timeline of events leading up to and during World War 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vent preceded the United States joining in World War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58680" y="3595680"/>
            <a:ext cx="7221600" cy="291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Feels the Effects of the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3560" y="1758960"/>
            <a:ext cx="339408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r broke out in 1914, the U.S. remained neutral.  We did not want to get involved in the war “over the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15, a German submarine sank the British ship, Lusitania, killing 128 Americans on board.  This outraged the U.S., but we still did not enter the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4647960" cy="411480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Moves Towar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73600" y="1508040"/>
            <a:ext cx="498924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anuary 1917, a secret telegram sent by the German government to the German Ambassador to Mexico was intercept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telegram, the German government asked the Mexican government for help in attacking the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2680" y="1346040"/>
            <a:ext cx="32464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Moves Towar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3600" y="1508040"/>
            <a:ext cx="4987800" cy="46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turn, the German government promised Mexico that they would help them recover Texas, New Mexico, and Ariz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ret telegram convinced President Woodrow Wilson to ask Congress to join the war on the side of the All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o you think the telegram is a page full of numb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2680" y="1346040"/>
            <a:ext cx="324648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Declares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5640" y="1523880"/>
            <a:ext cx="4716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on April 6, 1917, the U.S. declared war on Germany, joining the Allies in World War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py of the Declaration of War is on th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untries were members of the All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untries were the Allies figh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71600" y="1295280"/>
            <a:ext cx="3338280" cy="5181840"/>
            <a:chOff x="471600" y="1295280"/>
            <a:chExt cx="3338280" cy="518184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471600" y="1295280"/>
              <a:ext cx="333828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 txBox="1"/>
            <p:nvPr/>
          </p:nvSpPr>
          <p:spPr>
            <a:xfrm>
              <a:off x="471600" y="1295280"/>
              <a:ext cx="3338280" cy="51818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6320" y="655020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29996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2000" y="64911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ns Go to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0" y="132876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Texans felt great American pride and wanted to serve their country in any way they could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bout 200,000 Texas men registered for the war draf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omen could not register for the draft, but nearly 500 Texas women registered as nurse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en it was over, 5,170 Texans had lost their lives in World War 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614760" cy="541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655308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imes New Roman"/>
              </a:rPr>
              <a:t>Source: http://www.archives.gov/research_room/arc/index.html (Picture 51247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16920" y="65008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14:14:57Z</dcterms:created>
  <dc:creator>itstudent</dc:creator>
  <dc:description/>
  <dc:language>en-US</dc:language>
  <cp:lastModifiedBy>ljlab</cp:lastModifiedBy>
  <cp:lastPrinted>2005-12-02T18:47:37Z</cp:lastPrinted>
  <dcterms:modified xsi:type="dcterms:W3CDTF">2008-12-10T20:15:37Z</dcterms:modified>
  <cp:revision>53</cp:revision>
  <dc:subject/>
  <dc:title>Texas and World War I</dc:title>
</cp:coreProperties>
</file>