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4D0-D48B-4433-84E3-FA1A9C9D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E) support a point of view on a social studies issue or e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A) differentiate between, locate, and use primary and secondary sources such as computer software, databases, media and new services, biographies, interviews, and artifacts to acquire information about Tex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C) organize and interpret information from outlines, reports, databases, and visuals including graphs, charts, timelines, a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libraries.uta.edu/ccon/scripts/ShowMap.asp?accession=G1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during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A) explain economic factors that led to the urbanization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B) trace the development of major industries that contributed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rban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2 (C) explain the changes in the types of jobs and occupations that have resulted from the urbanization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B) analyze the impact of economic phenomena within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ee enterprise 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upply and demand, prof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government regulation, and world competition on the economy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,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C) analyze the effects of scientific discoveries and technological innovations, such as barbed wire, the windmill, and oil, gas, and aerospace industries, on the developments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C) analyze the effects of the changing population distribution in Texas during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B) compare places and regions of Texas in terms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hysical and human characterist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 (C) analyze the effects of physical and human factors such as climate, weather, landforms, irrigation, transportation, and communication on major events in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A) analyze why immigrant groups came to Texas and where they sett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1 (B) analyze how immigration and migration to Texas in the 19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ies have influenced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A) explain how the diversity of Texas is reflected in a variety of cultural activities, celebrations, and perform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B) describe how people from select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ial, ethnic, and religious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empt to maintain their cultural heritage while adapting to the larger Texas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Influence of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scribe characteristics of societies resulting from historical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historical backgrounds to link past conflicts to current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A) compare types and uses of technology, past and pre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C) analyze the effects of scientific discoveries and technological innovations, such as barbed wire, the windmill, and oil, gas, and aerospace industries, on the developments of Tex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D) evaluate the effects of scientific discoveries and technological innovations on the use of resources such as fossil fuels, water, and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0 (E) analyze how scientific discoveries and technological innovations have resulted in an interdependence among Texas, the United States, and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1 (B) analyze information by sequencing, categorizing, identifying cause-and-effect relationships, comparing, contrasting, finding the main idea, summarizing, making generalizations and predictions, and drawing inferences and conclu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8 Science/Technology/Economic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xplain the effects of technological and scientific innov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nalyze the impact transportation systems on growth in th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A) explain how the diversity of Texas is reflected in a variety of cultural activities, celebrations, and perform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9 (B) describe how people from select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cial, ethnic, and religious grou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tempt to maintain their cultural heritage while adapting to the larger Texas cul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0B9-1E1D-4338-96C6-12B5C928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AA9-F54D-4A33-8B65-733F6D5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8E2-84DB-4033-9867-756ED4426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E3E8-F3AB-4A35-B17A-84231494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A4A-FCBD-4B95-A8D1-8F3D176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5CC-17DD-4047-A56E-03DE3A1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280-C549-44D9-B337-43D04AB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134-95F4-4779-A64D-045B819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7D7-EAA5-4AEB-B91A-87B5B6C8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8FF-2E8D-4426-87E3-5BB2C94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47F-CE90-47A3-8C76-D620A68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F4A2-9BE7-47A8-AE6F-2D16AA4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7892-D4C4-46D1-8540-B9A0B8CCA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6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349416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1524b1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8520" y="1442880"/>
            <a:ext cx="8381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5080" y="1374840"/>
            <a:ext cx="743760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imilarities are there between Texas in 1918 and Texa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ifferences are there between Texas in 1918 and Texas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r life be different if you lived in Texas in 191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44520" y="4273560"/>
            <a:ext cx="6678720" cy="238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1524b1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1524b1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al Studies 1 -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process of urban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guish the difference between urban and rur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the relationship between urbanization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exas like in 1918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0760" y="2035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in Texas in 1918 was becoming closer to the Texas we know to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draw a picture of Texas in 1918, what would it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3920" y="2241720"/>
            <a:ext cx="4343400" cy="301464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840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xas Roads in 19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5764" r="0" b="6482"/>
          <a:stretch/>
        </p:blipFill>
        <p:spPr>
          <a:xfrm>
            <a:off x="1760400" y="1333440"/>
            <a:ext cx="5769000" cy="520056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32120" y="5848200"/>
            <a:ext cx="337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to the C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120" y="1371240"/>
            <a:ext cx="8323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newer machinery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ing, fewer people we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to work on farm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moved to cities to f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pportunities.  M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moved from rural are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cities.  This move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ies near ports, like Houston,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popular because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y to work in oi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eries and factor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0" b="18482"/>
          <a:stretch/>
        </p:blipFill>
        <p:spPr>
          <a:xfrm>
            <a:off x="5667480" y="1565280"/>
            <a:ext cx="3089160" cy="404028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676480" y="5676840"/>
            <a:ext cx="23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me.sprynet.com/~lcseiler/ houarnd5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in the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8120" y="135540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sudden floo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to the citi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crowding caused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deal of discomf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produced so muc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sh and waste that cit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me filthy and unsanit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not enough water or housing for the people in the cities.  Many people had to live in temporary housing in the streets until they could find a better place to liv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425920" y="1496880"/>
            <a:ext cx="3240360" cy="264816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0520" y="1275840"/>
            <a:ext cx="8570880" cy="53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other people were moving t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as to take advantage of job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portunities.  People were coming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Texas from around the worl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:  People settled i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ound the San Antonio and Ri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:  People became farmer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entral Texas Hill Countr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:  People originally cam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 to work on the railroad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(Czechs, Irish, Italians):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farmed in Central Texa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spcAft>
                <a:spcPts val="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alveston was the main port for people to enter into Texa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18240" y="1538280"/>
            <a:ext cx="3105000" cy="386712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92240" y="159984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our daily conveniences were new in 191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s were becoming popular in many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homes in cities had electricity for lighting, but no air condit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ities were just getting electric street light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nveniences would you miss if you lived in 1918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18288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440" y="5945040"/>
            <a:ext cx="30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http://www.atcaonline.com/phone/photo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90560" y="1789200"/>
            <a:ext cx="2417760" cy="409104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people do for f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9840" y="1563840"/>
            <a:ext cx="838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he invention of so many new industrial advances and machinery, people had more time to have fu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n 1918 enjoy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se 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ater and silent mov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51520" y="3255840"/>
            <a:ext cx="3429000" cy="2521080"/>
          </a:xfrm>
          <a:prstGeom prst="rect">
            <a:avLst/>
          </a:prstGeom>
          <a:ln w="88920">
            <a:solidFill>
              <a:srgbClr val="537372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MM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22:21:42Z</dcterms:created>
  <dc:creator>Vince Hardy</dc:creator>
  <dc:description/>
  <dc:language>en-US</dc:language>
  <cp:lastModifiedBy>ljlab</cp:lastModifiedBy>
  <dcterms:modified xsi:type="dcterms:W3CDTF">2008-12-10T18:43:57Z</dcterms:modified>
  <cp:revision>12</cp:revision>
  <dc:subject/>
  <dc:title>Slide 1</dc:title>
</cp:coreProperties>
</file>