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564F-C293-4D29-8CEF-A7CB7D685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E) support a point of view on a social studies issue or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 services, biographies, interviews, and artifacts to acquire information about Tex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outlines, reports, databases, and visuals including graphs, charts, timelines,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libraries.uta.edu/ccon/scripts/ShowMap.asp?accession=G1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C) analyze the effects of the changing population distribution in Texas during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A) explain economic factors that led to the urbanization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B) trace the development of major industries that contributed to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rban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C) explain the changes in the types of jobs and occupations that have resulted from the urbanization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analyze the impact of economic phenomena within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ee enterprise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pply and demand, prof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government regulation, and world competition on the economy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A) compare types and uses of technology,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C) analyze the effects of scientific discoveries and technological innovations, such as barbed wire, the windmill, and oil, gas, and aerospace industries, on the developments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C) analyze the effects of the changing population distribution in Texas during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compare places and regions of Texas in terms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hysical and human characterist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C) analyze the effects of physical and human factors such as climate, weather, landforms, irrigation, transportation, and communication on major events in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why immigrant groups came to Texas and where they sett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analyze how immigration and migration to Texas in the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ies have influenced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A) explain how the diversity of Texas is reflected in a variety of cultural activities, celebrations, and perform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B) describe how people from select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cial, ethnic, and religious grou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empt to maintain their cultural heritage while adapting to the larger Texas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A) compare types and uses of technology,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C) analyze the effects of scientific discoveries and technological innovations, such as barbed wire, the windmill, and oil, gas, and aerospace industries, on the developments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D) evaluate the effects of scientific discoveries and technological innovations on the use of resources such as fossil fuels, water, and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E) analyze how scientific discoveries and technological innovations have resulted in an interdependence among Texas, the United States, an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A) explain how the diversity of Texas is reflected in a variety of cultural activities, celebrations, and perform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B) describe how people from select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cial, ethnic, and religious grou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empt to maintain their cultural heritage while adapting to the larger Texas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91A-CDD2-4BF3-A1C0-FFAE4DF4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1ED-5FFE-4333-A38A-0F0D81E0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252-CEF7-41E0-BCC1-2413E580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188-45B6-47A1-AEA0-FEB878E3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188-B0CE-4E18-A585-A6549AB7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A33-E417-4AE1-AFA1-F7C40C1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D8F-56A9-4117-A181-97B9E6B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381-D32E-41B4-8F62-C84802F2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384-E301-4D42-99A5-681952E8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D16-D6D9-49BA-9983-FD903904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A09-6480-4145-800A-8038340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E70-CB62-44D7-B34E-7F8027F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DBCD-F25B-4823-9B50-2908365F0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49416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1524b1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8520" y="1442880"/>
            <a:ext cx="8381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8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5080" y="1374840"/>
            <a:ext cx="743760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imilarities are there between Texas in 1918 and Texa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ifferences are there between Texas in 1918 and Texa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your life be different if you lived in Texas in 191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44520" y="4273560"/>
            <a:ext cx="6678720" cy="238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1524b1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1524b1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tudies 1 -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process of urban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the difference between urban and rural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the relationship between urbanization and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Texas like in 1918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0760" y="2035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in Texas in 1918 was becoming closer to the Texas we know to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to draw a picture of Texas in 1918, what would it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63920" y="2241720"/>
            <a:ext cx="4343400" cy="301464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Roads in 19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5764" r="0" b="6482"/>
          <a:stretch/>
        </p:blipFill>
        <p:spPr>
          <a:xfrm>
            <a:off x="1760400" y="1333440"/>
            <a:ext cx="5769000" cy="520056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32120" y="5848200"/>
            <a:ext cx="337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to the C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120" y="1371240"/>
            <a:ext cx="8323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newer machinery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ing, fewer people we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to work on farm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moved to cities to f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pportunities.  M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moved from rural are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cities.  This move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ban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ies near ports, like Houston,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popular because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to work in oi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ries and factor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0" b="18482"/>
          <a:stretch/>
        </p:blipFill>
        <p:spPr>
          <a:xfrm>
            <a:off x="5667480" y="1565280"/>
            <a:ext cx="3089160" cy="404028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5676480" y="5676840"/>
            <a:ext cx="23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me.sprynet.com/~lcseiler/ houarnd5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in the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8120" y="1355400"/>
            <a:ext cx="8294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sudden floo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to the citie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crowding caused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deal of discom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produced so muc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h and waste that cit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me filthy and unsani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as not enough water or housing for the people in the cities.  Many people had to live in temporary housing in the streets until they could find a better place to liv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25920" y="1496880"/>
            <a:ext cx="3240360" cy="264816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0520" y="1275840"/>
            <a:ext cx="8570880" cy="53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other people were moving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as to take advantage of job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portunities.  People were coming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Texas from around the worl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:  People settled i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the San Antonio and Ri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:  People became farm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entral Texas Hill Countr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:  People originally cam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 to work on the railroa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(Czechs, Irish, Italians)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farmed in Central Tex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lveston was the main port for people to enter into Texa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8240" y="1538280"/>
            <a:ext cx="3105000" cy="386712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i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92240" y="159984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our daily conveniences were new in 191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s were becoming popular in many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homes in cities had electricity for lighting, but no air conditi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ities were just getting electric street light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veniences would you miss if you lived in 1918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8288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440" y="5945040"/>
            <a:ext cx="30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http://www.atcaonline.com/phone/photos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90560" y="1789200"/>
            <a:ext cx="2417760" cy="409104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people do for f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9840" y="1563840"/>
            <a:ext cx="8380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invention of so many new industrial advances and machinery, people had more time to have fu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n 1918 enjoy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 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r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ater and silent movi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51520" y="3255840"/>
            <a:ext cx="3429000" cy="252108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22:21:42Z</dcterms:created>
  <dc:creator>Vince Hardy</dc:creator>
  <dc:description/>
  <dc:language>en-US</dc:language>
  <cp:lastModifiedBy>ljlab</cp:lastModifiedBy>
  <dcterms:modified xsi:type="dcterms:W3CDTF">2008-12-10T18:43:57Z</dcterms:modified>
  <cp:revision>12</cp:revision>
  <dc:subject/>
  <dc:title>Slide 1</dc:title>
</cp:coreProperties>
</file>