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– 6.2 Number, Operation, and Quantitative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2 Number, Operation, and Quantitative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DCD4E2-3356-450E-8938-9D237988DA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8D898C-1DF9-4969-84F5-833C9671D5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64561-D737-4E2E-AC0A-1C04A38AF4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937919-7D78-4007-BEEB-274C3136A5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A145B1-70AB-4402-8C74-E0663A229E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03C5B2-C8A4-4979-B3A2-C433131288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1617A0-C09F-4DCA-A6FB-257CCF4A5F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B2F57E-30D8-4AC3-92C9-86C369A77F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6339CF-F037-44FC-912E-3C1BFB0917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A44E21-6606-4C9F-AD18-2CDB5C03BD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A8C31E-651F-4D78-BE80-238A3347FB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01053F-BCF3-4C87-813A-C36317563E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37E89-C6F9-4977-A182-CA52E2ECD3E6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Time Measurem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1 hour (h) = 60 minutes (min)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1 minute = 60 seconds (s)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Example: Add the following times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1 h 30 min 59 s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 u="sng">
                <a:solidFill>
                  <a:srgbClr val="ebebeb"/>
                </a:solidFill>
                <a:uFillTx/>
                <a:latin typeface="Times New Roman"/>
              </a:rPr>
              <a:t>	</a:t>
            </a:r>
            <a:r>
              <a:rPr b="0" lang="en-US" sz="3300" spc="-1" strike="noStrike" u="sng">
                <a:solidFill>
                  <a:srgbClr val="ebebeb"/>
                </a:solidFill>
                <a:uFillTx/>
                <a:latin typeface="Times New Roman"/>
              </a:rPr>
              <a:t>+ 1 h 29 min   1 s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2 h 59 min 60 s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3 hours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343400" y="5105520"/>
            <a:ext cx="15238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58108E-C98E-4D14-81D3-8EC376450DD2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Time Measurem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Example: Subtract the following times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 h 37 min   8 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 h 36 min 68 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- 2 h 29 min 52 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- 2 h 29 min 52 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7 min 16 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ote: Since you cannot subtract 52 s from 8 s, you must restate 37 min 8 s as 36 min 68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733920" y="2819520"/>
            <a:ext cx="12952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999FA6-FCA8-4F8D-BBC2-FEBFD997FA57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20:29Z</dcterms:modified>
  <cp:revision>208</cp:revision>
  <dc:subject/>
  <dc:title>VTPP 423 - PHYSIOLOGY</dc:title>
</cp:coreProperties>
</file>