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67082-4A20-4E2E-96F8-6BB59E7A3D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does not contain the full text of the TEKS.  It is intended to be a guide to, not a substitute for, the TEKS.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BA78FB-50CD-4FB7-96C9-09705C6E6C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709DF4-C0DC-4FDB-BB0D-B15CA17A73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FF4BB3-B9AC-406C-BCD0-DBFF36DF1F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925264-1725-4008-95EF-172A32F31B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62EDBD-8607-43BA-B7C3-FE663EFC01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9F6A78-ADB6-4452-9B15-213F723D3A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4F8ED9-8131-427D-8B03-9265364B4D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BCE340-0F79-46C2-B6C9-64A3A917D8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0D0C39-0188-4972-936F-198C88B49A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334002-BAB2-4C42-94E8-8E2037469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F8578-FA2E-46A4-ACE1-6DE0F4F44C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C1AB5-5916-420B-8936-E9C05F6C72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EA240-16ED-4203-A6E6-6EA00E966B2F}"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vhardy</cp:lastModifiedBy>
  <dcterms:modified xsi:type="dcterms:W3CDTF">2003-05-21T21:23:34Z</dcterms:modified>
  <cp:revision>25</cp:revision>
  <dc:subject/>
  <dc:title>Persuasive Writing</dc:title>
</cp:coreProperties>
</file>