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9F5C-8219-4979-BEC6-130F95022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6C53-BB27-4DED-A037-72877FC0E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6F8E-3CD1-459F-8898-F3BBCB134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BD8C-EC7E-44A4-A05F-AC933BED2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069D-4CD8-43C0-BB80-B590F610D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2B14-524D-4C3B-AABF-720B3D3B2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6DA4-B0B9-47AD-8605-EF271FC61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9E27-E94E-4B4C-A92F-8BAB16509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1516-5B14-4A93-9C80-F62AA2035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7FCB-CBDE-4BBC-911D-8E242ECF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F19F-3951-4F21-AB9F-45678D65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A103-F19A-429D-8269-5619041D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F020B-C4AD-4A84-9EA6-73EA0C1493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y diarrhea, rapid dehydration, vomiting, leg cr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5360" y="3664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food/water, contaminated feces of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2:25Z</dcterms:modified>
  <cp:revision>48</cp:revision>
  <dc:subject/>
  <dc:title>Hazards</dc:title>
</cp:coreProperties>
</file>