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4B6F-D2D1-4920-8A33-DEC45581D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213B-9F76-4547-B91D-98A0FFDC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F7CA-D154-423A-8B5E-93B73FB02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05EF-49DF-4AC6-BA55-8233B2B77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D726-5064-41F1-8FF7-8DF857A9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B02F-F323-4073-BAE3-962F249E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3886-7267-4AA1-95E5-FD7CDC3C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61C5-901C-411A-805D-B9024608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CFF4-D5B3-43DE-B7A9-3B388E80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D6E3-A9F4-40B5-A824-A542BF79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9737-59EF-4CBE-B6AB-CCDD6375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53F5-C5C1-4C7A-8097-29E54E0A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FD71-1734-4784-8482-B3E2CD68305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vhardy</cp:lastModifiedBy>
  <dcterms:modified xsi:type="dcterms:W3CDTF">2002-12-19T23:01:26Z</dcterms:modified>
  <cp:revision>61</cp:revision>
  <dc:subject/>
  <dc:title>Locating Places</dc:title>
</cp:coreProperties>
</file>