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435647-4BCE-4D1E-9DFD-E3E4689D2F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EDCB39-A956-478C-A3A1-92DBCD6D81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06992C-0D07-4912-AD59-739502FE46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4AAC83-E0F0-4E54-8865-EBB0AC7C81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0A21CA-1703-4011-88E6-151DCC0B54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702707-AB0A-4C12-AB2E-FDD770CCC4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4014E4-B826-4CE1-8841-A8E11D90DE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597872-7103-42D4-8DAD-E52413060F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6977FF-EEDF-453E-88BD-B9E05F4F83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67EAB8-5F5B-4129-A224-9F2765E49C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241A11-9C21-4422-9EAB-D0525A2B28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403828-FAB6-4760-903A-88043C2BD5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A1C8F-B7A1-4D7B-B135-99E52F60F98B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Triang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7240" y="1447920"/>
            <a:ext cx="7770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triangle = 1/2 x Base x Heigh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as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5800" y="1447920"/>
            <a:ext cx="7543800" cy="464796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RightTriangle" descr=""/>
          <p:cNvPicPr/>
          <p:nvPr/>
        </p:nvPicPr>
        <p:blipFill>
          <a:blip r:embed="rId2"/>
          <a:stretch/>
        </p:blipFill>
        <p:spPr>
          <a:xfrm>
            <a:off x="3406680" y="3048120"/>
            <a:ext cx="2308320" cy="2320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45BE0E-2472-4E24-B5A6-A68AC14B922A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Squar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square = Side x Side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d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d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9480" y="1447920"/>
            <a:ext cx="7543800" cy="44956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Box" descr=""/>
          <p:cNvPicPr/>
          <p:nvPr/>
        </p:nvPicPr>
        <p:blipFill>
          <a:blip r:embed="rId2"/>
          <a:stretch/>
        </p:blipFill>
        <p:spPr>
          <a:xfrm>
            <a:off x="3276720" y="3124080"/>
            <a:ext cx="2171520" cy="2160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A03F4E-AC6F-49BA-A9BE-675BCD166A47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Circ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circle = </a:t>
            </a:r>
            <a:r>
              <a:rPr b="0" lang="en-US" sz="32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x Radius x Radius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amete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09480" y="1447920"/>
            <a:ext cx="7543800" cy="45720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114800" y="42670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114800" y="3124080"/>
            <a:ext cx="0" cy="236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Circle" descr=""/>
          <p:cNvPicPr/>
          <p:nvPr/>
        </p:nvPicPr>
        <p:blipFill>
          <a:blip r:embed="rId2"/>
          <a:stretch/>
        </p:blipFill>
        <p:spPr>
          <a:xfrm>
            <a:off x="2819520" y="3048120"/>
            <a:ext cx="2503440" cy="2503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4DC735-8E62-4274-A7B6-73A9C9C8AE81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Rectang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rectangle = Length x Width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idth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ength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9480" y="1447920"/>
            <a:ext cx="7543800" cy="45720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Rectangle" descr=""/>
          <p:cNvPicPr/>
          <p:nvPr/>
        </p:nvPicPr>
        <p:blipFill>
          <a:blip r:embed="rId2"/>
          <a:stretch/>
        </p:blipFill>
        <p:spPr>
          <a:xfrm>
            <a:off x="2759040" y="3003480"/>
            <a:ext cx="3314880" cy="2251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AE80AD-FED4-49B4-97FC-88AFC23CEF95}" type="slidenum">
              <a:t>4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6:39Z</dcterms:modified>
  <cp:revision>217</cp:revision>
  <dc:subject/>
  <dc:title>VTPP 423 - PHYSIOLOGY</dc:title>
</cp:coreProperties>
</file>