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5AB7-3ECE-40DE-88A5-34C0E21C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D), Determining meanings of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C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, Locating words using dictionaries, glossarie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Use reference aides to clarify meaning an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 archaeologist is the type of scientist who conducts these types of  stud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chaeology is the study of the lives of ancient people, as by excavation of ancient cit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suffix grammar language derivativ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omologists study insects. Entomology is a branch of zo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logists study the origin, history, characteristics, habits, etc. of plants and anima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ologists study animals and animal lif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eontologists study prehistoric life through the study of fossils. Paleontology is a branch of ge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logists study the earth’s crust, rocks and foss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eorologists study the atmosphere and its phenomena (weather and climate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ismologists study earthquak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hropologists study the characteristics and customs of mank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http://images.fws.g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G) Understand historical influences on English word mean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C) Correctly spell syllable constructions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ctionary glossary suffix prefix derivatives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n Pre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way) abrupt, absent, absol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o) adjoin, adven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) incapable, indecisive, intoler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tween, among) intercept, interdependent, interprovinci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in) intramural, intra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efore) prefabricate, pre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fter) postpone, postscript, postw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under) submarine, subscrip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cross) transfer, transit, transl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9EA-D15B-4DA5-BF8A-1E9C4DB9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B3F-6DAD-447A-975F-F6C8E25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B43-0ECD-4601-8500-97291B39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0D23-1E79-4457-B78F-278D474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A77-1B97-489A-9FFE-556F716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028-A144-47B2-B2F0-6DFB57E9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B5A-CF73-4E89-8604-66C9439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7CB-217E-44FA-A04F-367D31C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14C-4519-4467-9CA4-DA77F71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889-1452-4AC2-A3AA-A5672B8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2F2-69CF-4AD7-82A0-F6EBB15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73B-C800-490D-825A-067187A5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F5BE-48CA-4FB9-84A9-55C81626E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how prefixes and suffixes help convey the meaning of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aning of different prefixes and suffi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ot word stands on its own as a word; it has a meaning.  New words can be made from root words by adding beginnings (prefixes) and endings (suffix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words are helpful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a root word to help you with other spelling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help you recognize what the word is and what it means based on the meaning of the root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the root in this word help you understand the mean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other factors of the word help you decide what it mea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ix = 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= App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ffix = 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644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letter, syllable, or word added to the end of a word to change its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ffix –“ologist” means “one who studies” and the suffix –“ology” means “the study of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sect the word “archaeology.”  What does this word mean?  What does an “archaeologist”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1031_001"/>
          <p:cNvPicPr/>
          <p:nvPr/>
        </p:nvPicPr>
        <p:blipFill>
          <a:blip r:embed="rId2"/>
          <a:stretch/>
        </p:blipFill>
        <p:spPr>
          <a:xfrm>
            <a:off x="4524480" y="1981080"/>
            <a:ext cx="4390920" cy="32464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Dis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predict what each of the following people stu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eont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or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ism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hrop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4803840" cy="3213000"/>
          </a:xfrm>
          <a:prstGeom prst="rect">
            <a:avLst/>
          </a:prstGeom>
          <a:ln w="889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group of letters which you can add to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root word to change the meaning of the wor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ix 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rong or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pelled, mis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way, subter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fore in time, in front of or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ckaged, precon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hurt,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1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dyer</cp:lastModifiedBy>
  <dcterms:modified xsi:type="dcterms:W3CDTF">2008-12-11T17:58:51Z</dcterms:modified>
  <cp:revision>33</cp:revision>
  <dc:subject/>
  <dc:title>Objectives – English 1</dc:title>
</cp:coreProperties>
</file>