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71C9-A88E-46FD-97AC-2C74C04A6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Locating words using dictionaries, glossaries and other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, C, 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egular reading of independen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Demonstrating fluency and effec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Adjustment of reading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Using multiple reference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, Composing original texts while applying the conventions of written language to communicate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, Applying standard grammar and usage to communicate clearly and effectively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, Using writing processes for self-initiated and assigned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, Writing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Interpret idioms, analogies, and multiple-meaning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D) Determine meanings of words through knowledge of roots and a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vocabulary language dictionary glossary vocabulary challe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H) Use compiled information and knowledge to raise additional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A) Write legibly using cursive or manuscript as appropri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B) Write compound and complex sentences with both types of cla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 Use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E) Use prepositional phrases to elaborate writte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H) Use apostrophes in contractions with increasing correc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escriptive writing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senses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on “Adjective” or “Adverb” for more hel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grammar lang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G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gram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, Writing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7 (D), Using adjectives and adverbs appropriat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djective adverb language descriptive wri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224-549B-4E58-8CF4-7F15A25C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860-9F8B-41D7-A51A-BBA63FE9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376-2AF4-467C-8972-59198397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726-9214-4BCB-876A-D26CD0C1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F59-CDCE-4319-B0B4-9D8D78BB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EEF-9AEB-489B-92FB-42E85CA4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B78-F34B-4F6F-B54D-5556841F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4FF-B73D-438B-991A-BF142143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F13-D17D-41BA-AA95-DED850BC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632-5C54-41F0-B28B-9E57D0FD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270-4168-4D4B-8A32-E478C2C4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E17-4195-46D7-B28B-88179F33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9BFA-23D8-4BCA-AEDB-90E89A3E8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djctv.ppt" TargetMode="External"/><Relationship Id="rId3" Type="http://schemas.openxmlformats.org/officeDocument/2006/relationships/hyperlink" Target="file:///Appendices/Advrbs.ppt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new vocabulary words from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descriptive essay about an archeological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definitions of adjectives and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an essay that demonstrates proper use of adjectives and 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new words will help to improve your writing and reading. Look through “The Kiss of the Assassin” and identify words that are unfamiliar to yo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in the Glossary of Terms to help find definitions of these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Vocabulary Challenge to see if you are an expert Word Explor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91320" y="1536840"/>
            <a:ext cx="2857320" cy="4332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Artifacts Could Talk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from the story that the archaeological dig was located in Paloma, a village that had been inhabited continuously for 7,700 year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that you are Miguel’s father and that you have just unearthed an artifact at the Paloma sit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what that object might have been and describe it. Remember the key points to include in a descriptive ess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39560" y="1828800"/>
            <a:ext cx="88567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defin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adjective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five sens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a lis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s to descri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icture.  Include sight, sound, smell, taste or touch wor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China"/>
          <p:cNvPicPr/>
          <p:nvPr/>
        </p:nvPicPr>
        <p:blipFill>
          <a:blip r:embed="rId2"/>
          <a:stretch/>
        </p:blipFill>
        <p:spPr>
          <a:xfrm>
            <a:off x="4572000" y="1949400"/>
            <a:ext cx="4191120" cy="27306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13880" y="5425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or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” is a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dj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odifies a noun. For example: “The kissing bug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ple of a type of bug called a reduvid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” is a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adver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modifies a verb.  It can also be used as an adjective to refer to the state of someone’s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feel good” means to be in good spirits. “Good” modifies “spirit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fel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 he had seen the precious ancient rel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“feel well” means to be in good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sister did not fe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he had a f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6440" y="4665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or we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in the blanks with “good” or “well,” then tell whether each word is acting as an adjective or an adverb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did a _______ job of helping Robert pack up the ship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and Robert worked _______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’s father had not been feeling ______ for a long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1036_001"/>
          <p:cNvPicPr/>
          <p:nvPr/>
        </p:nvPicPr>
        <p:blipFill>
          <a:blip r:embed="rId2"/>
          <a:stretch/>
        </p:blipFill>
        <p:spPr>
          <a:xfrm>
            <a:off x="3743280" y="1749600"/>
            <a:ext cx="5019840" cy="33130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y in Peru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14600"/>
            <a:ext cx="3289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scene in the picture to begin to understand the daily life of a village in Peru.  Use adjectives and adverbs to make your writing vivid and precise.  Begin by describing what you see with adjectives, then add actions and life with adver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8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1:46Z</dcterms:modified>
  <cp:revision>29</cp:revision>
  <dc:subject/>
  <dc:title>Objectives – English 1</dc:title>
</cp:coreProperties>
</file>