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174E7-11E7-4CE3-8B97-4994C1C3B1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7AF9-DF29-4B91-941A-B503B4320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6499-0920-4E4A-A47C-9020FD448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62CE-59B4-4FBB-A782-60D7776B8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4461-91D9-4429-845B-FD8D20DE0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E792-07F6-4D3E-B45C-AFE53392C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93FF-A769-470E-80B9-BC9EDD1BF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9F8F-A7AF-4328-9C47-724668975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EC7E-858B-4C67-BFE7-E3DD98E47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271D-5CE1-4691-A2BD-8E734E668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7BB1-6437-46CE-8614-800B85C9B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B6BB-C5F9-4908-85C8-7A6D8B1C5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4738-3EF9-4E95-8FE9-61364472F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AD9EA-3715-4AA6-A904-1E7EA26B47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1519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lume &amp; Weight Convers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366920"/>
            <a:ext cx="7770960" cy="47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Volum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allons per Li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Liter = .264 gall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Weight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ounds per Kilogram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kilogram = 2.20 lb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858000" y="1219320"/>
            <a:ext cx="1782720" cy="16682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6858000" y="3733920"/>
            <a:ext cx="1793880" cy="1439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29:54Z</dcterms:created>
  <dc:creator>ITWorkstation</dc:creator>
  <dc:description/>
  <dc:language>en-US</dc:language>
  <cp:lastModifiedBy>Vince Hardy</cp:lastModifiedBy>
  <dcterms:modified xsi:type="dcterms:W3CDTF">2007-05-08T18:40:12Z</dcterms:modified>
  <cp:revision>11</cp:revision>
  <dc:subject/>
  <dc:title>Volume &amp; Weight Conversions</dc:title>
</cp:coreProperties>
</file>