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A573-5F2D-4999-B97A-2A452985A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of independent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Selecting various sources 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Reading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Read to take 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the distinguishing features of gen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3 (G) Draw conclusions from information and knowledge to raise additional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A) Identify the purposes of different types of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 Offer observations, connections, and questions in response to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Englis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6D2-74AC-4B39-AC11-5CEA1763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33E-20EF-4B25-BEAD-7B321D7A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B9A-1BAF-486B-A457-AB179638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94B-DD82-4B10-B99D-70086E29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821-DCF2-405C-9885-D5B05AFA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EA54-91FF-4069-B862-E5C1B2D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A19-8188-47A1-8EE6-588FB054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AFB-5008-42EF-B18F-53E882B4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919E-61B0-4DE5-A382-B72EB84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F61F-37D0-4DBD-8C03-3527F243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761-4DD7-4756-A0A3-D0ECC2C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E47-CF20-453C-8AD6-57746125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CABB-5E77-4A26-9D06-8D95A2CD5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ChalQ.ppt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4280" y="152388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adventur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 comprehension of the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important events in the story and determine why they stand ou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Reca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“The Kiss of the Assassin” care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your memory and understanding of important details by completing the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Investigator’s Challenge Qu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1523880"/>
            <a:ext cx="2857680" cy="434340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ing the Adven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6440" y="1692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the story all ab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we learn about Per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re the health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it about the environment that was causing the health problems? How did we figure that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ld prevent the health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art of the story stands out to you m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parts of suspense o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e parts of the story that come to your mind when you think back on it and write them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whether they involve some sort of emotion or suspense.  What makes it stick out to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29970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way to figure out why a certain part of a story creates an emotion is to look at that part by itself and then in relation to the parts ar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Lines are a great way to break down a story into individual sections for further analysi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e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77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9:51:27Z</dcterms:created>
  <dc:creator>wklemm</dc:creator>
  <dc:description/>
  <dc:language>en-US</dc:language>
  <cp:lastModifiedBy>College of Veterinary Medicine</cp:lastModifiedBy>
  <dcterms:modified xsi:type="dcterms:W3CDTF">2008-01-02T17:55:27Z</dcterms:modified>
  <cp:revision>24</cp:revision>
  <dc:subject/>
  <dc:title>Objectives – English 1</dc:title>
</cp:coreProperties>
</file>