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7B24-0E39-4C18-AA52-38A18EA21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ropologists often work with archaeologists in an effort to fully understand a society.  Physical artifacts that archaeologists find help anthropologists determine what was important to past civilizations and how a society’s daily routine would have been affected by its value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sources to locate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rcheology ge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A) Generate ideas and plans for writing by using prewriting strate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0 (E) Present information in various forms using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 (A) Select, organize, or produce visuals to complement and extend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E) Construct graphs, tables, maps, and charts to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E) Construct visual aids using tools including computers to analyz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E) Construct visuals using tools to organize, examine, and evaluat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kissing bugs trypanosome poster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Compare text events with personal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Determine characteristics of cultures through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E) Use standard grammar, spelling, sentence structure, and punc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grammar writing essay descriptive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91E-572E-4E68-8B58-49F182AD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A17-D633-40CA-85EA-803105ED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6C9-9A47-4060-82F0-8EA9E573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224-382B-4DCD-A307-435F98DD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7BF9-3561-4F74-BF06-EEF88D5B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6CA-1407-4C76-B758-067341AA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30B-E576-4326-B982-DDD29653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EE8-BE52-44CF-8393-D284BC2B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076-DB55-40DD-A447-F6983B90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10D-B12C-4791-B777-F085574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602-1C9C-4C0F-8873-E3D21DCB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22C-6FA0-4EFE-AE60-6ADCB57C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8847-9C12-48CF-80D4-803B5DCC2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wgbh/nova/laventa/tryit.html" TargetMode="External"/><Relationship Id="rId3" Type="http://schemas.openxmlformats.org/officeDocument/2006/relationships/hyperlink" Target="http://www.pbs.org/wgbh/nova/laventa/tryit.html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Appendices/DescWriting/DescWrit.ppt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4280" y="144756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Internet to gather information about archaeology and archaeologists as well as anthropology and anthropologi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identifies the danger of kissing bugs and 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aeologists primarily study physical artifacts of civilizations.  Anthropologists, on the other hand, study the cultures and activities of civil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“The Kiss of the Assassin,” Robert is an anthropologist working at an archaeological dig site.  Why would an anthropologist be working at an archaeological di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archaeologists and anthropologists work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An Archaeolog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a high-speed Internet connection and a computer that supports “Shockwave,” you can try reconstructing a broken artifact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Laven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(http://www.pbs.org/wgbh/nova/laventa/tryit.ht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90840" y="2133720"/>
            <a:ext cx="4496040" cy="30049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3200" y="6220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 the W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2412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and his family knew the kiss or sting of the kissing bug was painful, but they did not understand how dangerous the bite of the bug could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491080"/>
                <a:tab algn="l" pos="5883120"/>
                <a:tab algn="l" pos="6340320"/>
                <a:tab algn="l" pos="70311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034800"/>
            <a:ext cx="5029200" cy="26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 poster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the dang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s the workers about the consequences of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information on how to  respond after being b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7323" t="0" r="7942" b="9231"/>
          <a:stretch/>
        </p:blipFill>
        <p:spPr>
          <a:xfrm>
            <a:off x="5657760" y="2719440"/>
            <a:ext cx="3254400" cy="3776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644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pecial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493640"/>
            <a:ext cx="807696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uel describes the museum at Pachacamac as a place that “lifts the spirits of Peru.”  Why does this place “lift his spirits”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a one-page essay that describes a place that lifts your spirits.  Explain why you think the place has this eff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paint a picture with words so that your readers can form a mental image of the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hree reasons why the place is special to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principles of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descriptive 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help build your es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79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2:26Z</dcterms:modified>
  <cp:revision>29</cp:revision>
  <dc:subject/>
  <dc:title>Objectives – English 1</dc:title>
</cp:coreProperties>
</file>