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F8CA-554F-47CF-8F8A-26F48AD07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of independent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Selecting various sources 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Reading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Read to take 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the distinguishing features of gen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G) Draw conclusions from information and knowledge to raise additional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A) Identify the purposes of different types of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Offer observations, connections, and questions in response to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Englis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2C2-7604-4C06-8EF8-8F42A92E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5C3-8908-46E8-B1A7-78578116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C94-D766-42C7-AFBD-82FB38F1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028-5B02-47D2-9AAF-788FD538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76F-74A7-427A-A568-318B7DFA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222-FC56-4EC9-A678-3E910190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636-FB9A-4688-8E6C-BA395B0E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2D3-2B3C-4B47-8D9E-2F12A596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DEF-A593-4423-896A-0B9AFD34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18A-030A-4212-A20B-4306A025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2D2-5F19-429C-AEE8-79A9BDF3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DCA-1599-4B91-B8FF-3E2F7FA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8E07-0D0B-44CC-8951-AF8BBA79F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PeChalQ.ppt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4280" y="152388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adventur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e comprehension of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important events in the story and determine why they stand ou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Rec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“The Kiss of the Assassin” care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your memory and understanding of important details by completing the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Investigator’s Challenge Qui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1523880"/>
            <a:ext cx="2857680" cy="43434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ing the Adven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6440" y="1692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the story all ab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we learn about Per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re the health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it about the environment that was causing the health problems? How did we figure that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ld prevent the health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art of the story stands out to you m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parts of suspense o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e parts of the story that come to your mind when you think back on it and write them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whether they involve some sort of emotion or suspense.  What makes it stick out to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29970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way to figure out why a certain part of a story creates an emotion is to look at that part by itself and then in relation to the parts ar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Lines are a great way to break down a story into individual sections for further analysi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77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5:27Z</dcterms:modified>
  <cp:revision>24</cp:revision>
  <dc:subject/>
  <dc:title>Objectives – English 1</dc:title>
</cp:coreProperties>
</file>