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980238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04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5680" y="-36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2280"/>
            <a:ext cx="4618080" cy="346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77392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5680" y="877392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654EDF53-0E4B-4041-9D37-68E6CD94F8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A, C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Compar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Integers in Real-lif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Proportions/Conversions using Tables and Symbo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Appropriate Problem-Solving Mod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Conjectures from Patterns or Sets of Examples/Non-exampl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A), 7.4 (C), 7.11 (B), 7.15 (A), 8.1 (A), 8.3 (A), 8.5 (A), 8.16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h –6.1 (A, C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Compar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Integers in Real-lif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Proportions/Conversions using Tables and Symbo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Appropriate Problem-Solving Mod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A), 7.4 (C), 7.11 (B), 7.15 (A), 8.1 (A), 8.3 (A), 8.5 (A), 8.16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03C2-8D4A-43AA-BFA4-2E1DAFA92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B3C3-3FD5-4B78-BB78-7E7BCB8F1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2740-F546-496F-9C1E-5AF7FF645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30D3-6BC9-4115-B971-4DDAD8598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A8D1-6446-40E9-9B9D-F13B6B539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1529-79CA-40E1-B17A-1F802F432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FC6D-63DF-43D5-BD0F-4C065F45D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C6D8-CF81-49A3-BE38-F5356C196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600D-E0DC-4E5D-966D-B021FF918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E8D7-5348-46B0-ABC5-6E4E87E96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24B9-BFEE-45C6-907B-EBEA8B240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C779-27EC-4FD5-A9FB-02AC0E012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8BA24-84B3-48F4-B82E-847D8175702A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Climograph.doc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mograph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A climograph is a graph that displays average (mean) precipitation and temperature for an area.  It is used to compare the climate in different places.  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WeatherMan" descr=""/>
          <p:cNvPicPr/>
          <p:nvPr/>
        </p:nvPicPr>
        <p:blipFill>
          <a:blip r:embed="rId2"/>
          <a:stretch/>
        </p:blipFill>
        <p:spPr>
          <a:xfrm>
            <a:off x="4038480" y="3962520"/>
            <a:ext cx="2354400" cy="234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457200" y="838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eparing Your Own Climo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371600" y="2438280"/>
            <a:ext cx="6629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lick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ere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to print a blank climograph and use it to make your own climograph.  Refer back to this appendix if you need directions to make your own climograp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ecipitation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f you go to www.worldclimate.com, you can find average monthly precipitation for many places in a chart like this one for Orlando, Florida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trick to reading charts and graphs is finding a patter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patterns do you see in the average precipitation data for Orlando, Florida?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 there more precipitation in the summer months or the winter month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80880" y="2438280"/>
            <a:ext cx="8229600" cy="1128600"/>
            <a:chOff x="380880" y="2438280"/>
            <a:chExt cx="8229600" cy="1128600"/>
          </a:xfrm>
        </p:grpSpPr>
        <p:sp>
          <p:nvSpPr>
            <p:cNvPr id="54" name=""/>
            <p:cNvSpPr/>
            <p:nvPr/>
          </p:nvSpPr>
          <p:spPr>
            <a:xfrm>
              <a:off x="7924680" y="3200400"/>
              <a:ext cx="68580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49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391160" y="3200400"/>
              <a:ext cx="533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848280" y="3200400"/>
              <a:ext cx="5428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257520" y="320040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7180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082840" y="320040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495680" y="3200400"/>
              <a:ext cx="5871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908160" y="3200400"/>
              <a:ext cx="587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319200" y="320040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73348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142720" y="320040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55700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90360" y="3200400"/>
              <a:ext cx="56664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80880" y="3200400"/>
              <a:ext cx="6094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249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inch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924680" y="2819160"/>
              <a:ext cx="68580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247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391160" y="2819160"/>
              <a:ext cx="533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3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848280" y="2819160"/>
              <a:ext cx="5428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257520" y="281916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9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67180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6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082840" y="281916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8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495680" y="2819160"/>
              <a:ext cx="5871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97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908160" y="2819160"/>
              <a:ext cx="587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319200" y="281916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3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73348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0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142720" y="281916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6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55700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990360" y="2819160"/>
              <a:ext cx="56664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4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80880" y="2819160"/>
              <a:ext cx="6094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924680" y="2438280"/>
              <a:ext cx="68580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Ye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391160" y="2438280"/>
              <a:ext cx="533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Dec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848280" y="2438280"/>
              <a:ext cx="5428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Nov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57520" y="243828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Oct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7180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Se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082840" y="243828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ug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495680" y="2438280"/>
              <a:ext cx="5871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l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908160" y="2438280"/>
              <a:ext cx="587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n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19200" y="243828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73348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p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142720" y="243828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55700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Feb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990360" y="2438280"/>
              <a:ext cx="56664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ebebeb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ebebeb"/>
                  </a:solidFill>
                  <a:latin typeface="Times New Roman"/>
                </a:rPr>
                <a:t>Jan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80880" y="2438280"/>
              <a:ext cx="6094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0880" y="243828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80880" y="281916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0880" y="320040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0880" y="356688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880" y="243828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9903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5570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14272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7334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3192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9081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4956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08284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6718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25752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8482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3911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9246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610480" y="243828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e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People construct climographs to compare climates in different places.  Climographs convert lots of numerical data to a simple display of bars and lines.  Because they are so simple, climographs make it easy to see patterns in climate and to compare the climates in different place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Precipitation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25909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y-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xis (vertical)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ith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verag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ecipitation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evels in inches.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is exampl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uses intervals of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5 inches between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marking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2971800" y="4876560"/>
            <a:ext cx="51055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x-axis (horizontal) with the months (Jan.-Dec.) and include a space for the yearly average precipitation at the end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0" name="Precip" descr=""/>
          <p:cNvPicPr/>
          <p:nvPr/>
        </p:nvPicPr>
        <p:blipFill>
          <a:blip r:embed="rId2"/>
          <a:stretch/>
        </p:blipFill>
        <p:spPr>
          <a:xfrm>
            <a:off x="3352680" y="1523880"/>
            <a:ext cx="4857840" cy="26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2960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Precipitation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66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For our example, the January average precipitation was 2.1 inches, so we drew a bar over  January reaching the 2.1 level on the y-axis of the graph.  Graph the precipitation data for the remaining months in the same way.</a:t>
            </a: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Remember to always label your x and y axis when drawing a graph and add a title for  the whole graph.</a:t>
            </a: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90760" y="4876920"/>
            <a:ext cx="3809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Next, plot the average precipitation for January by drawing a bar over January </a:t>
            </a:r>
            <a:br>
              <a:rPr sz="1800"/>
            </a:b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reaching up to the amount of precipitation listed for that month.</a:t>
            </a:r>
            <a:br>
              <a:rPr sz="1800"/>
            </a:b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4" name="Prec" descr=""/>
          <p:cNvPicPr/>
          <p:nvPr/>
        </p:nvPicPr>
        <p:blipFill>
          <a:blip r:embed="rId2"/>
          <a:stretch/>
        </p:blipFill>
        <p:spPr>
          <a:xfrm>
            <a:off x="3600360" y="1714680"/>
            <a:ext cx="4857840" cy="270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emperature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56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ww.worldclimate.com can also give you a chart on average temperature for many places.  Here are the average monthly temperatures for Orlando, Florida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member, the key to reading graphs is looking for a pattern!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patterns do you see in the average temperature data for Orlando, Florida?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 it hotter in the summer or in the winter month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457200" y="2514600"/>
            <a:ext cx="8229600" cy="1128600"/>
            <a:chOff x="457200" y="2514600"/>
            <a:chExt cx="8229600" cy="1128600"/>
          </a:xfrm>
        </p:grpSpPr>
        <p:sp>
          <p:nvSpPr>
            <p:cNvPr id="128" name=""/>
            <p:cNvSpPr/>
            <p:nvPr/>
          </p:nvSpPr>
          <p:spPr>
            <a:xfrm>
              <a:off x="8001000" y="3276720"/>
              <a:ext cx="68580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467480" y="3276720"/>
              <a:ext cx="533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924600" y="3276720"/>
              <a:ext cx="5428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7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333840" y="327672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4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74812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1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159160" y="327672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572000" y="3276720"/>
              <a:ext cx="5871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84480" y="3276720"/>
              <a:ext cx="587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1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395520" y="327672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7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80980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1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219040" y="327672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63332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066680" y="3276720"/>
              <a:ext cx="56664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9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57200" y="3276720"/>
              <a:ext cx="6094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°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001000" y="2895480"/>
              <a:ext cx="68580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467480" y="2895480"/>
              <a:ext cx="533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924600" y="2895480"/>
              <a:ext cx="5428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9.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333840" y="289548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3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74812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7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159160" y="289548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8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572000" y="2895480"/>
              <a:ext cx="5871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8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984480" y="2895480"/>
              <a:ext cx="587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7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395520" y="289548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5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80980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219040" y="289548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9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63332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066680" y="2895480"/>
              <a:ext cx="56664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5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57200" y="2895480"/>
              <a:ext cx="6094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°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001000" y="2514600"/>
              <a:ext cx="68580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Ye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467480" y="2514600"/>
              <a:ext cx="533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Dec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924600" y="2514600"/>
              <a:ext cx="5428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Nov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333840" y="251460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Oct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74812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Se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159160" y="251460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ug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572000" y="2514600"/>
              <a:ext cx="5871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l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984480" y="2514600"/>
              <a:ext cx="587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n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395520" y="251460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80980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p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219040" y="251460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63332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Feb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066680" y="2514600"/>
              <a:ext cx="56664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an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57200" y="2514600"/>
              <a:ext cx="6094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57200" y="251460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7200" y="289548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57200" y="327672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57200" y="364320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57200" y="251460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0666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6333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21904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8098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3955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844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5720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15916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7481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33384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9246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4674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0010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686800" y="251460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Temperatur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895480" y="4952520"/>
            <a:ext cx="5562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x-axis (horizontal) with the months (Jan.-Dec.) and include a space for the yearly average temperature at the end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1447560"/>
            <a:ext cx="22860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y-axis (vertical) with the average temperature levels in degrees Fahrenheit.  This example uses intervals of 20 degrees between marking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2" name="Temp" descr=""/>
          <p:cNvPicPr/>
          <p:nvPr/>
        </p:nvPicPr>
        <p:blipFill>
          <a:blip r:embed="rId2"/>
          <a:stretch/>
        </p:blipFill>
        <p:spPr>
          <a:xfrm>
            <a:off x="3276720" y="1752480"/>
            <a:ext cx="4857480" cy="270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ebeb"/>
                </a:solidFill>
                <a:latin typeface="Times New Roman"/>
              </a:rPr>
              <a:t>Graphing Average Temperatur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880" y="1152360"/>
            <a:ext cx="3353040" cy="547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Next, plot the average temperature for January by placing a dot over January at the average temperature for that month. 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For our example, the January average temper-ature was 59.9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F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, so we placed a dot over January at the 59.9 level on the y-axis of the graph.  Graphing the remaining temperature data in the same way for each month and for the year. 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emember to always label your x and y axis when drawing a graph and add a title for  the whole graph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14800" y="19810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Finally, connect the dots!  Draw a line from the dot for January and continue through the dot for December.  </a:t>
            </a:r>
            <a:r>
              <a:rPr b="0" lang="en-US" sz="2000" spc="-1" strike="noStrike" u="sng">
                <a:solidFill>
                  <a:srgbClr val="ebebeb"/>
                </a:solidFill>
                <a:uFillTx/>
                <a:latin typeface="Times New Roman"/>
              </a:rPr>
              <a:t>Do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ebebeb"/>
                </a:solidFill>
                <a:uFillTx/>
                <a:latin typeface="Times New Roman"/>
              </a:rPr>
              <a:t>not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connect the dot for the yearly average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6" name="Temp" descr=""/>
          <p:cNvPicPr/>
          <p:nvPr/>
        </p:nvPicPr>
        <p:blipFill>
          <a:blip r:embed="rId2"/>
          <a:stretch/>
        </p:blipFill>
        <p:spPr>
          <a:xfrm>
            <a:off x="3828960" y="1371600"/>
            <a:ext cx="4857840" cy="270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137160"/>
            <a:ext cx="7772400" cy="71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mograph</a:t>
            </a:r>
            <a:br>
              <a:rPr sz="4400"/>
            </a:b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climograph includes both the average precipitation and the average temperature data.  When you combine the two previous graphs, your climograph should look like this one</a:t>
            </a:r>
            <a:br>
              <a:rPr sz="2400"/>
            </a:br>
            <a:br>
              <a:rPr sz="12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800"/>
            </a:br>
            <a:br>
              <a:rPr sz="20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2000"/>
            </a:br>
            <a:br>
              <a:rPr sz="20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e sure to include a title for your graph and a key showing the symbols that represent the average precipitation and the average temperature.</a:t>
            </a:r>
            <a:br>
              <a:rPr sz="2400"/>
            </a:b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8" name="Clim" descr=""/>
          <p:cNvPicPr/>
          <p:nvPr/>
        </p:nvPicPr>
        <p:blipFill>
          <a:blip r:embed="rId2"/>
          <a:stretch/>
        </p:blipFill>
        <p:spPr>
          <a:xfrm>
            <a:off x="1981080" y="2590920"/>
            <a:ext cx="4857840" cy="2695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5:38:51Z</dcterms:created>
  <dc:creator>Charles C. Farnsworth, Ph.D. - Instructional Design</dc:creator>
  <dc:description/>
  <dc:language>en-US</dc:language>
  <cp:lastModifiedBy>ljlab</cp:lastModifiedBy>
  <cp:lastPrinted>2002-05-15T14:22:53Z</cp:lastPrinted>
  <dcterms:modified xsi:type="dcterms:W3CDTF">2003-09-11T17:22:57Z</dcterms:modified>
  <cp:revision>69</cp:revision>
  <dc:subject/>
  <dc:title>Climograph</dc:title>
</cp:coreProperties>
</file>