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F27A-4BFB-422B-A615-98E7E3403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many words in the story that are unfamiliar to your students. Ask students to find each word that is new to them, define the word, find a synonym and antonym for each word, then use each word in a sentence outside the context of the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6C: The student is expected to: locate the meanings, pronunciations, and derivations of unfamiliar words using dictionaries, glossaries, and other source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744C-F9F3-4190-8322-92691224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8687-738E-4D64-90B0-C10D5FA4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2B00-890E-4006-8E8E-ED4CA81F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18F7-E289-4D43-BAAE-64B28FE5C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347C-7D8D-4E28-8F07-8EA46B83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0453-51BE-4E23-95CE-F667F2FD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51B8-08FF-4463-9B6A-84C355A9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19C8-7128-4D3F-B7B8-785B1C86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EA91-8164-446C-8592-68994F24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16F8-FAB5-4D43-95DF-E0F02912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CA5D-F700-4E51-A9B9-90DA6061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80A9-FF6F-42C4-93F0-E97DA3F9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B01D-92AA-44B3-BA75-2A823563AF2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omprehensive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Very large in content, all inclusiv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Assassi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 murderer of a prominent pers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Specimen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An item representative of an entire set or whol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urator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One in charge of a selection, as at a museum or library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rreleva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Unrelated to the matter at han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Foreboding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have a premonition or feeling of a future misfortun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 (cont.)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232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onstrosity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Something that is unusually large or that gives a feeling of disgus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mpleme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put into effec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Relics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Something that has survived from an extinct culture or from a specific time perio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alnourished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ffected by improper or poor nutriti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Ljlab</cp:lastModifiedBy>
  <dcterms:modified xsi:type="dcterms:W3CDTF">2005-05-25T16:30:06Z</dcterms:modified>
  <cp:revision>20</cp:revision>
  <dc:subject/>
  <dc:title>PowerPoint Presentation</dc:title>
</cp:coreProperties>
</file>