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A2F46-071E-4FAB-8F3E-2F2C28FAC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6982B-B093-410E-8DE0-3EC8EE0BB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B6B7F-CCB5-440C-BB2F-E2B43A6BB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00C44-962D-482A-878A-4A3FADFF4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3236D-B6E9-48D8-ADEE-4AF598806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C85EE-F9EB-4CC9-8ED5-47415E852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18D37-BCD2-429A-96CD-4EEF47479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FD566-87CB-48D9-AEB4-EC14FBAC6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10F62-391F-4778-AE58-FC9DEBEDD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BBFD9-368F-41CB-BDB2-121E4BCE3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2C7CF-A555-4BB6-A53F-F1614F4ED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F5E3C-FD74-46E6-BDBE-B5397A4FC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DC73D-DBBA-4C11-B9DE-0518D565DA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est Nile Vir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90512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loss of coordination, tremors, depression, weaknes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350532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Inject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through bite of infected mosquit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3T13:28:33Z</dcterms:created>
  <dc:creator>Texas A&amp;M Veterinary Medicine</dc:creator>
  <dc:description/>
  <dc:language>en-US</dc:language>
  <cp:lastModifiedBy>Texas A&amp;M Veterinary Medicine</cp:lastModifiedBy>
  <dcterms:modified xsi:type="dcterms:W3CDTF">2007-09-03T13:28:35Z</dcterms:modified>
  <cp:revision>1</cp:revision>
  <dc:subject/>
  <dc:title>West Nile Virus</dc:title>
</cp:coreProperties>
</file>