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A459-74D2-43D6-9BE2-753DFBEF8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7ACB-CF88-4BCC-BAD8-5283EB5DD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F667-51DA-424A-99F9-F27F0A496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3DFD-5DDE-454B-99BB-3C2F6424A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C5BF-B90F-43F5-A91E-1873B59E7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831F-5E2B-43DF-A863-9F13EF99B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B2CD-7924-4F02-B2F2-54CD59D1E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CEE5-D1AF-4A5F-8B80-55E75C4DC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4F9C-95D8-408C-AD9F-43A97E09B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D614-3D29-406E-823E-B1BF95A1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AED1-CF17-4815-8273-E75D1C9D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AD89-5126-4083-9E5D-08EF0EB0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302E9-5000-453E-91AC-F14EF526B3B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tatistic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, Mean, Median, and Mode are all words that we use to describe numerical da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 is the lowest and the highe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 is the average of all the numbers in a data set, or all of the data added up and then divided by the number of data poin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 is the middlemo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 If there is an even number of data points, the average of the middle two give the medi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 is the number that is repeated the most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ample Data Se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 is a sample data se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4, 6, 2, 8, 5, 2, 4, 6, 9, 2, 1, 2, 2,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ange: 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2, 2, 2, 2, 2, 4, 4, 5, 5, 6, 6, 8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:  59/15 = 3.93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Median 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2, 2, 2, 2, 2,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Mod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2, 2, 2, 2,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8T17:44:00Z</dcterms:created>
  <dc:creator>vtpp</dc:creator>
  <dc:description/>
  <dc:language>en-US</dc:language>
  <cp:lastModifiedBy>vhardy</cp:lastModifiedBy>
  <dcterms:modified xsi:type="dcterms:W3CDTF">2003-05-23T21:31:31Z</dcterms:modified>
  <cp:revision>6</cp:revision>
  <dc:subject/>
  <dc:title>Statistics</dc:title>
</cp:coreProperties>
</file>