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E9D5-A6F1-4CC7-92E5-D84643F74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1195-740A-4034-B884-AD3EB5E2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1646-67EC-4DDD-BA45-D717F93C4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B9AB-9664-4AEB-8A29-5BEA26E77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4493-BB7E-450E-AF49-0E8EA579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1C0D-CA9A-407A-8BF9-B8957A2D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2B76-62DF-44C5-A9EB-F3D2498C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67E7-B596-4433-85FF-5CBB27F5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BFF0-4B58-4469-B3CE-AF784D72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8FB1-0B99-4DE3-98B3-1949AA16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6C1D-C5C2-4804-BA9C-711A6C21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FA80-239F-4F5A-B880-906E0BD8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9CB3-CEB8-4D51-B905-7A12774401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06Z</dcterms:modified>
  <cp:revision>47</cp:revision>
  <dc:subject/>
  <dc:title>Hazards</dc:title>
</cp:coreProperties>
</file>