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D901-4AB0-4536-9834-584819A67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C167-1397-418D-808B-EC5AAC49F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95C5-5402-41B5-877F-0BDEF387D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D17C-90AE-4F23-BF45-A055A38B1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364D-985D-4C13-9A33-CC65CE151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47E7-4B57-4851-ADF2-260F1C131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C366-3DEB-47B3-AC9C-7959F1E64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7A29-3F88-4074-A793-0E23C8030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2B9D-7C90-44C5-B79F-8712E4FD8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A507-18B4-4FB5-9030-105DB6D5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2285-33FE-4418-80FD-6E71A448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A065-4D70-4335-B034-2C8397FC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22AC3-BE33-4FC9-86F0-9A256D3D619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up thick, cloudy, and sometimes bloody mucus from the lungs, rapid heart beat, swelling of lymph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2274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or sneezing of infected person, unpasteurized milk or milk products obtained from infected c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7:06Z</dcterms:modified>
  <cp:revision>47</cp:revision>
  <dc:subject/>
  <dc:title>Hazards</dc:title>
</cp:coreProperties>
</file>