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E944B-1261-4A37-A1E4-5EB6C0179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AF45-1B3E-468D-8DDB-5859A27E1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623E-CE30-47D2-A148-6BFB67345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FE5D-9349-47C1-BA8C-8D0E5F38B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F0FD-84ED-4168-A5EB-6283EA692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1849-CED8-4DCF-A138-C003B119C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DED5-7001-458C-A47F-8DD74A44D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D611-6628-4D47-80FC-42572ED4D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6811-7925-4CF6-8E6F-BE52186AC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02C8-88B1-4ED0-8CBA-575B2104D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CD5C-DDC7-4EA1-8869-68C678B8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F852-9596-4DB1-BBDF-921EA950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08C8-2010-4934-B769-155BE02C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24707-81CE-405C-8027-FD97B2A5FD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r example, over the past 40 years, New Jersey has had an average temperature of 32 º Fahrenheit and an average precipitation of 2.8 inches during the month of February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Weather is the state of the atmosphere at a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given place and time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or example, the temperature right now in New Jersey is 56º F and it is snowing.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09Z</dcterms:modified>
  <cp:revision>19</cp:revision>
  <dc:subject/>
  <dc:title>What’s the difference between weather and climate?</dc:title>
</cp:coreProperties>
</file>