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C6109-D389-4BA2-A995-90A77135D0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Represent Proportions/Conversions using Tables and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E88E-397B-4B5F-BC1D-27CC3BB70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196E-3F98-41EB-BC5A-A1EF46F43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D81A-A81E-410E-BC48-8CE9EE47D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31DF-0F6B-45CE-B636-42189EDE0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C614-62A8-4B32-841A-2953C2EC6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3774-AB08-4F62-86FD-615F63FCC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50F5-51E4-41F8-8710-D0679FB6F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5640-0AC1-4CAA-BFB2-4EE43F4D3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84E3-99E5-440F-951F-AC5BE7F2B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D9A8-7F4A-45F2-943E-A9B8775BA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B36B-3F59-4615-B885-1B42A2AD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AF99-5544-4389-9505-E3CDC589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0387C-42CF-43C6-B3D6-44A0BBC1E3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75960"/>
            <a:ext cx="7770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tric Multiplication Facto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ltiplication Fac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efix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ymb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l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ct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ll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31:03Z</dcterms:created>
  <dc:creator>ITWorkstation</dc:creator>
  <dc:description/>
  <dc:language>en-US</dc:language>
  <cp:lastModifiedBy>ljlab</cp:lastModifiedBy>
  <dcterms:modified xsi:type="dcterms:W3CDTF">2003-09-11T17:19:02Z</dcterms:modified>
  <cp:revision>6</cp:revision>
  <dc:subject/>
  <dc:title>Metric Multiplication Factors</dc:title>
</cp:coreProperties>
</file>