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7B74-621B-4DB8-A199-854AB8B92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B465-E728-4A8F-A0B2-AD6E906E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32F2-5C5D-4C17-893B-A9F2E288A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3DA4-0323-49D1-B7FA-C022ECC5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3B83-40D8-4AC6-A4D3-4C176C9F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82F1-946D-46E8-831C-26653136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9C45-C4DD-45FE-8B3E-FA09878A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6766-5F0E-4663-9D73-FA3F5E57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57FB-B316-467C-AAE6-C9F5E924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122C-BE53-4AE5-9B21-2F3D8337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1DA2-14B7-4845-B33E-0775BEB2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8869-4F69-48D9-983F-71DE35F6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F160-2527-49D0-81EF-445115563E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urring chills, fever, anemia and sometimes jaund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 through bite of infected mosqui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4T21:53:52Z</dcterms:modified>
  <cp:revision>51</cp:revision>
  <dc:subject/>
  <dc:title>Hazards</dc:title>
</cp:coreProperties>
</file>