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A5FD-2A95-4B3B-BB5B-13A8480E2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A9E8-AD45-49FC-9144-217C09C0D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B9FC-31C6-4EA9-8C38-0D1C7D0FF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5DCC-18C3-462D-9DE2-CCC0CC414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9583-6D28-45DD-B104-01EADEB02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14E4-6292-4512-B08B-4A2B38A33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E1AC-16E6-43ED-A6E0-7177EF65F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510C-F10F-4ED7-9CF6-03F962A71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0BA1-4F2B-473A-8D26-35154D12F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3621-3A93-4EE4-BE01-B9D77AFBC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31F3-5EB5-4A71-982A-DCA8C90C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3878-3560-40E5-9473-49C5223C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75672-B04A-4F6D-BE4C-38439F1A9D7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DS (Acquired Immune Deficiency Syndrom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2286000"/>
            <a:ext cx="7925040" cy="283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apid weight loss, dry cough, recurring fever, profound fatigue, swollen lymph glands, diarrhea, unusual blemishes on tongue and in mouth, pneumonia, memory loss, depression, red/purple blotches on or under the skin or inside the mouth/n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5334120"/>
            <a:ext cx="792504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-to-blood and sexual contact with infected pers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Ljlab</cp:lastModifiedBy>
  <dcterms:modified xsi:type="dcterms:W3CDTF">2005-01-21T19:04:07Z</dcterms:modified>
  <cp:revision>42</cp:revision>
  <dc:subject/>
  <dc:title>Hazards</dc:title>
</cp:coreProperties>
</file>