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686D9-06FD-49A7-8833-39C8A38D33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79677-E508-4514-A980-836860E8D4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58A67-4A59-4F2A-ABFA-90B3D84B2E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ED2BE-2B84-41E4-9828-D120454BD9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1E218-E1C6-4B24-BFBE-7B6D249623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A29E6-276D-465E-AF95-34E1EC4155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C228E-01CE-4260-A4F0-E84952BAC9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EB10D-04F7-4652-BB13-2E98D1C2C1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7FFC8-22D5-4020-BB11-DB449B8F58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1CFDE-77FE-4742-81AB-EF793CF534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2DD93-05F1-4C48-B073-CCD075D121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C1DAA-A541-4836-BA62-4366F775EF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7D07B-7789-4729-85F0-967E6F0F5887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 ratio is a comparison of two numbers by division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 comparing 1 to 4 can be stated as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to 4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:4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out of 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0692F-2B76-4706-B294-222B56BB605C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4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1 par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1/4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943600" y="914400"/>
            <a:ext cx="2664000" cy="349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3A43D-187E-46DB-AF82-11FEAA361A00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5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3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3/5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791320" y="1143000"/>
            <a:ext cx="2778120" cy="2835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C5780-5453-4942-9C16-9E243BF5C64E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7240" y="-228600"/>
            <a:ext cx="77709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534160" cy="569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ompare the ratios 4/6 and 2/3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Draw a rectangle with 6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Draw another rectangle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with 3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3. Shade 4 parts of the upper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rectangle and shade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2 parts of the lower rectangl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nce the areas shaded are the same,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s are equivalent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324480" y="990720"/>
            <a:ext cx="2286000" cy="4035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FF63E-0AA2-4E96-BF48-E0295D4B860C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724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09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nce ratios can be written as fractions,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:6 and 2:3 are equivalent ratios </a:t>
            </a:r>
            <a:br>
              <a:rPr sz="3200"/>
            </a:b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just a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/6 and 2/3 are equivalent fraction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÷ 2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    ÷ 2</a:t>
            </a: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2864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732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05120" y="3809880"/>
            <a:ext cx="1603080" cy="92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1905120" y="4820400"/>
            <a:ext cx="1599120" cy="87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2" y="9473"/>
                </a:moveTo>
                <a:arcTo wR="10800" hR="10800" stAng="-10376525" swAng="10376525"/>
                <a:lnTo>
                  <a:pt x="10800" y="10800"/>
                </a:lnTo>
                <a:close/>
              </a:path>
              <a:path fill="none" w="21600" h="21600">
                <a:moveTo>
                  <a:pt x="82" y="9473"/>
                </a:moveTo>
                <a:arcTo wR="10800" hR="10800" stAng="-10376525" swAng="10376525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5562720" y="4897080"/>
            <a:ext cx="1599120" cy="87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8" y="9501"/>
                </a:moveTo>
                <a:arcTo wR="10800" hR="10800" stAng="-10385669" swAng="10385669"/>
                <a:lnTo>
                  <a:pt x="10800" y="10800"/>
                </a:lnTo>
                <a:close/>
              </a:path>
              <a:path fill="none" w="21600" h="21600">
                <a:moveTo>
                  <a:pt x="78" y="9501"/>
                </a:moveTo>
                <a:arcTo wR="10800" hR="10800" stAng="-10385669" swAng="10385669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562720" y="3733920"/>
            <a:ext cx="1603080" cy="91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/>
          <p:nvPr/>
        </p:nvCxnSpPr>
        <p:spPr>
          <a:xfrm>
            <a:off x="3504960" y="419076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99" name=""/>
          <p:cNvCxnSpPr/>
          <p:nvPr/>
        </p:nvCxnSpPr>
        <p:spPr>
          <a:xfrm>
            <a:off x="7162560" y="411444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0" name=""/>
          <p:cNvCxnSpPr/>
          <p:nvPr/>
        </p:nvCxnSpPr>
        <p:spPr>
          <a:xfrm flipV="1">
            <a:off x="3504960" y="5181120"/>
            <a:ext cx="76680" cy="15336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1" name=""/>
          <p:cNvCxnSpPr/>
          <p:nvPr/>
        </p:nvCxnSpPr>
        <p:spPr>
          <a:xfrm flipV="1">
            <a:off x="7162560" y="525708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15238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26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814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102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FC129-4097-4D86-8CFB-BE8A17D32862}" type="slidenum">
              <a:t>5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20:00Z</dcterms:modified>
  <cp:revision>219</cp:revision>
  <dc:subject/>
  <dc:title>VTPP 423 - PHYSIOLOGY</dc:title>
</cp:coreProperties>
</file>