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46E-F6A0-4E75-A1C0-53B7510A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ropologists often work with archaeologists in an effort to fully understand a society.  Physical artifacts that archaeologists find help anthropologists determine what was important to past civilizations and how a society’s daily routine would have been affected by its value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sources to locate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rcheology ge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Construct visual aids using tools including computers to analyz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E) Construct visuals using tools to organize, examine, and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kissing bugs trypanosome post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Compare text events with person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Determine characteristics of cultures through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grammar writing essay descriptive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C4A-F642-4B3C-BAF2-567184C1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9CF-34CA-45BC-A109-4D9AFF0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083-7684-4154-9BF9-A02A7B30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D41-B5D8-44D6-81FF-526873AF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B03-57B6-4F42-BC24-EA64DBC2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543-9152-44EE-921E-C7E8003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624-734D-4C45-A933-94FC5EF7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329-DB64-47BF-9C95-7442FADD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83C-B368-41C2-80CB-E90D059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419-5B52-422E-8F09-A1270D3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4E7-72C8-4ECC-AFCD-A025D3D2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C8D-9ECD-4E7B-A63C-878D699C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CF2-AA32-45D4-8131-628AC0C8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nova/laventa/tryit.html" TargetMode="External"/><Relationship Id="rId3" Type="http://schemas.openxmlformats.org/officeDocument/2006/relationships/hyperlink" Target="http://www.pbs.org/wgbh/nova/laventa/tryit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DescWriting/DescWri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44756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net to gather information about archaeology and archaeologists as well as anthropology and anthropolog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identifies the danger of kissing bugs and 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aeologists primarily study physical artifacts of civilizations.  Anthropologists, on the other hand, study the cultures and activities of civil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“The Kiss of the Assassin,” Robert is an anthropologist working at an archaeological dig site.  Why would an anthropologist be working at an archaeological d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archaeologists and anthropologists work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An Archaeolog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high-speed Internet connection and a computer that supports “Shockwave,” you can try reconstructing a broken artifact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La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http://www.pbs.org/wgbh/nova/laventa/tryit.ht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90840" y="2133720"/>
            <a:ext cx="4496040" cy="30049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241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his family knew the kiss or sting of the kissing bug was painful, but they did not understand how dangerous the bite of the bug c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034800"/>
            <a:ext cx="5029200" cy="26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da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the workers about the consequences of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7323" t="0" r="7942" b="9231"/>
          <a:stretch/>
        </p:blipFill>
        <p:spPr>
          <a:xfrm>
            <a:off x="5657760" y="2719440"/>
            <a:ext cx="3254400" cy="3776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ecial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0769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escribes the museum at Pachacamac as a place that “lifts the spirits of Peru.”  Why does this place “lift his spirit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  Explain why you think the place has this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aint a picture with words so that your readers can form a mental image of th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ree reasons why the place is special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inciples of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descriptiv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build your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2:26Z</dcterms:modified>
  <cp:revision>29</cp:revision>
  <dc:subject/>
  <dc:title>Objectives – English 1</dc:title>
</cp:coreProperties>
</file>