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B4CA-9890-48AC-AEB9-44DD24B13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CBB1-D91D-409F-AFA6-D62D2DC2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E42A-E7F5-49FA-B3B4-BC8F0D64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B448-3055-46F7-A37A-643FCAD07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B956-4CEF-4D4F-A621-757CFF8F3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D330-73B4-40EC-8EEC-42CB2444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AD16-1932-4B0C-A48B-50A10FDA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40D9-B18D-4C27-A546-82DF4C1E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8C48-30E5-4BBB-A28E-FCA60C27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84EE-79FA-43A1-AD1C-35A1F101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D2B2-CAC9-4043-B380-0F3E19CD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33C3-FE6E-4FCB-8A87-070D0DAD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F774-53FB-4FEA-971C-C10E140A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8496-4CF7-424A-AE36-A75CCDF2B5A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2112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42400" y="441972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4° S.L., 72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21120" y="485136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07480" y="441972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17.5° S.L., 71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3170160"/>
          <a:ext cx="217332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19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5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43240" y="4952880"/>
            <a:ext cx="5110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titude for Lima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343240" y="4952880"/>
            <a:ext cx="52308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2343240" y="4952880"/>
            <a:ext cx="6008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solute location of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0528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42760" y="4419720"/>
            <a:ext cx="57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, 80° W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03480" y="487044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42400" y="44197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4° S.L., 74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Texas A&amp;M Veterinary Medicine</cp:lastModifiedBy>
  <cp:lastPrinted>2002-05-17T17:38:54Z</cp:lastPrinted>
  <dcterms:modified xsi:type="dcterms:W3CDTF">2007-08-29T18:55:45Z</dcterms:modified>
  <cp:revision>656</cp:revision>
  <dc:subject/>
  <dc:title>Investigate the Mystery:</dc:title>
</cp:coreProperties>
</file>