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6F708-CC46-4CC3-85EA-CA7E96E371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9E5C7-7073-42C5-B38C-AD51A58CE9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91440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5618-E4E1-46D7-89D0-E952FAAD6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2F86-3B6D-43E3-AFB6-1E5AF6225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B4D4-5A33-4AD3-9CDB-28590513A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EAFF-A3E5-4FD0-955D-0763FD409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1051-0FEA-4716-A772-D68505B5E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8343-3FDC-46C1-9091-AD49FBF7B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87B8-CA44-4403-BBF4-3FF87E83D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908F-1DAD-4291-882C-4FE398C79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E34E-A52C-4AB2-9D85-3753B44F8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5A1A-6E17-4C72-A3B7-A855C4345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6030-423E-4BCF-8BAE-EF2C0645E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9CC0-BA10-49F2-8433-559CE2077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AE737-1334-4EFE-9AC7-29653D138206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770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ecipitation and Temperatur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1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Precipitation includes all forms of moisture falling to the surface of the earth. (Examples: rain, sleet, snow, hail)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181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Temperature is how warm or cool the air is outsid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4:23:11Z</dcterms:created>
  <dc:creator>Charles C. Farnsworth, Ph.D. - Instructional Design</dc:creator>
  <dc:description/>
  <dc:language>en-US</dc:language>
  <cp:lastModifiedBy>Vince Hardy</cp:lastModifiedBy>
  <dcterms:modified xsi:type="dcterms:W3CDTF">2007-01-12T21:51:41Z</dcterms:modified>
  <cp:revision>23</cp:revision>
  <dc:subject/>
  <dc:title>What’s the difference between weather and climate?</dc:title>
</cp:coreProperties>
</file>