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426E-555E-4BE6-8412-3C3DB87E7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A184-BC96-4390-B35C-7B72FF9CB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521D-EC78-4CCC-A1B1-7EC7B50B4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E4BD-D4D3-4B59-B9AF-431E58A0F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0D1D-6C0C-45AA-A1F9-5410B0B85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4962-D842-4F7B-9717-A94612B0B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D83A-F00A-441C-910E-2658DE20C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9EDE-BB66-4232-8E11-ADFE95FE0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0900-9086-44DD-B41F-378C88D69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DB21-93A4-4BFE-9190-0B6CF7EC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CF5F-0095-4A66-B52F-13F7EC4A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CE3C-51AA-47B2-A489-848A869A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DF5F5-E51C-4C12-B1A5-3207F7627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st Nile Vi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oss of coordination, tremors, depression, weak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053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rough bite of infected mosqui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8:33Z</dcterms:created>
  <dc:creator>Texas A&amp;M Veterinary Medicine</dc:creator>
  <dc:description/>
  <dc:language>en-US</dc:language>
  <cp:lastModifiedBy>Texas A&amp;M Veterinary Medicine</cp:lastModifiedBy>
  <dcterms:modified xsi:type="dcterms:W3CDTF">2007-09-03T13:28:35Z</dcterms:modified>
  <cp:revision>1</cp:revision>
  <dc:subject/>
  <dc:title>West Nile Virus</dc:title>
</cp:coreProperties>
</file>