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FCCF-80A8-4C5E-AA58-48ECB604C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5386-551F-45AB-BDA9-DF440A1BB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3278-3B1A-425C-8431-BCEB0C79C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25DC-2E7B-44D9-BD10-F19638A14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6AF8-7C32-4A5C-BF5C-0E0663458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8E63-65E2-465A-8925-41D4398C3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DB95-0BEC-435F-9379-7B3E91C56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EACE-0B81-4090-AF0B-313141921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AEFE-C0C1-41A3-9D9A-37A38790D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6A9B-9421-4852-A5F8-713A19D6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60C9-031A-47BD-86F0-83BE9C80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84CB-098E-438F-B663-C9344EC1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7D99E-B73C-4F57-BC89-747BCDEBBBA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y diarrhea, rapid dehydration, vomiting, leg cr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5360" y="3664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food/water, contaminated feces of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2:25Z</dcterms:modified>
  <cp:revision>48</cp:revision>
  <dc:subject/>
  <dc:title>Hazards</dc:title>
</cp:coreProperties>
</file>