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EEDB-19E0-44D2-8918-AC1478E84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C718-95B6-4BE3-9B43-C5AFE297C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2BA8-0EEA-41E1-B79D-80B109C92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4820-727E-4CEE-BD01-101FD2DFE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4BB0-83FB-42F9-9156-BBBA2D00C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A8B7-60DD-48ED-8A9C-C52343CBD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8888-45B2-4867-B941-4F016732D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EEAD-38F4-441D-ABD2-B030D2B65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C986-FDC1-48C3-A63A-0ED4CA892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0F88-363D-4833-B283-C387B34F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8C28-4993-442F-B992-E914041F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D44A-2F42-4675-B93A-C632A283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25BCC-63AC-4D81-BD87-2F3406E021D9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jective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jectives modify nouns or pronou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Using adjectives gives an accurate description of the object at hand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?  What kind?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 many?  How much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21:31:57Z</dcterms:created>
  <dc:creator>ITMD</dc:creator>
  <dc:description/>
  <dc:language>en-US</dc:language>
  <cp:lastModifiedBy>vhardy</cp:lastModifiedBy>
  <dcterms:modified xsi:type="dcterms:W3CDTF">2002-12-19T23:01:26Z</dcterms:modified>
  <cp:revision>61</cp:revision>
  <dc:subject/>
  <dc:title>Locating Places</dc:title>
</cp:coreProperties>
</file>