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AAEB-6887-4D66-BEDE-3C5634022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D8E6-14B3-4347-830D-EBBE8DCFF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9635-A16E-4A15-A967-C5C332062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A2FB-4BB0-4731-A233-2E5CE0348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C8C7-1203-44B0-AEE0-A74A0C509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0006-79E4-4905-954E-C9C3A6EA3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C160-A00A-4F73-AA9B-BD3E93B98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A7D8-E53E-4F7D-A966-C879816AD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2EFF-053C-48CC-BFBD-4994E7C60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0D38-29DB-4F09-8517-45C221D82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92A6-48FF-400B-A814-66576FB5C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AB45-B365-41C9-B4F4-38EC55F35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D5B43-B9E9-4665-B815-FEF05306A5D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rown Lu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hortness of breath, coughing, and wh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339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ong-term inhalation of cotton, flax, or hemp d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1:07Z</dcterms:modified>
  <cp:revision>46</cp:revision>
  <dc:subject/>
  <dc:title>Hazards</dc:title>
</cp:coreProperties>
</file>