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48EEC-38F7-4176-A3A3-D5B203A770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9764-A345-4F8C-878B-8673F4630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8FEA-6200-4EA6-8BF0-9F0E70D68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7125-0ECC-4609-88C3-967DF9929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6CA1-D156-44EB-A663-571E6D0EB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42F8-EF6D-41E7-B056-F69F3A903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3E78-3313-4552-B1C1-1CE7DE51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F6F2-B580-45F8-86E3-85DAE914D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2E8C-B183-463F-9357-3C3CF19FF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9853-7F61-4440-B95B-37F33B6E8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12C0-A206-4075-94EA-475BFC12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71A2-0F80-4317-8BA3-40EAE546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F95A-CB63-4A62-8E25-40271261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54C2A-6AA6-4E9A-9484-01836A9BB69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itstudent</cp:lastModifiedBy>
  <dcterms:modified xsi:type="dcterms:W3CDTF">2002-08-06T19:36:29Z</dcterms:modified>
  <cp:revision>23</cp:revision>
  <dc:subject/>
  <dc:title>To Sum It All Up…</dc:title>
</cp:coreProperties>
</file>