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EA87-BB98-4D5A-91A5-C6EB864BD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hropologists often work with archaeologists in an effort to fully understand a society.  Physical artifacts that archaeologists find help anthropologists determine what was important to past civilizations and how a society’s daily routine would have been affected by its values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3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sources to locate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rcheology ge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F) Choose and appropriate form of individual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A) Generate ideas and plans for writing by using prewriting strate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0 (E) Present information in various forms using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 (A) Select, organize, or produce visuals to complement and extend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D) Create written and visua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E) Construct graphs, tables, maps, and charts to evaluate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E) Construct visual aids using tools including computers to analyze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E) Construct visuals using tools to organize, examine, and evaluate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kissing bugs trypanosome poster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D) Describe mental images and text ev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Compare text events with personal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B) Determine characteristics of cultures through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A) Write to express, discover, record, develop, and reflect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C) Write to in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D) Create written and visua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E) Use standard grammar, spelling, sentence structure, and punct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grammar writing essay descriptive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3620-EB27-4624-AD7B-65CF14F8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B16D-2D23-42FB-BD63-83548CA7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58B5-C236-4C83-B1E8-656A98B0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78A-7310-488C-B3AF-A58EF805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087D-C811-47D7-9833-4667EEC4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3D1F-8205-4F79-9651-AD2F43B3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218E-9C35-4B27-8427-5393C74C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3317-ECA3-4C7B-A838-9010DB9A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F085-A80F-48D6-AA29-39A9CFC0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7AD2-DB78-4B6D-83D2-1AD344B4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DC6F-A2D0-4381-881A-F344EF9E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23C1-6108-41C3-9B36-96A8CEFA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0E9C-7D5A-4B8B-A051-1D67CB01C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bs.org/wgbh/nova/laventa/tryit.html" TargetMode="External"/><Relationship Id="rId3" Type="http://schemas.openxmlformats.org/officeDocument/2006/relationships/hyperlink" Target="http://www.pbs.org/wgbh/nova/laventa/tryit.html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Appendices/DescWriting/DescWrit.ppt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84280" y="1447560"/>
            <a:ext cx="777240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Internet to gather information about archaeology and archaeologists as well as anthropology and anthropolog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a poster that identifies the danger of kissing bugs and provides information on how to  respond after being b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 one-page essay that describes a place that lifts your spir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ing Toge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haeologists primarily study physical artifacts of civilizations.  Anthropologists, on the other hand, study the cultures and activities of civiliz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“The Kiss of the Assassin,” Robert is an anthropologist working at an archaeological dig site.  Why would an anthropologist be working at an archaeological di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archaeologists and anthropologists work togeth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An Archaeolog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have a high-speed Internet connection and a computer that supports “Shockwave,” you can try reconstructing a broken artifact 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Laven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(http://www.pbs.org/wgbh/nova/laventa/tryit.ht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290840" y="2133720"/>
            <a:ext cx="4496040" cy="30049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3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3200" y="622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read the W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1600" y="12412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491080"/>
                <a:tab algn="l" pos="5883120"/>
                <a:tab algn="l" pos="6340320"/>
                <a:tab algn="l" pos="703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 and his family knew the kiss or sting of the kissing bug was painful, but they did not understand how dangerous the bite of the bug could b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491080"/>
                <a:tab algn="l" pos="5883120"/>
                <a:tab algn="l" pos="6340320"/>
                <a:tab algn="l" pos="7031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034800"/>
            <a:ext cx="5029200" cy="26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a poster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s the dang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s the workers about the consequences of being b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information on how to  respond after being b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7323" t="0" r="7942" b="9231"/>
          <a:stretch/>
        </p:blipFill>
        <p:spPr>
          <a:xfrm>
            <a:off x="5657760" y="2719440"/>
            <a:ext cx="3254400" cy="3776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5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6440" y="35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pecial P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493640"/>
            <a:ext cx="807696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 describes the museum at Pachacamac as a place that “lifts the spirits of Peru.”  Why does this place “lift his spirits”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 one-page essay that describes a place that lifts your spirits.  Explain why you think the place has this effec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paint a picture with words so that your readers can form a mental image of the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three reasons why the place is special to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principles of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descriptive wri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help build your ess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79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0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2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9:51:27Z</dcterms:created>
  <dc:creator>wklemm</dc:creator>
  <dc:description/>
  <dc:language>en-US</dc:language>
  <cp:lastModifiedBy>College of Veterinary Medicine</cp:lastModifiedBy>
  <dcterms:modified xsi:type="dcterms:W3CDTF">2008-01-02T17:52:26Z</dcterms:modified>
  <cp:revision>29</cp:revision>
  <dc:subject/>
  <dc:title>Objectives – English 1</dc:title>
</cp:coreProperties>
</file>