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4ED2-47BF-4F49-B26A-BA5259514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584D-8CC8-48B1-BFF0-F2A6F19C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53F7-B94F-40BD-B079-64CDA1222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618D-7FE5-4AD5-9B35-D3F09257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EA55-6F5D-4868-BD61-71B93AB9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05BD-57EF-4B6F-9EE5-37F87248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F9EC-34AD-4DFE-A8FD-AE0AD1BB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A7AD-24CF-4E4C-9F31-66D55D30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854D-616D-431D-8E86-40490B81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8508-6152-4EC4-A038-58D2D700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1D8E-C935-4F19-9C93-0386FADB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254A-38F7-4658-B70E-66E1669A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650C-B15C-4118-AB07-C167E67AC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9:05Z</dcterms:created>
  <dc:creator>Texas A&amp;M Veterinary Medicine</dc:creator>
  <dc:description/>
  <dc:language>en-US</dc:language>
  <cp:lastModifiedBy>Texas A&amp;M Veterinary Medicine</cp:lastModifiedBy>
  <dcterms:modified xsi:type="dcterms:W3CDTF">2007-09-03T13:29:07Z</dcterms:modified>
  <cp:revision>1</cp:revision>
  <dc:subject/>
  <dc:title>Lead Poisoning</dc:title>
</cp:coreProperties>
</file>