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F825-674E-4E19-8680-65B3F09C3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6.10 (C, H, K, M), 6.11 (C), 6.12 (F, G, K), 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CB20-FCD6-4201-85C3-D84F54D7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397B-BAAB-4506-B967-7A3B8E17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5138-76CB-4A6C-BC6F-D6A96F789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5F26-E8D0-457F-879E-6EEBED98B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8F16-F66A-444B-88A1-5FC1C347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5D9F-D57A-4938-8448-FAA7F998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DAD2-2D1B-46B6-9168-1F4A0742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3625-D318-451C-ACB0-A1EFD880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A080-24B1-4A19-B6B6-29FE6D16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3299-7479-464D-9E96-315354F5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AD65-E6E0-496E-9261-B2832A57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ACF1-2939-40F2-B03E-86A99861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8F5A-2568-4AFE-A40B-A3C3590015C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ntomologist studies …</a:t>
            </a:r>
            <a:br>
              <a:rPr sz="3200"/>
            </a:br>
            <a:br>
              <a:rPr sz="900"/>
            </a:b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i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e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212840" y="4308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217520" y="2540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21932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10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“kissing bug” was termed an “assassin” because i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important peop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polit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painful s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ed after it bit someo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222200" y="47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1225440" y="355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219320" y="41464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132440" y="511812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213000" y="2857680"/>
            <a:ext cx="27910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obert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villai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Peruvian n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nthropologi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etired teac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’s bro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89400" y="0"/>
            <a:ext cx="5754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11400" y="43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16080" y="254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14280" y="313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17520" y="372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11400" y="4913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 New Roman"/>
              <a:buAutoNum type="arabicPeriod" startAt="2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onnie and Roman could not have prevented the crime in this story without the help of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r. Bak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lcol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7240" y="3387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2544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9320" y="4586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2200" y="5789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ft of which one of the following was the focus of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eap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are monk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7240" y="2951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25440" y="355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9320" y="41432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villain in the story plans to blame the crime on …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be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225440" y="35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219320" y="4141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222200" y="5330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120" y="1714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ction in this story occur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(only) at an archaeological dig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loma,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in a United States museu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school that Connie and Roman att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th in Peru and in the Unite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oat traveling to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220760" y="459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227240" y="248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225440" y="33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227240" y="3989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222200" y="5178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6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Miguel’s family lived in a(n)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rge dormi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obe hu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l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use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212840" y="4314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217520" y="254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21932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large swelling above the eye of Miguel’s sister was caused by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hit from a softb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g bi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dic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kin disea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227240" y="2955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224000" y="3549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219320" y="4138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spry’s reaction to the safe return of the Peruvian artifacts to the museum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227240" y="3382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225440" y="39924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1219320" y="4591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15:07:59Z</dcterms:created>
  <dc:creator>Dr. Deborah Kochevar</dc:creator>
  <dc:description/>
  <dc:language>en-US</dc:language>
  <cp:lastModifiedBy>Texas A&amp;M Veterinary Medicine</cp:lastModifiedBy>
  <dcterms:modified xsi:type="dcterms:W3CDTF">2007-09-04T19:23:48Z</dcterms:modified>
  <cp:revision>91</cp:revision>
  <dc:subject/>
  <dc:title>Investigator’s Challenge</dc:title>
</cp:coreProperties>
</file>