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ACC237C-5EA7-43F1-88F3-15709E85CD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Conjectures from Patterns or Sets of Examples/Non-exam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–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7571-2E3B-46B0-9FA8-AA91C77DF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8A45-16A6-4484-A05F-D6A960620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4ABA-7FB2-498D-81F9-9A4D6CB08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FB1A-FDFC-46D1-BCA3-EAD808377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869C-0889-4B7E-8FE4-4EB6FC980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941B-4A65-4040-AB19-570E2CD42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5EBB-2312-4F5F-BE7E-C6CF2C434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0FEC-08D8-4CF6-A12C-65E3BA835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2E50-3757-40B3-AD61-5FFDD72B6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5A20-5AC8-4F95-87C0-165B8B07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AB39-0A53-4BAC-AFE2-12CF4885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F12B-1212-473B-8C84-EE85A297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37A7F-C6D1-417A-AE63-669D74E8869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limograph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A climograph is a graph that displays average (mean) precipitation and temperature for an area.  It is used to compare the climate in different places. 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WeatherMan" descr=""/>
          <p:cNvPicPr/>
          <p:nvPr/>
        </p:nvPicPr>
        <p:blipFill>
          <a:blip r:embed="rId2"/>
          <a:stretch/>
        </p:blipFill>
        <p:spPr>
          <a:xfrm>
            <a:off x="4038480" y="3962520"/>
            <a:ext cx="235440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838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paring Your Own Climo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43828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print a blank climograph and use it to make your own climograph.  Refer back to this appendix if you need directions to make your own climo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f you go to www.worldclimate.com, you can find average monthly precipitation for many places in a chart like this one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rick to reading charts and graphs is finding a patter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precipitation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here more precipitation in the summer months or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2438280"/>
            <a:ext cx="8229600" cy="1128600"/>
            <a:chOff x="380880" y="2438280"/>
            <a:chExt cx="8229600" cy="1128600"/>
          </a:xfrm>
        </p:grpSpPr>
        <p:sp>
          <p:nvSpPr>
            <p:cNvPr id="54" name=""/>
            <p:cNvSpPr/>
            <p:nvPr/>
          </p:nvSpPr>
          <p:spPr>
            <a:xfrm>
              <a:off x="7924680" y="320040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49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1160" y="320040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48280" y="320040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575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718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8284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95680" y="320040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08160" y="320040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1920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3348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427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570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0360" y="320040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880" y="320040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ch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1916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24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160" y="281916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3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48280" y="281916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575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9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718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8284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8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281916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9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08160" y="281916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1920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3348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427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570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360" y="281916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4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880" y="281916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4680" y="243828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91160" y="243828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48280" y="243828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575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718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8284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243828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8160" y="243828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920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348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27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570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90360" y="243828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ebebeb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ebeb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880" y="243828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880" y="24382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281916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0880" y="320040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5668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8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03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570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427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334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92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08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5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8284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18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575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82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104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eople construct climographs to compare climates in different places.  Climographs convert lots of numerical data to a simple display of bars and lines.  Because they are so simple, climographs make it easy to see patterns in climate and to compare the climates in different plac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590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xis (vertical)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ith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verag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ecipitation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evels in inches.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s exampl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ses intervals of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 inches between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71800" y="4876560"/>
            <a:ext cx="510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precipitation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0" name="Precip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485784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66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For our example, the January average precipitation was 2.1 inches, so we drew a bar over  January reaching the 2.1 level on the y-axis of the graph.  Graph the precipitation data for the remaining months in the same way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90760" y="48769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Next, plot the average precipitation for January by drawing a bar over January </a:t>
            </a:r>
            <a:br>
              <a:rPr sz="1800"/>
            </a:b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aching up to the amount of precipitation listed for that month.</a:t>
            </a:r>
            <a:br>
              <a:rPr sz="1800"/>
            </a:b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4" name="Prec" descr=""/>
          <p:cNvPicPr/>
          <p:nvPr/>
        </p:nvPicPr>
        <p:blipFill>
          <a:blip r:embed="rId2"/>
          <a:stretch/>
        </p:blipFill>
        <p:spPr>
          <a:xfrm>
            <a:off x="3600360" y="171468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emperatu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ww.worldclimate.com can also give you a chart on average temperature for many places.  Here are the average monthly temperatures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ember, the key to reading graphs is looking for a pattern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temperature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it hotter in the summer or in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2514600"/>
            <a:ext cx="8229600" cy="1128600"/>
            <a:chOff x="457200" y="2514600"/>
            <a:chExt cx="8229600" cy="1128600"/>
          </a:xfrm>
        </p:grpSpPr>
        <p:sp>
          <p:nvSpPr>
            <p:cNvPr id="128" name=""/>
            <p:cNvSpPr/>
            <p:nvPr/>
          </p:nvSpPr>
          <p:spPr>
            <a:xfrm>
              <a:off x="8001000" y="327672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67480" y="327672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24600" y="327672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338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4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81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916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327672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4480" y="327672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9552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0980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1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90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33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327672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9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327672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01000" y="289548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7480" y="289548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24600" y="289548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338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3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481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5916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289548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84480" y="289548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9552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5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980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190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333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289548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289548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01000" y="251460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251460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24600" y="251460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338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81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5916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251460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84480" y="251460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9552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0980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190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333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6680" y="251460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51460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25146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289548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6432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333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190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098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955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84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5916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81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338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67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01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868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95480" y="4952520"/>
            <a:ext cx="55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temperature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1447560"/>
            <a:ext cx="2286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axis (vertical) with the average temperature levels in degrees Fahrenheit.  This example uses intervals of 20 degrees between 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2" name="Temp" descr=""/>
          <p:cNvPicPr/>
          <p:nvPr/>
        </p:nvPicPr>
        <p:blipFill>
          <a:blip r:embed="rId2"/>
          <a:stretch/>
        </p:blipFill>
        <p:spPr>
          <a:xfrm>
            <a:off x="3276720" y="1752480"/>
            <a:ext cx="4857480" cy="27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152360"/>
            <a:ext cx="335304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Next, plot the average temperature for January by placing a dot over January at the average temperature for that month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or our example, the January average temper-ature was 59.9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F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, so we placed a dot over January at the 59.9 level on the y-axis of the graph.  Graphing the remaining temperature data in the same way for each month and for the year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14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inally, connect the dots!  Draw a line from the dot for January and continue through the dot for December. 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connect the dot for the yearly average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6" name="Temp" descr=""/>
          <p:cNvPicPr/>
          <p:nvPr/>
        </p:nvPicPr>
        <p:blipFill>
          <a:blip r:embed="rId2"/>
          <a:stretch/>
        </p:blipFill>
        <p:spPr>
          <a:xfrm>
            <a:off x="3828960" y="137160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37160"/>
            <a:ext cx="7772400" cy="71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br>
              <a:rPr sz="4400"/>
            </a:b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climograph includes both the average precipitation and the average temperature data.  When you combine the two previous graphs, your climograph should look like this one</a:t>
            </a:r>
            <a:br>
              <a:rPr sz="2400"/>
            </a:br>
            <a:br>
              <a:rPr sz="1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800"/>
            </a:br>
            <a:br>
              <a:rPr sz="2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2000"/>
            </a:br>
            <a:br>
              <a:rPr sz="20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sure to include a title for your graph and a key showing the symbols that represent the average precipitation and the average temperature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8" name="Clim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8578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5:38:51Z</dcterms:created>
  <dc:creator>Charles C. Farnsworth, Ph.D. - Instructional Design</dc:creator>
  <dc:description/>
  <dc:language>en-US</dc:language>
  <cp:lastModifiedBy>ljlab</cp:lastModifiedBy>
  <cp:lastPrinted>2002-05-15T14:22:53Z</cp:lastPrinted>
  <dcterms:modified xsi:type="dcterms:W3CDTF">2003-09-11T17:22:57Z</dcterms:modified>
  <cp:revision>69</cp:revision>
  <dc:subject/>
  <dc:title>Climograph</dc:title>
</cp:coreProperties>
</file>