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6B543-192A-4EAB-AADF-B34E7E1767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8456-99D5-457D-8541-BD9CD3705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727A-8105-447D-944F-545B19F4B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88B2-8C83-4AEE-8E30-C0F5A889F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3FFD-9DB8-42D6-BD80-C0D577645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FB0F-E28A-472D-9EEB-53F2A81A2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D087-B1CA-42FE-8346-FB4185505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8AD2-E258-4EC7-B6D9-5952CFAF8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C1DD-3FA9-4F75-BD3D-BE09BB12D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8E24-7346-46A6-8AA7-47ED7B944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776C-F389-41D6-91A1-AB31AD63D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91A2-7127-4AC4-8BA5-20FFCC89E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45E9-71C0-4009-8D83-F46E63504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3D17D-D756-48DC-A56E-BDA732444020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../Appendices/Social%20Studies/AbsoLoca.ppt" TargetMode="External"/><Relationship Id="rId4" Type="http://schemas.openxmlformats.org/officeDocument/2006/relationships/hyperlink" Target="AbsoLoca.ppt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../Appendices/Social%20Studies/AbsoLoca.ppt" TargetMode="External"/><Relationship Id="rId4" Type="http://schemas.openxmlformats.org/officeDocument/2006/relationships/hyperlink" Target="AbsoLoca.ppt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../Appendices/Social%20Studies/AbsoLoca.ppt" TargetMode="External"/><Relationship Id="rId4" Type="http://schemas.openxmlformats.org/officeDocument/2006/relationships/hyperlink" Target="AbsoLoca.ppt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021120" y="484200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42400" y="4419720"/>
            <a:ext cx="585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.  What city is located at 14° S.L., 72° W.L.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2603520" y="494496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2610000" y="539424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2606760" y="58212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2606760" y="626112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021120" y="485136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707480" y="4419720"/>
            <a:ext cx="623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  What city is located at 17.5° S.L., 71° W.L.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2603520" y="494496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2610000" y="539424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2606760" y="58212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2606760" y="626112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eturn to the 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The latitude for the center of Peru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3333ff"/>
                </a:solidFill>
                <a:uFillTx/>
                <a:latin typeface="Times New Roman"/>
                <a:hlinkClick r:id="rId4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 The longitude for the center of Peru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6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3333ff"/>
                </a:solidFill>
                <a:uFillTx/>
                <a:latin typeface="Times New Roman"/>
                <a:hlinkClick r:id="rId4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0" y="3170160"/>
          <a:ext cx="2173320" cy="517680"/>
        </p:xfrm>
        <a:graphic>
          <a:graphicData uri="http://schemas.openxmlformats.org/drawingml/2006/table">
            <a:tbl>
              <a:tblPr/>
              <a:tblGrid>
                <a:gridCol w="216000"/>
                <a:gridCol w="19573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7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 The absolute location of Peru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° S.L. and 75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0" y="0"/>
            <a:ext cx="9144000" cy="49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3333ff"/>
                </a:solidFill>
                <a:uFillTx/>
                <a:latin typeface="Times New Roman"/>
                <a:hlinkClick r:id="rId4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343240" y="4952880"/>
            <a:ext cx="51102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latitude for Lima i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513160" y="333360"/>
            <a:ext cx="4116240" cy="441972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513160" y="333360"/>
            <a:ext cx="4116240" cy="441972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88" name=""/>
          <p:cNvSpPr/>
          <p:nvPr/>
        </p:nvSpPr>
        <p:spPr>
          <a:xfrm>
            <a:off x="2343240" y="4952880"/>
            <a:ext cx="52308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longitude for Lim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6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513160" y="333360"/>
            <a:ext cx="4116240" cy="441972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95" name=""/>
          <p:cNvSpPr/>
          <p:nvPr/>
        </p:nvSpPr>
        <p:spPr>
          <a:xfrm>
            <a:off x="2343240" y="4952880"/>
            <a:ext cx="60087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bsolute location of Lim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° S.L. and 76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05280" y="484200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42760" y="4419720"/>
            <a:ext cx="57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.  What city is located at 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, 80° W.L.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603520" y="494496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2610000" y="539424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2606760" y="58212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2606760" y="626112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003480" y="487044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742400" y="4419720"/>
            <a:ext cx="570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.  What city is located at 4° S.L., 74° W.L.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1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603520" y="494496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2610000" y="539424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2606760" y="58212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2606760" y="626112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8T15:50:44Z</dcterms:created>
  <dc:creator>WKlemm</dc:creator>
  <dc:description/>
  <dc:language>en-US</dc:language>
  <cp:lastModifiedBy>Texas A&amp;M Veterinary Medicine</cp:lastModifiedBy>
  <cp:lastPrinted>2002-05-17T17:38:54Z</cp:lastPrinted>
  <dcterms:modified xsi:type="dcterms:W3CDTF">2007-08-29T18:55:45Z</dcterms:modified>
  <cp:revision>656</cp:revision>
  <dc:subject/>
  <dc:title>Investigate the Mystery:</dc:title>
</cp:coreProperties>
</file>