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49E2-017C-4DEF-901B-BA39DBC81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,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pplying knowledge of language structure to recogniz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Locating words using dictionaries, glossaries and other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, C, 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Regular reading of independent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Demonstrating fluency and effec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Adjustment of reading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C), Using multiple reference 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, 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, Composing original texts while applying the conventions of written language to communicat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, Applying standard grammar and usage to communicate clearly and effectively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, Using writing processes for self-initiated and assigned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C), Writing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Interpret idioms, analogies, and multiple-meaning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vocabulary language dictionary glossary vocabulary challe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H) Use compiled information and knowledge to raise additional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C) Write to in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A) Write legibly using cursive or manuscript as appropri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A) Use regular and irregular plurals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B) Write compound and complex sentences with both types of cla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 Use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E) Use prepositional phrases to elaborate writte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H) Use apostrophes in contractions with increasing correc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E) Use standard grammar, spelling, sentence structure, and punct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descriptive writing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language senses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on “Adjective” or “Adverb” for more hel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grammar lang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G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W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W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language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C), Writing to in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E) Use standard grammar, spelling, sentence structure, and punct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language descriptive wri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2C4-A44A-48A8-BFBB-B9202C85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E65-0B1B-4472-B02B-0281E1FD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169-F0C3-4C94-913C-8720F7A1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4E9-8C9E-4474-A264-E3FEACC3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4AF-680B-4FF2-AECD-1ADAE9AA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3BB-5622-4822-97D8-3FFC60DB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A3F-5619-4979-99EA-88A0A0EA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AEC-AECE-4A51-BD53-2DE24423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B46-A3FA-45CE-9F82-369E9C6D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425-18F3-4983-8558-949089ED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5F8-0851-45A9-9BD4-F06BA0A0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582-0DF1-4C24-A97A-F7F899F8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A704-4044-43DE-AA98-947D49621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djctv.ppt" TargetMode="External"/><Relationship Id="rId3" Type="http://schemas.openxmlformats.org/officeDocument/2006/relationships/hyperlink" Target="file:///Appendices/Advrbs.ppt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new vocabulary words from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descriptive essay about an archeological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definitions of adjectives and 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n essay that demonstrates proper use of adjectives and 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644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new words will help to improve your writing and reading. Look through “The Kiss of the Assassin” and identify words that are unfamiliar to yo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in the Glossary of Terms to help find definitions of these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he Vocabulary Challenge to see if you are an expert Word Explor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91320" y="1536840"/>
            <a:ext cx="2857320" cy="43322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Artifacts Could Talk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from the story that the archaeological dig was located in Paloma, a village that had been inhabited continuously for 7,700 yea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 that you are Miguel’s father and that you have just unearthed an artifact at the Paloma si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 what that object might have been and describe it. Remember the key points to include in a descriptive ess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39560" y="1828800"/>
            <a:ext cx="88567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the defin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adjective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five sens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list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ectives to descri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icture.  Include sight, sound, smell, taste or touch wor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China"/>
          <p:cNvPicPr/>
          <p:nvPr/>
        </p:nvPicPr>
        <p:blipFill>
          <a:blip r:embed="rId2"/>
          <a:stretch/>
        </p:blipFill>
        <p:spPr>
          <a:xfrm>
            <a:off x="4572000" y="1949400"/>
            <a:ext cx="4191120" cy="27306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713880" y="5425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or we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” is a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djec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modifies a noun. For example: “The kissing bug is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ample of a type of bug called a reduvid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” is a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adver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modifies a verb.  It can also be used as an adjective to refer to the state of someone’s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“feel good” means to be in good spirits. “Good” modifies “spirit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fel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he had seen the precious ancient rel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“feel well” means to be in good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’s sister did not fee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She had a f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6440" y="4665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or we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 in the blanks with “good” or “well,” then tell whether each word is acting as an adjective or an adverb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did a _______ job of helping Robert pack up the ship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and Robert worked _______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’s father had not been feeling ______ for a lo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1036_001"/>
          <p:cNvPicPr/>
          <p:nvPr/>
        </p:nvPicPr>
        <p:blipFill>
          <a:blip r:embed="rId2"/>
          <a:stretch/>
        </p:blipFill>
        <p:spPr>
          <a:xfrm>
            <a:off x="3743280" y="1749600"/>
            <a:ext cx="5019840" cy="33130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ay in Peru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14600"/>
            <a:ext cx="3289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scene in the picture to begin to understand the daily life of a village in Peru.  Use adjectives and adverbs to make your writing vivid and precise.  Begin by describing what you see with adjectives, then add actions and life with adver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7:51:46Z</dcterms:modified>
  <cp:revision>29</cp:revision>
  <dc:subject/>
  <dc:title>Objectives – English 1</dc:title>
</cp:coreProperties>
</file>