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939EC-9F12-4BFB-8AD3-F628CA9CF1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oes not contain the full text of the TEKS.  It is intended to be a guide to, not a substitute for, the TEK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A97B4B-A5D6-41EA-96F1-8777190CDE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EE0B2-0F88-4EA9-92C3-E045FD75E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82AFC9-43D2-47A0-B273-D5497C0DCD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2003F0-F318-453F-A852-1E37B91F20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A5392-C27E-45F1-99D2-9E7F1CF41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7E60B-873D-4FAD-80A2-67117CE16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F3B04-22BB-41AF-942D-57C559CF4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A7DC6-2595-4121-9E10-7A710BC2B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15277-A88B-4D7D-ACAC-7A32C3E0E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EFCCB-B7C2-44AA-AE16-2D3BDBA35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E95A3-9DC1-446C-93CA-86DD3FB5F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D624C-5B01-4D88-969F-EA2D2AFC6C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E9FCF-9412-467D-891F-00A02DBB287A}"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vhardy</cp:lastModifiedBy>
  <dcterms:modified xsi:type="dcterms:W3CDTF">2003-05-21T21:23:34Z</dcterms:modified>
  <cp:revision>25</cp:revision>
  <dc:subject/>
  <dc:title>Persuasive Writing</dc:title>
</cp:coreProperties>
</file>