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786E-2DCB-4EF5-85B0-782ADF284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B617-C9F5-4FF7-B8A8-7D45CF318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7109-5DAD-453E-BB2D-DDD9806C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1969-AC42-4F19-9949-5D3A26C31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554A-2106-4B80-A33A-52BFE2F2A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A74C-5BA9-4E64-8686-2BF9072D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5E4F-63B9-4367-8142-540EEDC9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5ACE-4317-4AD6-989D-6BA9324A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8B41-7C2F-413A-B62D-DF21FBB8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E3C3-C8EB-40F9-8951-99D2F1F0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BF53-7BA6-4419-A654-66BCFA87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BC4E-3E55-42CB-AF43-3D5B5BF9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4A46-7753-48BC-B831-5FD453E8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DF8D-538F-4559-9D77-DAF165359BC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1-16T18:50:08Z</dcterms:modified>
  <cp:revision>28</cp:revision>
  <dc:subject/>
  <dc:title>Descriptive Writing</dc:title>
</cp:coreProperties>
</file>