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980238" cy="9237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980400" cy="923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243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55680" y="-360"/>
            <a:ext cx="30243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81160" y="692280"/>
            <a:ext cx="4618080" cy="3463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29880" y="4387320"/>
            <a:ext cx="511956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773920"/>
            <a:ext cx="30243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55680" y="8773920"/>
            <a:ext cx="30243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66D3B6A1-1F90-48A3-9CB6-3CEC2AB4DB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974880" y="615960"/>
            <a:ext cx="5029200" cy="377172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929880" y="4387320"/>
            <a:ext cx="511956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TE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974880" y="615960"/>
            <a:ext cx="5029200" cy="377172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929880" y="4387320"/>
            <a:ext cx="511956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A, C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 Compare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 Integers in Real-lif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4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present Proportions/Conversions using Tables and Symbol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1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 Appropriate Problem-Solving Model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3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Conjectures from Patterns or Sets of Examples/Non-exampl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1 (A), 7.4 (C), 7.11 (B), 7.15 (A), 8.1 (A), 8.3 (A), 8.5 (A), 8.16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974880" y="615960"/>
            <a:ext cx="5029200" cy="377172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929880" y="4387320"/>
            <a:ext cx="511956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TE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974880" y="615960"/>
            <a:ext cx="5029200" cy="377172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29880" y="4387320"/>
            <a:ext cx="511956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TE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974880" y="615960"/>
            <a:ext cx="5029200" cy="377172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929880" y="4387320"/>
            <a:ext cx="511956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th –6.1 (A, C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 Compare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 Integers in Real-lif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4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present Proportions/Conversions using Tables and Symbol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1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 Appropriate Problem-Solving Model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1 (A), 7.4 (C), 7.11 (B), 7.15 (A), 8.1 (A), 8.3 (A), 8.5 (A), 8.16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974880" y="615960"/>
            <a:ext cx="5029200" cy="377172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929880" y="4387320"/>
            <a:ext cx="511956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TE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974880" y="615960"/>
            <a:ext cx="5029200" cy="377172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929880" y="4387320"/>
            <a:ext cx="511956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TE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974880" y="615960"/>
            <a:ext cx="5029200" cy="377172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929880" y="4387320"/>
            <a:ext cx="511956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TE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9F376-9059-4357-83BA-E8BF42A9DA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160EA-73A4-42E0-9750-04118DDE2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ED126-BBAF-4B57-B8BF-8349F1E661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13B2F-F3FB-419F-AB5E-0FCD7B7C61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8C214-EF27-47D5-87C5-BDE46F6F7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FD6D1-1F52-4991-95F2-9E7DD76D1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A4B2B-A91C-497A-9253-4B43265BF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E9447-38B2-4A21-BF02-5ACB16C42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56841-1603-4774-8DD2-812805128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FA50F-3A5F-47A7-82CF-10A83CB10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F1C14-1BD6-429C-A7E8-A5381285E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DE6B7-0052-40C9-ADB9-9D19934DE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6B33E-14FD-4066-AF8B-F0E2536E88CB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Climograph.doc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mograph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A climograph is a graph that displays average (mean) precipitation and temperature for an area.  It is used to compare the climate in different places.    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0" name="WeatherMan" descr=""/>
          <p:cNvPicPr/>
          <p:nvPr/>
        </p:nvPicPr>
        <p:blipFill>
          <a:blip r:embed="rId2"/>
          <a:stretch/>
        </p:blipFill>
        <p:spPr>
          <a:xfrm>
            <a:off x="4038480" y="3962520"/>
            <a:ext cx="2354400" cy="2342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457200" y="838080"/>
            <a:ext cx="8305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Preparing Your Own Climograp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371600" y="2438280"/>
            <a:ext cx="6629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lick </a:t>
            </a:r>
            <a:r>
              <a:rPr b="0" lang="en-US" sz="28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here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to print a blank climograph and use it to make your own climograph.  Refer back to this appendix if you need directions to make your own climograph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Precipitation Pattern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f you go to www.worldclimate.com, you can find average monthly precipitation for many places in a chart like this one for Orlando, Florida: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trick to reading charts and graphs is finding a pattern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623880" indent="-23976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at patterns do you see in the average precipitation data for Orlando, Florida?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623880" indent="-23976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s there more precipitation in the summer months or the winter months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623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380880" y="2438280"/>
            <a:ext cx="8229600" cy="1128600"/>
            <a:chOff x="380880" y="2438280"/>
            <a:chExt cx="8229600" cy="1128600"/>
          </a:xfrm>
        </p:grpSpPr>
        <p:sp>
          <p:nvSpPr>
            <p:cNvPr id="54" name=""/>
            <p:cNvSpPr/>
            <p:nvPr/>
          </p:nvSpPr>
          <p:spPr>
            <a:xfrm>
              <a:off x="7924680" y="3200400"/>
              <a:ext cx="68580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49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7391160" y="3200400"/>
              <a:ext cx="5335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848280" y="3200400"/>
              <a:ext cx="54288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6257520" y="3200400"/>
              <a:ext cx="5907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3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5671800" y="3200400"/>
              <a:ext cx="5857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.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5082840" y="3200400"/>
              <a:ext cx="5889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.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495680" y="3200400"/>
              <a:ext cx="5871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7.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908160" y="3200400"/>
              <a:ext cx="5875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.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319200" y="3200400"/>
              <a:ext cx="5889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3.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733480" y="3200400"/>
              <a:ext cx="5857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.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142720" y="3200400"/>
              <a:ext cx="5907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3.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557000" y="3200400"/>
              <a:ext cx="5857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.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990360" y="3200400"/>
              <a:ext cx="56664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80880" y="3200400"/>
              <a:ext cx="60948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249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imes New Roman"/>
                </a:rPr>
                <a:t>inche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7924680" y="2819160"/>
              <a:ext cx="68580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1247.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391160" y="2819160"/>
              <a:ext cx="5335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53.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6848280" y="2819160"/>
              <a:ext cx="54288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52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6257520" y="2819160"/>
              <a:ext cx="5907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79.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671800" y="2819160"/>
              <a:ext cx="5857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6.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082840" y="2819160"/>
              <a:ext cx="5889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8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4495680" y="2819160"/>
              <a:ext cx="5871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97.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908160" y="2819160"/>
              <a:ext cx="5875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72.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319200" y="2819160"/>
              <a:ext cx="5889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83.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733480" y="2819160"/>
              <a:ext cx="5857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0.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2142720" y="2819160"/>
              <a:ext cx="5907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86.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557000" y="2819160"/>
              <a:ext cx="5857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72.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990360" y="2819160"/>
              <a:ext cx="56664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54.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80880" y="2819160"/>
              <a:ext cx="60948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924680" y="2438280"/>
              <a:ext cx="68580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Ye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391160" y="2438280"/>
              <a:ext cx="5335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Dec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6848280" y="2438280"/>
              <a:ext cx="54288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Nov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257520" y="2438280"/>
              <a:ext cx="5907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Oct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671800" y="2438280"/>
              <a:ext cx="5857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Se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082840" y="2438280"/>
              <a:ext cx="5889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Aug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495680" y="2438280"/>
              <a:ext cx="5871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Jul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908160" y="2438280"/>
              <a:ext cx="5875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Jun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19200" y="2438280"/>
              <a:ext cx="5889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Ma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733480" y="2438280"/>
              <a:ext cx="5857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Apr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142720" y="2438280"/>
              <a:ext cx="5907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Mar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557000" y="2438280"/>
              <a:ext cx="5857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Feb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990360" y="2438280"/>
              <a:ext cx="56664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ebebeb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ebebeb"/>
                  </a:solidFill>
                  <a:latin typeface="Times New Roman"/>
                </a:rPr>
                <a:t>Jan.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80880" y="2438280"/>
              <a:ext cx="60948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0880" y="2438280"/>
              <a:ext cx="8229600" cy="0"/>
            </a:xfrm>
            <a:prstGeom prst="line">
              <a:avLst/>
            </a:prstGeom>
            <a:ln cap="sq" w="2844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80880" y="2819160"/>
              <a:ext cx="8229600" cy="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80880" y="3200400"/>
              <a:ext cx="8229600" cy="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0880" y="3566880"/>
              <a:ext cx="8229600" cy="0"/>
            </a:xfrm>
            <a:prstGeom prst="line">
              <a:avLst/>
            </a:prstGeom>
            <a:ln cap="sq" w="2844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880" y="2438280"/>
              <a:ext cx="0" cy="1128600"/>
            </a:xfrm>
            <a:prstGeom prst="line">
              <a:avLst/>
            </a:prstGeom>
            <a:ln cap="sq" w="2844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99036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55700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14272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273348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331920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390816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449568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508284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67180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25752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84828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739116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92468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610480" y="2438280"/>
              <a:ext cx="0" cy="1128600"/>
            </a:xfrm>
            <a:prstGeom prst="line">
              <a:avLst/>
            </a:prstGeom>
            <a:ln cap="sq" w="2844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ompare Pattern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People construct climographs to compare climates in different places.  Climographs convert lots of numerical data to a simple display of bars and lines.  Because they are so simple, climographs make it easy to see patterns in climate and to compare the climates in different places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Graphing Average Precipitation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25909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abel the y-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xis (vertical)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with th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verag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recipitation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evels in inches.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is exampl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uses intervals of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5 inches between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markings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2971800" y="4876560"/>
            <a:ext cx="51055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abel the x-axis (horizontal) with the months (Jan.-Dec.) and include a space for the yearly average precipitation at the end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20" name="Precip" descr=""/>
          <p:cNvPicPr/>
          <p:nvPr/>
        </p:nvPicPr>
        <p:blipFill>
          <a:blip r:embed="rId2"/>
          <a:stretch/>
        </p:blipFill>
        <p:spPr>
          <a:xfrm>
            <a:off x="3352680" y="1523880"/>
            <a:ext cx="4857840" cy="2695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12960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Graphing Average Precipitation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2666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bebeb"/>
                </a:solidFill>
                <a:latin typeface="Times New Roman"/>
              </a:rPr>
              <a:t>For our example, the January average precipitation was 2.1 inches, so we drew a bar over  January reaching the 2.1 level on the y-axis of the graph.  Graph the precipitation data for the remaining months in the same way.</a:t>
            </a: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bebeb"/>
                </a:solidFill>
                <a:latin typeface="Times New Roman"/>
              </a:rPr>
              <a:t>Remember to always label your x and y axis when drawing a graph and add a title for  the whole graph.</a:t>
            </a: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90760" y="4876920"/>
            <a:ext cx="38098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bebeb"/>
                </a:solidFill>
                <a:latin typeface="Times New Roman"/>
              </a:rPr>
              <a:t>Next, plot the average precipitation for January by drawing a bar over January </a:t>
            </a:r>
            <a:br>
              <a:rPr sz="1800"/>
            </a:br>
            <a:r>
              <a:rPr b="0" lang="en-US" sz="1800" spc="-1" strike="noStrike">
                <a:solidFill>
                  <a:srgbClr val="ebebeb"/>
                </a:solidFill>
                <a:latin typeface="Times New Roman"/>
              </a:rPr>
              <a:t>reaching up to the amount of precipitation listed for that month.</a:t>
            </a:r>
            <a:br>
              <a:rPr sz="1800"/>
            </a:b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24" name="Prec" descr=""/>
          <p:cNvPicPr/>
          <p:nvPr/>
        </p:nvPicPr>
        <p:blipFill>
          <a:blip r:embed="rId2"/>
          <a:stretch/>
        </p:blipFill>
        <p:spPr>
          <a:xfrm>
            <a:off x="3600360" y="1714680"/>
            <a:ext cx="4857840" cy="2705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Temperature Pattern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838080"/>
            <a:ext cx="7772400" cy="562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ww.worldclimate.com can also give you a chart on average temperature for many places.  Here are the average monthly temperatures for Orlando, Florida: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emember, the key to reading graphs is looking for a pattern!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at patterns do you see in the average temperature data for Orlando, Florida?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s it hotter in the summer or in the winter months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457200" y="2514600"/>
            <a:ext cx="8229600" cy="1128600"/>
            <a:chOff x="457200" y="2514600"/>
            <a:chExt cx="8229600" cy="1128600"/>
          </a:xfrm>
        </p:grpSpPr>
        <p:sp>
          <p:nvSpPr>
            <p:cNvPr id="128" name=""/>
            <p:cNvSpPr/>
            <p:nvPr/>
          </p:nvSpPr>
          <p:spPr>
            <a:xfrm>
              <a:off x="8001000" y="3276720"/>
              <a:ext cx="68580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72.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467480" y="3276720"/>
              <a:ext cx="5335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1.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924600" y="3276720"/>
              <a:ext cx="54288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7.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333840" y="3276720"/>
              <a:ext cx="5907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74.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5748120" y="3276720"/>
              <a:ext cx="5857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81.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159160" y="3276720"/>
              <a:ext cx="5889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82.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4572000" y="3276720"/>
              <a:ext cx="5871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82.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84480" y="3276720"/>
              <a:ext cx="5875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81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395520" y="3276720"/>
              <a:ext cx="5889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77.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2809800" y="3276720"/>
              <a:ext cx="5857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71.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219040" y="3276720"/>
              <a:ext cx="5907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6.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633320" y="3276720"/>
              <a:ext cx="5857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1.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066680" y="3276720"/>
              <a:ext cx="56664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59.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57200" y="3276720"/>
              <a:ext cx="60948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°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8001000" y="2895480"/>
              <a:ext cx="68580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2.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467480" y="2895480"/>
              <a:ext cx="5335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16.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924600" y="2895480"/>
              <a:ext cx="54288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19.7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333840" y="2895480"/>
              <a:ext cx="5907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3.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748120" y="2895480"/>
              <a:ext cx="5857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7.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159160" y="2895480"/>
              <a:ext cx="5889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8.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572000" y="2895480"/>
              <a:ext cx="5871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8.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984480" y="2895480"/>
              <a:ext cx="5875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7.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395520" y="2895480"/>
              <a:ext cx="5889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5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809800" y="2895480"/>
              <a:ext cx="5857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1.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219040" y="2895480"/>
              <a:ext cx="5907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19.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633320" y="2895480"/>
              <a:ext cx="5857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16.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066680" y="2895480"/>
              <a:ext cx="56664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15.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57200" y="2895480"/>
              <a:ext cx="60948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°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001000" y="2514600"/>
              <a:ext cx="68580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Ye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7467480" y="2514600"/>
              <a:ext cx="5335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Dec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924600" y="2514600"/>
              <a:ext cx="54288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Nov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6333840" y="2514600"/>
              <a:ext cx="5907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Oct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748120" y="2514600"/>
              <a:ext cx="5857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Se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159160" y="2514600"/>
              <a:ext cx="5889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Aug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572000" y="2514600"/>
              <a:ext cx="5871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Jul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984480" y="2514600"/>
              <a:ext cx="5875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Jun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395520" y="2514600"/>
              <a:ext cx="5889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Ma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2809800" y="2514600"/>
              <a:ext cx="5857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Apr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219040" y="2514600"/>
              <a:ext cx="5907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Mar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633320" y="2514600"/>
              <a:ext cx="5857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Feb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1066680" y="2514600"/>
              <a:ext cx="56664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Jan.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457200" y="2514600"/>
              <a:ext cx="60948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57200" y="2514600"/>
              <a:ext cx="8229600" cy="0"/>
            </a:xfrm>
            <a:prstGeom prst="line">
              <a:avLst/>
            </a:prstGeom>
            <a:ln cap="sq" w="2844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57200" y="2895480"/>
              <a:ext cx="8229600" cy="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57200" y="3276720"/>
              <a:ext cx="8229600" cy="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57200" y="3643200"/>
              <a:ext cx="8229600" cy="0"/>
            </a:xfrm>
            <a:prstGeom prst="line">
              <a:avLst/>
            </a:prstGeom>
            <a:ln cap="sq" w="2844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457200" y="2514600"/>
              <a:ext cx="0" cy="1128600"/>
            </a:xfrm>
            <a:prstGeom prst="line">
              <a:avLst/>
            </a:prstGeom>
            <a:ln cap="sq" w="2844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06668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63332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21904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80980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39552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8448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457200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15916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74812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33384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92460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46748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800100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686800" y="2514600"/>
              <a:ext cx="0" cy="1128600"/>
            </a:xfrm>
            <a:prstGeom prst="line">
              <a:avLst/>
            </a:prstGeom>
            <a:ln cap="sq" w="2844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Graphing Average Temperatur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2895480" y="4952520"/>
            <a:ext cx="55627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abel the x-axis (horizontal) with the months (Jan.-Dec.) and include a space for the yearly average temperature at the end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57200" y="1447560"/>
            <a:ext cx="22860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abel the y-axis (vertical) with the average temperature levels in degrees Fahrenheit.  This example uses intervals of 20 degrees between markings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92" name="Temp" descr=""/>
          <p:cNvPicPr/>
          <p:nvPr/>
        </p:nvPicPr>
        <p:blipFill>
          <a:blip r:embed="rId2"/>
          <a:stretch/>
        </p:blipFill>
        <p:spPr>
          <a:xfrm>
            <a:off x="3276720" y="1752480"/>
            <a:ext cx="4857480" cy="2705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bebeb"/>
                </a:solidFill>
                <a:latin typeface="Times New Roman"/>
              </a:rPr>
              <a:t>Graphing Average Temperature</a:t>
            </a:r>
            <a:endParaRPr b="0" lang="en-US" sz="4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880" y="1152360"/>
            <a:ext cx="3353040" cy="547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lnSpc>
                <a:spcPct val="90000"/>
              </a:lnSpc>
              <a:spcBef>
                <a:spcPts val="125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Next, plot the average temperature for January by placing a dot over January at the average temperature for that month.  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282600" indent="-282600">
              <a:lnSpc>
                <a:spcPct val="90000"/>
              </a:lnSpc>
              <a:spcBef>
                <a:spcPts val="125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For our example, the January average temper-ature was 59.9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°F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, so we placed a dot over January at the 59.9 level on the y-axis of the graph.  Graphing the remaining temperature data in the same way for each month and for the year.  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282600" indent="-282600">
              <a:lnSpc>
                <a:spcPct val="90000"/>
              </a:lnSpc>
              <a:spcBef>
                <a:spcPts val="125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Remember to always label your x and y axis when drawing a graph and add a title for  the whole graph.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282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14800" y="1981080"/>
            <a:ext cx="4495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bebeb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Finally, connect the dots!  Draw a line from the dot for January and continue through the dot for December.  </a:t>
            </a:r>
            <a:r>
              <a:rPr b="0" lang="en-US" sz="2000" spc="-1" strike="noStrike" u="sng">
                <a:solidFill>
                  <a:srgbClr val="ebebeb"/>
                </a:solidFill>
                <a:uFillTx/>
                <a:latin typeface="Times New Roman"/>
              </a:rPr>
              <a:t>Do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000" spc="-1" strike="noStrike" u="sng">
                <a:solidFill>
                  <a:srgbClr val="ebebeb"/>
                </a:solidFill>
                <a:uFillTx/>
                <a:latin typeface="Times New Roman"/>
              </a:rPr>
              <a:t>not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 connect the dot for the yearly average.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96" name="Temp" descr=""/>
          <p:cNvPicPr/>
          <p:nvPr/>
        </p:nvPicPr>
        <p:blipFill>
          <a:blip r:embed="rId2"/>
          <a:stretch/>
        </p:blipFill>
        <p:spPr>
          <a:xfrm>
            <a:off x="3828960" y="1371600"/>
            <a:ext cx="4857840" cy="2705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480" y="137160"/>
            <a:ext cx="7772400" cy="71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mograph</a:t>
            </a:r>
            <a:br>
              <a:rPr sz="4400"/>
            </a:br>
            <a:br>
              <a:rPr sz="800"/>
            </a:br>
            <a:br>
              <a:rPr sz="8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 climograph includes both the average precipitation and the average temperature data.  When you combine the two previous graphs, your climograph should look like this one</a:t>
            </a:r>
            <a:br>
              <a:rPr sz="2400"/>
            </a:br>
            <a:br>
              <a:rPr sz="12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800"/>
            </a:br>
            <a:br>
              <a:rPr sz="20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2000"/>
            </a:br>
            <a:br>
              <a:rPr sz="20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Be sure to include a title for your graph and a key showing the symbols that represent the average precipitation and the average temperature.</a:t>
            </a:r>
            <a:br>
              <a:rPr sz="2400"/>
            </a:br>
            <a:br>
              <a:rPr sz="2000"/>
            </a:b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98" name="Clim" descr=""/>
          <p:cNvPicPr/>
          <p:nvPr/>
        </p:nvPicPr>
        <p:blipFill>
          <a:blip r:embed="rId2"/>
          <a:stretch/>
        </p:blipFill>
        <p:spPr>
          <a:xfrm>
            <a:off x="1981080" y="2590920"/>
            <a:ext cx="4857840" cy="26953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25T15:38:51Z</dcterms:created>
  <dc:creator>Charles C. Farnsworth, Ph.D. - Instructional Design</dc:creator>
  <dc:description/>
  <dc:language>en-US</dc:language>
  <cp:lastModifiedBy>ljlab</cp:lastModifiedBy>
  <cp:lastPrinted>2002-05-15T14:22:53Z</cp:lastPrinted>
  <dcterms:modified xsi:type="dcterms:W3CDTF">2003-09-11T17:22:57Z</dcterms:modified>
  <cp:revision>69</cp:revision>
  <dc:subject/>
  <dc:title>Climograph</dc:title>
</cp:coreProperties>
</file>