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5737B-F98D-4322-8803-8C78826AA1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7200-8803-4AE6-A745-D4C4B63D9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877D-FF71-46A9-9A35-42FE791BE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119E-6DBF-4AF5-B539-68ADC664B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2F5E-0646-4FC5-B685-0490BC373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4436-AC5C-467E-B883-EA462C886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60E9-96EE-4719-A6C7-B7257C8A7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B1F5-E6EB-4EC4-8D70-CC76F151C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0F95-29FF-4566-9B3A-02274D06B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4ACD-2C06-492F-86DA-A54548883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97F1-80E7-486C-AE01-00DFE85BC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F898-CA5B-41D5-B88A-0A247C13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CBC0-2E43-4CFA-BE04-A22614EC0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FE50F-4FF3-4E2E-ACB7-6537599E37C3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1016" t="1031" r="254" b="262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ljlab</cp:lastModifiedBy>
  <dcterms:modified xsi:type="dcterms:W3CDTF">2003-01-16T18:50:08Z</dcterms:modified>
  <cp:revision>28</cp:revision>
  <dc:subject/>
  <dc:title>Descriptive Writing</dc:title>
</cp:coreProperties>
</file>