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EF3A-52DA-4C1D-AFB7-0F3036C29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3F5D-E5D0-4095-A4EE-586081A5C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20E2-FB90-4548-9300-4A8841389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B33A-2158-440B-8083-F67C5CE76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43F6-3687-49FE-836C-CEB446D9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4DA8-7674-49E6-BEE7-9E90D9C4D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8635-8051-4551-967B-117C30859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DC33-C819-4587-9E72-1561503CA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E6F2-23AA-44C2-BB64-CD384F94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EE93-F7BC-4804-BE69-1E93D36F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689A-D913-4162-A0E3-847F655C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3305-47D2-4332-BE2D-F0ECA25C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EDA64-BE6F-4486-9FF2-2BEFA706DD8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b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240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and general malaise.  May include insomnia, anxiety, confusion, slight or partial paralysis, excitation, hallucinations, agitation, hypersalivation, difficulty swallowing, and hydropho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50292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liva of infecte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6:00Z</dcterms:modified>
  <cp:revision>46</cp:revision>
  <dc:subject/>
  <dc:title>Hazards</dc:title>
</cp:coreProperties>
</file>