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D4C36-F130-4F26-8192-AD5EFDF11F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, explain to the class what “audience” is or ask them to tell you. Who are some different audiences? How will the interview or conversation differ with different audien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 (B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effective volume, rate, tone, and pit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o the class what “yes” and “no” questions are. Ask them how to ask open-ended questions that require time and thought. You may want to have them think of a few questions to start.  Examples: What do you think about……. or, If you had this to do over again…  Show the class how to ask questions that will make the interview interes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0E7C-E5E5-4419-8BB7-78868EA52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A3F3-F759-4BCF-8731-3CAC0281C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1D31-FA98-4579-A75F-3181CBF40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D5B3-22C8-4AB2-9D64-9574047EA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3457-C8B1-4CB0-9751-D27E4FF2E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6F8F-A6DD-49BD-B6A8-91B09232B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1884-72B1-4443-89E5-EF6719CC4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AC2C-85C7-4733-B92E-0D3123ABA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0A66-84AC-4E5D-BE6E-4907E365F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5AA0-30A3-479D-AA01-D1DDBC70C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8D7C-112D-4ED6-B462-129AC7EE5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1ECE-3BCB-4CE6-92C3-CAFBA11E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99ED2-1D06-426E-AF88-9E0DA0790168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 Is An Interview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4952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is an encounter between a person collecting information (the interviewer) and a person from whom information is needed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allows you to collect specific information as you research a top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get the most from the interview, be prepared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Intrview" descr=""/>
          <p:cNvPicPr/>
          <p:nvPr/>
        </p:nvPicPr>
        <p:blipFill>
          <a:blip r:embed="rId2"/>
          <a:stretch/>
        </p:blipFill>
        <p:spPr>
          <a:xfrm>
            <a:off x="5867280" y="2057400"/>
            <a:ext cx="2697120" cy="30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Before You Go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now your audience so you can dress and speak appropriately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swer some pre-interview question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 will you interview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does this person like or dislike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w will you speak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are your expectation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09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lan Your Interview Using the 5W’s and 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2461680"/>
            <a:ext cx="38098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at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en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re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n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y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o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How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Intrview2" descr=""/>
          <p:cNvPicPr/>
          <p:nvPr/>
        </p:nvPicPr>
        <p:blipFill>
          <a:blip r:embed="rId2"/>
          <a:stretch/>
        </p:blipFill>
        <p:spPr>
          <a:xfrm>
            <a:off x="4724280" y="2233440"/>
            <a:ext cx="3864240" cy="3864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 Closed Questions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8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osed questions” are questions that can be answered with one word – usually “yes” or ”no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Leave your “yes” and “no” questions at home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g deep and ask “opinion questions” to give detail to your report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’re Ready to Go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81200" y="171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w that you are on your way, don’t forget…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n, pencil, notepa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written list of prepared question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nners, courteous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cebreakers (conversation starters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28:21Z</dcterms:created>
  <dc:creator>Gina Balducci</dc:creator>
  <dc:description/>
  <dc:language>en-US</dc:language>
  <cp:lastModifiedBy>vhardy</cp:lastModifiedBy>
  <dcterms:modified xsi:type="dcterms:W3CDTF">2002-12-19T22:49:20Z</dcterms:modified>
  <cp:revision>23</cp:revision>
  <dc:subject/>
  <dc:title>What Do I Say?</dc:title>
</cp:coreProperties>
</file>